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8B56-41B4-460E-A588-9123DEE45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7722-ED56-4FB5-AD0D-8CB70BB6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1E1A-58C7-458C-BB8A-0C71BF664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8F23-4367-4737-945B-F917B5F6C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9D45-8335-40F6-AFE2-3A7380680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AFC6-99CF-4FF0-894D-70A4C2B1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5BFA-E4D1-4BD3-BD09-2CD0839A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D773-74A1-48ED-9D2E-DEB87422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C4308-19F2-4EAD-902F-6FC53A80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8F8C2-061E-45AC-A767-F8F961DB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8D6D-6BD4-4A33-A636-060E6EAD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95C2-4CC6-4728-8C1B-1E3054AD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5B8A-8A65-45A5-9DE0-5E0CAFB0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01FF-F544-475F-81A4-A5EBE73C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EB3F-793D-4E41-A428-95A9FEA7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0F05-E708-4613-AB4D-82814CA8E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5B71-C5A2-4C83-B003-F92A6206F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9E59-6954-4E3C-ACAF-87D93DAC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757D-0ACC-49B5-B19F-A271D8C2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510A-8F1B-49E4-ADA7-0B93D23E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43A6-016F-41D4-9AF4-86F94E8F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E6C3-6B9E-4714-BE4E-9C02A5DD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5EA9-EBED-41EE-9F19-A098AEF4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44D4-6037-4825-93B6-A3B7DDFA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8017-9C0F-4219-95F2-46D1832E691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FD73-8190-4416-BDC2-179DDA9D8F3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600200" y="838080"/>
            <a:ext cx="706284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444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.P.I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US série synchrone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à grande vitess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"/>
          <p:cNvSpPr/>
          <p:nvPr/>
        </p:nvSpPr>
        <p:spPr>
          <a:xfrm>
            <a:off x="3423600" y="5610240"/>
            <a:ext cx="273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Dom Casual"/>
              </a:rPr>
              <a:t>Cliquez ici pour avan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Dom Casual"/>
              </a:rPr>
              <a:t>Ici pour recu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6400800" y="52578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6400800" y="6019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715000" y="556236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05520" y="6172200"/>
            <a:ext cx="11430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28800" y="64008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cc"/>
                </a:solidFill>
                <a:latin typeface="Bazooka"/>
              </a:rPr>
              <a:t>Ch.Dupaty 11/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00200" y="457200"/>
            <a:ext cx="2824200" cy="1844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38BE-10A9-4A5D-83AB-E536346F0A8A}" type="slidenum">
              <a:t>1</a:t>
            </a:fld>
          </a:p>
        </p:txBody>
      </p:sp>
    </p:spTree>
  </p:cSld>
  <p:transition spd="med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371600" y="2057400"/>
            <a:ext cx="3048120" cy="40384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988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76520" y="49528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8108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90920" y="49528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9548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20040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05320" y="49528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09680" y="3733920"/>
            <a:ext cx="1143000" cy="761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orlo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91320" y="2057400"/>
            <a:ext cx="3047760" cy="40384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22960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9588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40080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05720" y="4952880"/>
            <a:ext cx="304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01028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31520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0120" y="4952880"/>
            <a:ext cx="304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92468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352680" y="41148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32448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6252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4114440" y="51055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1523880" y="5105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523880" y="5105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523880" y="579132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686800" y="5105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8534160" y="5105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28800" y="5299200"/>
            <a:ext cx="67140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$1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011720" y="5257800"/>
            <a:ext cx="67140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$E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934320" y="3733920"/>
            <a:ext cx="11430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orlo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23140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116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676520" y="49528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029200" y="4038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87692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029200" y="380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05320" y="4075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404600" y="50655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I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04600" y="57513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135880" y="2209680"/>
            <a:ext cx="134820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AI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632640" y="2209680"/>
            <a:ext cx="154944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S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E502-9FC6-4B14-BB48-293DA7F79500}" type="slidenum">
              <a:t>10</a:t>
            </a:fld>
          </a:p>
        </p:txBody>
      </p:sp>
    </p:spTree>
  </p:cSld>
  <p:transition spd="med" advTm="1000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371600" y="2057400"/>
            <a:ext cx="3048120" cy="40384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05320" y="49528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988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676520" y="49528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98108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8600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90920" y="49528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89548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0040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09680" y="3733920"/>
            <a:ext cx="1143000" cy="761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orlo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91320" y="2057400"/>
            <a:ext cx="3047760" cy="40384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92468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22960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9588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40080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705720" y="4952880"/>
            <a:ext cx="304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01028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31520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620120" y="4952880"/>
            <a:ext cx="304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352680" y="41148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32448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96252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114440" y="51055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1523880" y="5105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23880" y="5105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523880" y="579132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686800" y="5105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8534160" y="5105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728800" y="5299200"/>
            <a:ext cx="67140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$1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011720" y="5257800"/>
            <a:ext cx="67140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$E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934320" y="3733920"/>
            <a:ext cx="11430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orlo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9264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5071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80988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724280" y="4038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87692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4876920" y="380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910400" y="455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970520" y="5316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405320" y="4075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404600" y="50655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I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404600" y="57513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35880" y="2209680"/>
            <a:ext cx="134820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AI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632640" y="2209680"/>
            <a:ext cx="154944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S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736520" y="243828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ubular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rot="10800000">
            <a:off x="2057040" y="4647960"/>
            <a:ext cx="1523880" cy="22860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rot="10800000">
            <a:off x="6705360" y="4647960"/>
            <a:ext cx="1523880" cy="22860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93DB-B7AE-4B6E-A782-4BE1FFA92BA8}" type="slidenum">
              <a:t>11</a:t>
            </a:fld>
          </a:p>
        </p:txBody>
      </p:sp>
    </p:spTree>
  </p:cSld>
  <p:transition spd="med" advTm="1000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371600" y="2057400"/>
            <a:ext cx="3048120" cy="40384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505320" y="49528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80988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76520" y="49528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98108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28600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590920" y="49528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9548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20040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09680" y="3733920"/>
            <a:ext cx="1143000" cy="761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orlo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791320" y="2057400"/>
            <a:ext cx="3047760" cy="40384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92468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22960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09588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40080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705720" y="4952880"/>
            <a:ext cx="304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01028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31520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620120" y="4952880"/>
            <a:ext cx="304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352680" y="41148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32448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6252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4114440" y="51055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1523880" y="5105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523880" y="5105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523880" y="579132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686800" y="5105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8534160" y="5105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729520" y="5299200"/>
            <a:ext cx="70488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$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12800" y="5257800"/>
            <a:ext cx="75528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$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934320" y="3733920"/>
            <a:ext cx="11430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orlo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9264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071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0988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908600" y="455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23140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029200" y="4038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87692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5029200" y="380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05320" y="4075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404600" y="50655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I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404600" y="57513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135880" y="2209680"/>
            <a:ext cx="134820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AI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632640" y="2209680"/>
            <a:ext cx="154944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S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BE24-B0B3-4813-9CA8-FD55E1C912ED}" type="slidenum">
              <a:t>12</a:t>
            </a:fld>
          </a:p>
        </p:txBody>
      </p:sp>
    </p:spTree>
  </p:cSld>
  <p:transition spd="med" advTm="1000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371600" y="2057400"/>
            <a:ext cx="3048120" cy="40384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040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80988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676520" y="49528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98108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8600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49528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89548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209680" y="3733920"/>
            <a:ext cx="1143000" cy="761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orlo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91320" y="2057400"/>
            <a:ext cx="3047760" cy="40384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620120" y="4952880"/>
            <a:ext cx="304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92468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822960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9588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40080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705720" y="4952880"/>
            <a:ext cx="304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01028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31520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352680" y="41148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32448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96252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4114440" y="51055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1523880" y="5105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523880" y="5105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523880" y="579132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686800" y="5105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8534160" y="5105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729520" y="5299200"/>
            <a:ext cx="70488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$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012800" y="5257800"/>
            <a:ext cx="75528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$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934320" y="3733920"/>
            <a:ext cx="11430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orlo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9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20220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505320" y="49528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878720" y="457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9264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724280" y="4038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87692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4876920" y="380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838760" y="529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405320" y="4075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404600" y="50655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I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404600" y="57513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5880" y="2209680"/>
            <a:ext cx="134820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AI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632640" y="2209680"/>
            <a:ext cx="154944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S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820760" y="259092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ubular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rot="10800000">
            <a:off x="2057040" y="4647960"/>
            <a:ext cx="1523880" cy="22860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rot="10800000">
            <a:off x="6705360" y="4647960"/>
            <a:ext cx="1523880" cy="22860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59BB-4FAB-40D7-9B61-B25210931370}" type="slidenum">
              <a:t>13</a:t>
            </a:fld>
          </a:p>
        </p:txBody>
      </p:sp>
    </p:spTree>
  </p:cSld>
  <p:transition spd="med" advTm="1000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371600" y="2057400"/>
            <a:ext cx="3048120" cy="40384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20040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80988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676520" y="49528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98108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28600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590920" y="49528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89548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209680" y="3733920"/>
            <a:ext cx="1143000" cy="761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orlo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791320" y="2057400"/>
            <a:ext cx="3047760" cy="40384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20120" y="4952880"/>
            <a:ext cx="304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92468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2960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9588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40080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705720" y="4952880"/>
            <a:ext cx="304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01028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31520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352680" y="41148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32448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96252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4114440" y="51055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1523880" y="5105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523880" y="5105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523880" y="579132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686800" y="5105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8534160" y="5105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729160" y="5299200"/>
            <a:ext cx="68832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$7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012080" y="5257800"/>
            <a:ext cx="63792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$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934320" y="3733920"/>
            <a:ext cx="11430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orlo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6219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20220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49528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8116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9264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23140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029200" y="4038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87692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5029200" y="380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405320" y="4075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404600" y="50655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I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404600" y="57513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135880" y="2209680"/>
            <a:ext cx="134820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AI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632640" y="2209680"/>
            <a:ext cx="154944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S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F406-893B-4B40-9911-EDCF4E715A97}" type="slidenum">
              <a:t>14</a:t>
            </a:fld>
          </a:p>
        </p:txBody>
      </p:sp>
    </p:spTree>
  </p:cSld>
  <p:transition spd="med" advTm="1000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371600" y="2057400"/>
            <a:ext cx="3048120" cy="40384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89548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505320" y="49528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80988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676520" y="49528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98108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8600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590920" y="49528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209680" y="3733920"/>
            <a:ext cx="1143000" cy="761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orlo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791320" y="2057400"/>
            <a:ext cx="3047760" cy="40384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31520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620120" y="4952880"/>
            <a:ext cx="304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92468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22960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09588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40080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705720" y="4952880"/>
            <a:ext cx="304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01028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352680" y="41148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32448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4114440" y="51055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1523880" y="5105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523880" y="5105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523880" y="579132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686800" y="5105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8534160" y="5105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729160" y="5299200"/>
            <a:ext cx="68832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$7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012080" y="5257800"/>
            <a:ext cx="63792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$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934320" y="3733920"/>
            <a:ext cx="11430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orlo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31700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8972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20040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5071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6219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9264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724280" y="4038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87692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4876920" y="380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878720" y="533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87872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405320" y="4075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404600" y="50655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I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404600" y="57513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135880" y="2209680"/>
            <a:ext cx="134820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AI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632640" y="2209680"/>
            <a:ext cx="154944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S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835160" y="259092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ubular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rot="10800000">
            <a:off x="2057040" y="4647960"/>
            <a:ext cx="1523880" cy="22860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rot="10800000">
            <a:off x="6705360" y="4647960"/>
            <a:ext cx="1523880" cy="22860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5E71-8EE0-418D-87AF-4B6EA8D1A157}" type="slidenum">
              <a:t>15</a:t>
            </a:fld>
          </a:p>
        </p:txBody>
      </p:sp>
    </p:spTree>
  </p:cSld>
  <p:transition spd="med" advTm="1000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371600" y="2057400"/>
            <a:ext cx="3048120" cy="40384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89548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505320" y="49528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80988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676520" y="49528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98108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28600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590920" y="49528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209680" y="3733920"/>
            <a:ext cx="1143000" cy="761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orlo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791320" y="2057400"/>
            <a:ext cx="3047760" cy="40384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31520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620120" y="4952880"/>
            <a:ext cx="304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92468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22960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09588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0080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705720" y="4952880"/>
            <a:ext cx="304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01028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352680" y="41148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32448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6252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4114440" y="51055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1523880" y="5105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523880" y="5105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523880" y="579132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686800" y="5105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8534160" y="5105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729160" y="5299200"/>
            <a:ext cx="65484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$F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012080" y="5257800"/>
            <a:ext cx="63792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$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934320" y="3733920"/>
            <a:ext cx="11430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orlo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31700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8972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20040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5071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6219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9264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823140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8116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029200" y="4038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87692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5029200" y="380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405320" y="4075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404600" y="50655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I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404600" y="57513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135880" y="2209680"/>
            <a:ext cx="134820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AI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632640" y="2209680"/>
            <a:ext cx="154944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S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A2C8-059A-4D96-9CBD-6BDE6C31FBD0}" type="slidenum">
              <a:t>16</a:t>
            </a:fld>
          </a:p>
        </p:txBody>
      </p:sp>
    </p:spTree>
  </p:cSld>
  <p:transition spd="med" advTm="1000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371600" y="2057400"/>
            <a:ext cx="3048120" cy="40384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90920" y="49528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20040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505320" y="49528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80988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676520" y="49528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8108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28600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209680" y="3733920"/>
            <a:ext cx="1143000" cy="761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orlo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791320" y="2057400"/>
            <a:ext cx="3047760" cy="40384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01028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31520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620120" y="4952880"/>
            <a:ext cx="304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92468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822960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9588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40080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705720" y="4952880"/>
            <a:ext cx="304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352680" y="41148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32448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96252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114440" y="51055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1523880" y="5105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523880" y="5105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523880" y="579132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686800" y="5105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8534160" y="5105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729160" y="5299200"/>
            <a:ext cx="65484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$F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012080" y="5257800"/>
            <a:ext cx="63792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$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934320" y="3733920"/>
            <a:ext cx="11430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orlo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0120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5927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89548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20220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31700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6219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9264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5071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724280" y="4038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87692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4876920" y="380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005440" y="5280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042160" y="453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405320" y="4075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404600" y="50655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I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404600" y="57513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135880" y="2209680"/>
            <a:ext cx="134820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AI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632640" y="2209680"/>
            <a:ext cx="154944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S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816080" y="259092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ubular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rot="10800000">
            <a:off x="2057040" y="4647960"/>
            <a:ext cx="1523880" cy="22860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rot="10800000">
            <a:off x="6705360" y="4647960"/>
            <a:ext cx="1523880" cy="22860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598E-A848-42F1-81EA-2FBF5FD5225F}" type="slidenum">
              <a:t>17</a:t>
            </a:fld>
          </a:p>
        </p:txBody>
      </p:sp>
    </p:spTree>
  </p:cSld>
  <p:transition spd="med" advTm="1000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371600" y="2057400"/>
            <a:ext cx="3048120" cy="40384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590920" y="49528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20040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505320" y="49528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80988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676520" y="49528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98108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28600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209680" y="3733920"/>
            <a:ext cx="1143000" cy="761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orlo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791320" y="2057400"/>
            <a:ext cx="3047760" cy="40384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01028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31520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620120" y="4952880"/>
            <a:ext cx="304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92468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822960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09588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40080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705720" y="4952880"/>
            <a:ext cx="304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352680" y="41148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32448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96252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4114440" y="51055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1523880" y="5105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523880" y="5105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523880" y="579132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8686800" y="5105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8534160" y="5105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728800" y="5299200"/>
            <a:ext cx="70488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$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012080" y="5257800"/>
            <a:ext cx="63792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$5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934320" y="3733920"/>
            <a:ext cx="11430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orlo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0120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5927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89548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20220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31700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6219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9264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5071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823140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8116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029200" y="4038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87692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029200" y="380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rot="10800000">
            <a:off x="2057040" y="4647960"/>
            <a:ext cx="1523880" cy="22860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rot="10800000">
            <a:off x="6705360" y="4647960"/>
            <a:ext cx="1523880" cy="22860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405320" y="4075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404600" y="50655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I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404600" y="57513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135880" y="2209680"/>
            <a:ext cx="134820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AI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632640" y="2209680"/>
            <a:ext cx="154944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S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1977-F8B9-434C-835C-39CD42A4EF2A}" type="slidenum">
              <a:t>18</a:t>
            </a:fld>
          </a:p>
        </p:txBody>
      </p:sp>
    </p:spTree>
  </p:cSld>
  <p:transition spd="med" advTm="1000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371600" y="2057400"/>
            <a:ext cx="3048120" cy="40384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28600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89548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20040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505320" y="49528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80988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676520" y="49528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98108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209680" y="3733920"/>
            <a:ext cx="1143000" cy="761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orlo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791320" y="2057400"/>
            <a:ext cx="3047760" cy="40384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705720" y="4952880"/>
            <a:ext cx="304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01028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31520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620120" y="4952880"/>
            <a:ext cx="304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92468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822960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09588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40080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352680" y="41148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32448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96252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4114440" y="51055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1523880" y="5105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523880" y="5105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523880" y="579132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8686800" y="5105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8534160" y="5105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728800" y="5299200"/>
            <a:ext cx="70488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$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012080" y="5257800"/>
            <a:ext cx="63792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$5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934320" y="3733920"/>
            <a:ext cx="11430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orlo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7075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28780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590920" y="49528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8972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0120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31700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6219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20220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9264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5071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724280" y="4038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87692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4876920" y="380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851720" y="541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875480" y="462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405320" y="4075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404600" y="50655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I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404600" y="57513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135880" y="2209680"/>
            <a:ext cx="134820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AI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632640" y="2209680"/>
            <a:ext cx="154944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S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814280" y="259092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ubular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rot="10800000">
            <a:off x="2057040" y="4647960"/>
            <a:ext cx="1523880" cy="22860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rot="10800000">
            <a:off x="6705360" y="4647960"/>
            <a:ext cx="1523880" cy="22860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5902-697B-408E-AE71-09F1E57877BA}" type="slidenum">
              <a:t>19</a:t>
            </a:fld>
          </a:p>
        </p:txBody>
      </p:sp>
    </p:spTree>
  </p:cSld>
  <p:transition spd="med" advTm="1000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es BUS S.P.I : Architechtu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8077320" y="228240"/>
            <a:ext cx="761760" cy="991080"/>
            <a:chOff x="8077320" y="228240"/>
            <a:chExt cx="761760" cy="991080"/>
          </a:xfrm>
        </p:grpSpPr>
        <p:sp>
          <p:nvSpPr>
            <p:cNvPr id="137" name=""/>
            <p:cNvSpPr/>
            <p:nvPr/>
          </p:nvSpPr>
          <p:spPr>
            <a:xfrm>
              <a:off x="8381880" y="4572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58200" y="457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58200" y="6858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58200" y="914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8457840" y="762120"/>
              <a:ext cx="38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58200" y="990720"/>
              <a:ext cx="38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839080" y="762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58200" y="533520"/>
              <a:ext cx="38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8839080" y="2282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8077320" y="10666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1447920" y="2819520"/>
            <a:ext cx="1904760" cy="3733560"/>
          </a:xfrm>
          <a:prstGeom prst="rect">
            <a:avLst/>
          </a:prstGeom>
          <a:solidFill>
            <a:srgbClr val="0099cc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553080" y="1371600"/>
            <a:ext cx="1295640" cy="16002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553080" y="3124080"/>
            <a:ext cx="1295640" cy="16002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553080" y="4876920"/>
            <a:ext cx="1295640" cy="16002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63244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52680" y="60958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562720" y="42670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4267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352680" y="58672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181480" y="251424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81480" y="2514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5638680"/>
            <a:ext cx="320040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52680" y="5334120"/>
            <a:ext cx="320040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352680" y="5029200"/>
            <a:ext cx="3200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886200" y="1676160"/>
            <a:ext cx="0" cy="3352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86200" y="1676520"/>
            <a:ext cx="2666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4191120" y="1981080"/>
            <a:ext cx="0" cy="335304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91120" y="1981080"/>
            <a:ext cx="236196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572000" y="2209320"/>
            <a:ext cx="0" cy="34290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2209680"/>
            <a:ext cx="198108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86200" y="3352680"/>
            <a:ext cx="2666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91120" y="3657600"/>
            <a:ext cx="236196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3962520"/>
            <a:ext cx="198108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52480" y="31240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aître (u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19520" y="4876920"/>
            <a:ext cx="609480" cy="16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I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L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53080" y="1523880"/>
            <a:ext cx="60984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I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L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29400" y="3276720"/>
            <a:ext cx="6094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I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L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29400" y="4952880"/>
            <a:ext cx="6094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I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L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6095880" y="5943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5880" y="5943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723000" y="2735280"/>
            <a:ext cx="89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0000"/>
                </a:solidFill>
                <a:latin typeface="Times New Roman"/>
              </a:rPr>
              <a:t>EEP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86600" y="44197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0000"/>
                </a:solidFill>
                <a:latin typeface="Times New Roman"/>
              </a:rPr>
              <a:t>R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553080" y="6019920"/>
            <a:ext cx="1501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0000"/>
                </a:solidFill>
                <a:latin typeface="Times New Roman"/>
              </a:rPr>
              <a:t>Afficheur cristaux liqu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nextslide"/>
          </p:cNvPr>
          <p:cNvSpPr/>
          <p:nvPr/>
        </p:nvSpPr>
        <p:spPr>
          <a:xfrm>
            <a:off x="8381880" y="42670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8381880" y="5029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9100-85B7-4104-B1D4-5FBC34B923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371600" y="2057400"/>
            <a:ext cx="3048120" cy="40384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28600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89548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20040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505320" y="49528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80988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676520" y="49528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98108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209680" y="3733920"/>
            <a:ext cx="1143000" cy="761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orlo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791320" y="2057400"/>
            <a:ext cx="3047760" cy="40384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705720" y="4952880"/>
            <a:ext cx="304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01028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31520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7620120" y="4952880"/>
            <a:ext cx="304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92468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822960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09588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40080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352680" y="41148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32448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96252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4114440" y="51055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1523880" y="5105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523880" y="5105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523880" y="579132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8686800" y="5105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8534160" y="5105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729880" y="5299200"/>
            <a:ext cx="75528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$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7012440" y="5257800"/>
            <a:ext cx="70488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$A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934320" y="3733920"/>
            <a:ext cx="11430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orlo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7075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28780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590920" y="49528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8972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0120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31700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6219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20220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9264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5071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823140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8116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029200" y="4038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87692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5029200" y="380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405320" y="4075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404600" y="50655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I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404600" y="57513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135880" y="2209680"/>
            <a:ext cx="134820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AI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632640" y="2209680"/>
            <a:ext cx="154944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S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5BDD-3C08-4F83-AC4D-932738EACA86}" type="slidenum">
              <a:t>20</a:t>
            </a:fld>
          </a:p>
        </p:txBody>
      </p:sp>
    </p:spTree>
  </p:cSld>
  <p:transition spd="med" advTm="1000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371600" y="2057400"/>
            <a:ext cx="3048120" cy="40384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98108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590920" y="49528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89548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20040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505320" y="49528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80988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676520" y="49528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209680" y="3733920"/>
            <a:ext cx="1143000" cy="761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orlo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791320" y="2057400"/>
            <a:ext cx="3047760" cy="40384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40080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705720" y="4952880"/>
            <a:ext cx="304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01028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31520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620120" y="4952880"/>
            <a:ext cx="304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92468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822960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09588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352680" y="41148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32448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96252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4114440" y="51055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H="1">
            <a:off x="1523880" y="5105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523880" y="5105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523880" y="579132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8686800" y="5105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8534160" y="5105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729880" y="5299200"/>
            <a:ext cx="75528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$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012440" y="5257800"/>
            <a:ext cx="70488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$A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934320" y="3733920"/>
            <a:ext cx="11430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orlo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640260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9828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28600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5927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7075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0120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31700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8972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6219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20220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9264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5071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724280" y="4038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87692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flipV="1">
            <a:off x="4876920" y="380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815000" y="5351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802400" y="4648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405320" y="4075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404600" y="50655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I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404600" y="57513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135880" y="2209680"/>
            <a:ext cx="134820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AI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632640" y="2209680"/>
            <a:ext cx="154944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S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782960" y="259092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ubular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rot="10800000">
            <a:off x="2057040" y="4647960"/>
            <a:ext cx="1523880" cy="22860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rot="10800000">
            <a:off x="6705360" y="4647960"/>
            <a:ext cx="1523880" cy="22860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1CA0-A2D4-4EFB-9ACC-BDC029F2B983}" type="slidenum">
              <a:t>21</a:t>
            </a:fld>
          </a:p>
        </p:txBody>
      </p:sp>
    </p:spTree>
  </p:cSld>
  <p:transition spd="med" advTm="1000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371600" y="2057400"/>
            <a:ext cx="3048120" cy="40384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98108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590920" y="49528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89548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20040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505320" y="49528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80988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676520" y="49528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209680" y="3733920"/>
            <a:ext cx="1143000" cy="761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orlo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791320" y="2057400"/>
            <a:ext cx="3047760" cy="40384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40080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705720" y="4952880"/>
            <a:ext cx="304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01028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31520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620120" y="4952880"/>
            <a:ext cx="304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92468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22960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09588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352680" y="41148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32448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96252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H="1">
            <a:off x="4114440" y="51055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H="1">
            <a:off x="1523880" y="5105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523880" y="5105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523880" y="579132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8686800" y="5105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8534160" y="5105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729160" y="5299200"/>
            <a:ext cx="68832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$B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012080" y="5257800"/>
            <a:ext cx="63792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$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934320" y="3733920"/>
            <a:ext cx="11430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orlo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40260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9828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28600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5927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7075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0120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31700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8972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6219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20220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9264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5071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823140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8116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029200" y="4038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487692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5029200" y="380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405320" y="4075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404600" y="50655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I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404600" y="57513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135880" y="2209680"/>
            <a:ext cx="134820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AI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632640" y="2209680"/>
            <a:ext cx="154944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S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9E81-A605-4F50-938F-F9D5940E227E}" type="slidenum">
              <a:t>22</a:t>
            </a:fld>
          </a:p>
        </p:txBody>
      </p:sp>
    </p:spTree>
  </p:cSld>
  <p:transition spd="med" advTm="1000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371600" y="2057400"/>
            <a:ext cx="3048120" cy="40384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676520" y="49528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28600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590920" y="49528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89548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20040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505320" y="49528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80988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209680" y="3733920"/>
            <a:ext cx="1143000" cy="761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orlo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791320" y="2057400"/>
            <a:ext cx="3047760" cy="40384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09588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40080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705720" y="4952880"/>
            <a:ext cx="304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01028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731520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620120" y="4952880"/>
            <a:ext cx="304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92468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822960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352680" y="41148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32448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96252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4114440" y="51055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1523880" y="5105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523880" y="5105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523880" y="579132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8686800" y="5105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H="1">
            <a:off x="8534160" y="5105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729160" y="5299200"/>
            <a:ext cx="68832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$B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012080" y="5257800"/>
            <a:ext cx="63792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$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934320" y="3733920"/>
            <a:ext cx="11430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orlo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0976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6783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98108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28780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40260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7075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0120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5927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731700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8972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6219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20220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9264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5071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724280" y="4038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87692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V="1">
            <a:off x="4876920" y="380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923000" y="5316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923000" y="4660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405320" y="4075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404600" y="50655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I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404600" y="57513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135880" y="2209680"/>
            <a:ext cx="134820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AI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632640" y="2209680"/>
            <a:ext cx="154944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S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811400" y="259092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ubular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rot="10800000">
            <a:off x="2057040" y="4647960"/>
            <a:ext cx="1523880" cy="22860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rot="10800000">
            <a:off x="6705360" y="4647960"/>
            <a:ext cx="1523880" cy="22860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B5A3-8C3B-4F5D-BD86-5BA163E06D38}" type="slidenum">
              <a:t>23</a:t>
            </a:fld>
          </a:p>
        </p:txBody>
      </p:sp>
    </p:spTree>
  </p:cSld>
  <p:transition spd="med" advTm="1000"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371600" y="2057400"/>
            <a:ext cx="3048120" cy="40384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676520" y="49528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28600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590920" y="49528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89548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20040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505320" y="49528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80988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209680" y="3733920"/>
            <a:ext cx="1143000" cy="761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orlo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5791320" y="2057400"/>
            <a:ext cx="3047760" cy="40384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09588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40080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705720" y="4952880"/>
            <a:ext cx="304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701028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31520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620120" y="4952880"/>
            <a:ext cx="304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92468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822960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352680" y="41148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32448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96252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4114440" y="51055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H="1">
            <a:off x="1523880" y="5105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523880" y="5105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523880" y="579132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8686800" y="5105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H="1">
            <a:off x="8534160" y="5105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728800" y="5299200"/>
            <a:ext cx="63792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$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012080" y="5257800"/>
            <a:ext cx="65484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$8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934320" y="3733920"/>
            <a:ext cx="11430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orlo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0976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6783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198108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28780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40260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7075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0120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5927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731700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8972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76219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20220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79264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5071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823140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921200" y="4660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029200" y="4038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87692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V="1">
            <a:off x="5029200" y="380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405320" y="4075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404600" y="50655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I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4404600" y="57513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135880" y="2209680"/>
            <a:ext cx="134820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AI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632640" y="2209680"/>
            <a:ext cx="154944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S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>
            <a:hlinkClick r:id="rId1" action="ppaction://hlinksldjump"/>
          </p:cNvPr>
          <p:cNvSpPr/>
          <p:nvPr/>
        </p:nvSpPr>
        <p:spPr>
          <a:xfrm>
            <a:off x="6324480" y="617220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7493"/>
                </a:moveTo>
                <a:lnTo>
                  <a:pt x="8845" y="7493"/>
                </a:lnTo>
                <a:lnTo>
                  <a:pt x="8845" y="12828"/>
                </a:lnTo>
                <a:cubicBezTo>
                  <a:pt x="8845" y="13751"/>
                  <a:pt x="9646" y="14482"/>
                  <a:pt x="10681" y="14482"/>
                </a:cubicBezTo>
                <a:lnTo>
                  <a:pt x="12344" y="14482"/>
                </a:lnTo>
                <a:cubicBezTo>
                  <a:pt x="13380" y="14482"/>
                  <a:pt x="14180" y="13751"/>
                  <a:pt x="14180" y="12828"/>
                </a:cubicBezTo>
                <a:lnTo>
                  <a:pt x="14180" y="7493"/>
                </a:lnTo>
                <a:lnTo>
                  <a:pt x="12344" y="7493"/>
                </a:lnTo>
                <a:lnTo>
                  <a:pt x="15851" y="3985"/>
                </a:lnTo>
                <a:lnTo>
                  <a:pt x="19524" y="7493"/>
                </a:lnTo>
                <a:lnTo>
                  <a:pt x="17688" y="7493"/>
                </a:lnTo>
                <a:lnTo>
                  <a:pt x="17688" y="12828"/>
                </a:lnTo>
                <a:cubicBezTo>
                  <a:pt x="17688" y="15596"/>
                  <a:pt x="15112" y="18155"/>
                  <a:pt x="12344" y="18155"/>
                </a:cubicBezTo>
                <a:lnTo>
                  <a:pt x="10681" y="18155"/>
                </a:lnTo>
                <a:cubicBezTo>
                  <a:pt x="7914" y="18155"/>
                  <a:pt x="5337" y="15596"/>
                  <a:pt x="5337" y="1282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>
            <a:hlinkClick r:id="" action="ppaction://hlinkshowjump?jump=nextslide"/>
          </p:cNvPr>
          <p:cNvSpPr/>
          <p:nvPr/>
        </p:nvSpPr>
        <p:spPr>
          <a:xfrm>
            <a:off x="723888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F76E-97C1-4702-9959-9A5C54FA1815}" type="slidenum">
              <a:t>24</a:t>
            </a:fld>
          </a:p>
        </p:txBody>
      </p:sp>
    </p:spTree>
  </p:cSld>
  <p:transition spd="med"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e BUS S.P.I ..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57" name="" descr=""/>
          <p:cNvPicPr/>
          <p:nvPr/>
        </p:nvPicPr>
        <p:blipFill>
          <a:blip r:embed="rId1"/>
          <a:stretch/>
        </p:blipFill>
        <p:spPr>
          <a:xfrm>
            <a:off x="1173240" y="4738680"/>
            <a:ext cx="1417680" cy="1114560"/>
          </a:xfrm>
          <a:prstGeom prst="rect">
            <a:avLst/>
          </a:prstGeom>
          <a:ln w="0">
            <a:noFill/>
          </a:ln>
        </p:spPr>
      </p:pic>
      <p:sp>
        <p:nvSpPr>
          <p:cNvPr id="1058" name=""/>
          <p:cNvSpPr/>
          <p:nvPr/>
        </p:nvSpPr>
        <p:spPr>
          <a:xfrm>
            <a:off x="1392120" y="1371600"/>
            <a:ext cx="551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Comic Sans MS"/>
              </a:rPr>
              <a:t>Facile à mettre en œuv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2025720" y="2133720"/>
            <a:ext cx="166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6600"/>
                </a:solidFill>
                <a:latin typeface="Comic Sans MS"/>
              </a:rPr>
              <a:t>Rap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178240" y="2057400"/>
            <a:ext cx="21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5050"/>
                </a:solidFill>
                <a:latin typeface="Comic Sans MS"/>
              </a:rPr>
              <a:t>Univers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337200" y="2743200"/>
            <a:ext cx="265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0000"/>
                </a:solidFill>
                <a:latin typeface="Comic Sans MS"/>
              </a:rPr>
              <a:t>Perform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078360" y="3581280"/>
            <a:ext cx="5516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0099"/>
                </a:solidFill>
                <a:latin typeface="Comic Sans MS"/>
              </a:rPr>
              <a:t>Simple à programm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fr-FR" sz="3600" spc="-1" strike="noStrike">
                <a:solidFill>
                  <a:srgbClr val="cc0099"/>
                </a:solidFill>
                <a:latin typeface="Comic Sans MS"/>
              </a:rPr>
              <a:t>sur un micro controleu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0099"/>
                </a:solidFill>
                <a:latin typeface="Comic Sans MS"/>
              </a:rPr>
              <a:t>équipé d ’un por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0099"/>
                </a:solidFill>
                <a:latin typeface="Comic Sans MS"/>
              </a:rPr>
              <a:t>série synchrone S.P.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>
            <a:hlinkClick r:id="" action="ppaction://hlinkshowjump?jump=nextslide"/>
          </p:cNvPr>
          <p:cNvSpPr/>
          <p:nvPr/>
        </p:nvSpPr>
        <p:spPr>
          <a:xfrm>
            <a:off x="8381880" y="28195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>
            <a:hlinkClick r:id="" action="ppaction://hlinkshowjump?jump=previousslide"/>
          </p:cNvPr>
          <p:cNvSpPr/>
          <p:nvPr/>
        </p:nvSpPr>
        <p:spPr>
          <a:xfrm>
            <a:off x="8381880" y="35812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0500-BA64-4D02-AF21-6086EC1AA85C}" type="slidenum">
              <a:t>25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a programmation..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373040" y="1417680"/>
            <a:ext cx="32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1 : Activer le port S.P.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297440" y="1828800"/>
            <a:ext cx="549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2 : Choisir le mode Maitre ou Escl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(en général Maitre sur un u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394640" y="2666880"/>
            <a:ext cx="483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cc"/>
                </a:solidFill>
                <a:latin typeface="Comic Sans MS"/>
              </a:rPr>
              <a:t>3 : Choisir la vitesse de transfe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cc"/>
                </a:solidFill>
                <a:latin typeface="Comic Sans MS"/>
              </a:rPr>
              <a:t>par rapport à celle de l ’Es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455840" y="3429000"/>
            <a:ext cx="479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cc"/>
                </a:solidFill>
                <a:latin typeface="Comic Sans MS"/>
              </a:rPr>
              <a:t>4 : Charger le registre S.P.I ave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cc"/>
                </a:solidFill>
                <a:latin typeface="Comic Sans MS"/>
              </a:rPr>
              <a:t>le contenu de l ’accumul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171160" y="4343400"/>
            <a:ext cx="47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5 : C ’est parti … 40 uS à 200 K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103760" y="487692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0099"/>
                </a:solidFill>
                <a:latin typeface="Comic Sans MS"/>
              </a:rPr>
              <a:t>6 : Attendre le positionnement d ’un drapea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0099"/>
                </a:solidFill>
                <a:latin typeface="Comic Sans MS"/>
              </a:rPr>
              <a:t>de fin de transfert ou l ’activation d ’une interru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000800" y="5638680"/>
            <a:ext cx="679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7 : Charger l ’accumulateur avec le contenu 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registre S.P.I … C ’est t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>
            <a:hlinkClick r:id="" action="ppaction://hlinkshowjump?jump=nextslide"/>
          </p:cNvPr>
          <p:cNvSpPr/>
          <p:nvPr/>
        </p:nvSpPr>
        <p:spPr>
          <a:xfrm>
            <a:off x="8305920" y="32767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>
            <a:hlinkClick r:id="" action="ppaction://hlinkshowjump?jump=previousslide"/>
          </p:cNvPr>
          <p:cNvSpPr/>
          <p:nvPr/>
        </p:nvSpPr>
        <p:spPr>
          <a:xfrm>
            <a:off x="8305920" y="403848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10807"/>
                </a:moveTo>
                <a:lnTo>
                  <a:pt x="17806" y="3801"/>
                </a:lnTo>
                <a:lnTo>
                  <a:pt x="17806" y="17814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5" name="" descr=""/>
          <p:cNvPicPr/>
          <p:nvPr/>
        </p:nvPicPr>
        <p:blipFill>
          <a:blip r:embed="rId1"/>
          <a:stretch/>
        </p:blipFill>
        <p:spPr>
          <a:xfrm>
            <a:off x="6705720" y="1295280"/>
            <a:ext cx="2027160" cy="191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C2A4-6132-41DC-89EC-0419A2D6798C}" type="slidenum">
              <a:t>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"/>
          <p:cNvSpPr txBox="1"/>
          <p:nvPr/>
        </p:nvSpPr>
        <p:spPr>
          <a:xfrm>
            <a:off x="2057400" y="990720"/>
            <a:ext cx="601992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6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Cuckoo"/>
              </a:rPr>
              <a:t>Le mot de la fin :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Cuckoo"/>
              <a:ea typeface="Cucko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Cuckoo"/>
              </a:rPr>
              <a:t>S.P.I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Cuckoo"/>
              <a:ea typeface="Cuckoo"/>
            </a:endParaRPr>
          </a:p>
        </p:txBody>
      </p:sp>
      <p:sp>
        <p:nvSpPr>
          <p:cNvPr id="1077" name="">
            <a:hlinkClick r:id="" action="ppaction://hlinkshowjump?jump=firstslide"/>
          </p:cNvPr>
          <p:cNvSpPr/>
          <p:nvPr/>
        </p:nvSpPr>
        <p:spPr>
          <a:xfrm>
            <a:off x="6324480" y="5943600"/>
            <a:ext cx="838440" cy="914400"/>
          </a:xfrm>
          <a:custGeom>
            <a:avLst/>
            <a:gdLst>
              <a:gd name="textAreaLeft" fmla="*/ 54360 w 838440"/>
              <a:gd name="textAreaRight" fmla="*/ 784080 w 838440"/>
              <a:gd name="textAreaTop" fmla="*/ 54360 h 914400"/>
              <a:gd name="textAreaBottom" fmla="*/ 860040 h 914400"/>
            </a:gdLst>
            <a:ahLst/>
            <a:rect l="textAreaLeft" t="textAreaTop" r="textAreaRight" b="textAreaBottom"/>
            <a:pathLst>
              <a:path w="21600" h="23556">
                <a:moveTo>
                  <a:pt x="0" y="0"/>
                </a:moveTo>
                <a:lnTo>
                  <a:pt x="21600" y="0"/>
                </a:lnTo>
                <a:lnTo>
                  <a:pt x="21600" y="23556"/>
                </a:lnTo>
                <a:lnTo>
                  <a:pt x="0" y="23556"/>
                </a:lnTo>
                <a:close/>
              </a:path>
              <a:path fill="lightenLess" w="21600" h="235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56">
                <a:moveTo>
                  <a:pt x="21600" y="0"/>
                </a:moveTo>
                <a:lnTo>
                  <a:pt x="21600" y="23556"/>
                </a:lnTo>
                <a:lnTo>
                  <a:pt x="20200" y="22156"/>
                </a:lnTo>
                <a:lnTo>
                  <a:pt x="20200" y="1400"/>
                </a:lnTo>
                <a:close/>
              </a:path>
              <a:path fill="darkenLess" w="21600" h="23556">
                <a:moveTo>
                  <a:pt x="21600" y="23556"/>
                </a:moveTo>
                <a:lnTo>
                  <a:pt x="0" y="23556"/>
                </a:lnTo>
                <a:lnTo>
                  <a:pt x="1400" y="22156"/>
                </a:lnTo>
                <a:lnTo>
                  <a:pt x="20200" y="22156"/>
                </a:lnTo>
                <a:close/>
              </a:path>
              <a:path fill="lighten" w="21600" h="23556">
                <a:moveTo>
                  <a:pt x="0" y="235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56"/>
                </a:lnTo>
                <a:close/>
              </a:path>
              <a:path fill="darken" w="21600" h="23556">
                <a:moveTo>
                  <a:pt x="3794" y="8471"/>
                </a:moveTo>
                <a:lnTo>
                  <a:pt x="7301" y="8471"/>
                </a:lnTo>
                <a:lnTo>
                  <a:pt x="7301" y="13806"/>
                </a:lnTo>
                <a:cubicBezTo>
                  <a:pt x="7301" y="14729"/>
                  <a:pt x="8102" y="15460"/>
                  <a:pt x="9138" y="15460"/>
                </a:cubicBezTo>
                <a:lnTo>
                  <a:pt x="10800" y="15460"/>
                </a:lnTo>
                <a:cubicBezTo>
                  <a:pt x="11836" y="15460"/>
                  <a:pt x="12636" y="14729"/>
                  <a:pt x="12636" y="13806"/>
                </a:cubicBezTo>
                <a:lnTo>
                  <a:pt x="12636" y="8471"/>
                </a:lnTo>
                <a:lnTo>
                  <a:pt x="10800" y="8471"/>
                </a:lnTo>
                <a:lnTo>
                  <a:pt x="14308" y="4963"/>
                </a:lnTo>
                <a:lnTo>
                  <a:pt x="17981" y="8471"/>
                </a:lnTo>
                <a:lnTo>
                  <a:pt x="16144" y="8471"/>
                </a:lnTo>
                <a:lnTo>
                  <a:pt x="16144" y="13806"/>
                </a:lnTo>
                <a:cubicBezTo>
                  <a:pt x="16144" y="16574"/>
                  <a:pt x="13568" y="19133"/>
                  <a:pt x="10800" y="19133"/>
                </a:cubicBezTo>
                <a:lnTo>
                  <a:pt x="9138" y="19133"/>
                </a:lnTo>
                <a:cubicBezTo>
                  <a:pt x="6370" y="19133"/>
                  <a:pt x="3794" y="16574"/>
                  <a:pt x="3794" y="13806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7147080" y="48369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400800" y="3809880"/>
            <a:ext cx="2514600" cy="990720"/>
          </a:xfrm>
          <a:prstGeom prst="wedgeRoundRectCallout">
            <a:avLst>
              <a:gd name="adj1" fmla="val -35671"/>
              <a:gd name="adj2" fmla="val 161379"/>
              <a:gd name="adj3" fmla="val 16667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cc"/>
                </a:solidFill>
                <a:latin typeface="Comic Sans MS"/>
              </a:rPr>
              <a:t>Recommence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EF36-87A3-4809-8526-D3E939BF5B12}" type="slidenum">
              <a:t>27</a:t>
            </a:fld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Bauhaus 93"/>
              </a:rPr>
              <a:t>Quatre fils dont trois communs à tous les boîti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Une horloge  : CLK (max 250 MHz)</a:t>
            </a:r>
            <a:br>
              <a:rPr sz="3200"/>
            </a:b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« Synchrone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00"/>
                </a:solidFill>
                <a:latin typeface="Arial"/>
              </a:rPr>
              <a:t>MISO : Master In / Slave Out </a:t>
            </a:r>
            <a:br>
              <a:rPr sz="3200"/>
            </a:br>
            <a:r>
              <a:rPr b="0" lang="fr-FR" sz="3200" spc="-1" strike="noStrike">
                <a:solidFill>
                  <a:srgbClr val="ff6600"/>
                </a:solidFill>
                <a:latin typeface="Arial"/>
              </a:rPr>
              <a:t>De l ’esclave vers le maî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cc33"/>
                </a:solidFill>
                <a:latin typeface="Arial"/>
              </a:rPr>
              <a:t>MOSI : Master Out / Slave In</a:t>
            </a:r>
            <a:br>
              <a:rPr sz="3200"/>
            </a:br>
            <a:r>
              <a:rPr b="0" lang="fr-FR" sz="3200" spc="-1" strike="noStrike">
                <a:solidFill>
                  <a:srgbClr val="33cc33"/>
                </a:solidFill>
                <a:latin typeface="Arial"/>
              </a:rPr>
              <a:t>Du maître vers l ’es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 fil de sélection de boîtier : SEL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8381880" y="42670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>
            <a:hlinkClick r:id="" action="ppaction://hlinkshowjump?jump=previousslide"/>
          </p:cNvPr>
          <p:cNvSpPr/>
          <p:nvPr/>
        </p:nvSpPr>
        <p:spPr>
          <a:xfrm>
            <a:off x="8381880" y="5029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5156-24F8-4B67-839A-8A6FE271A3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Boulder"/>
              </a:rPr>
              <a:t>AVANTAGES !!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167652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Times New Roman"/>
              </a:rPr>
              <a:t>Moins de broches sur les boît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13080" y="2209680"/>
            <a:ext cx="348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33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66cc"/>
                </a:solidFill>
                <a:latin typeface="Times New Roman"/>
              </a:rPr>
              <a:t>Facilité de câbl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09840" y="2819520"/>
            <a:ext cx="51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33cc33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cc33"/>
                </a:solidFill>
                <a:latin typeface="Times New Roman"/>
              </a:rPr>
              <a:t>Fiabilité (moins de soudur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06240" y="3505320"/>
            <a:ext cx="777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imes New Roman"/>
              </a:rPr>
              <a:t>Le rapport liaisons / boîtiers est inversement </a:t>
            </a:r>
            <a:br>
              <a:rPr sz="3200"/>
            </a:br>
            <a:r>
              <a:rPr b="0" lang="fr-FR" sz="3200" spc="-1" strike="noStrike">
                <a:solidFill>
                  <a:srgbClr val="0000cc"/>
                </a:solidFill>
                <a:latin typeface="Times New Roman"/>
              </a:rPr>
              <a:t>proportionnel au nombre d ’escl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81480" y="4800600"/>
            <a:ext cx="704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66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00"/>
                </a:solidFill>
                <a:latin typeface="Times New Roman"/>
              </a:rPr>
              <a:t>Nombreux périphériques disponibles au </a:t>
            </a:r>
            <a:br>
              <a:rPr sz="3200"/>
            </a:br>
            <a:r>
              <a:rPr b="0" lang="fr-FR" sz="3200" spc="-1" strike="noStrike">
                <a:solidFill>
                  <a:srgbClr val="ff6600"/>
                </a:solidFill>
                <a:latin typeface="Times New Roman"/>
              </a:rPr>
              <a:t>standard S.P.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8077320" y="20574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3801"/>
                </a:moveTo>
                <a:lnTo>
                  <a:pt x="17806" y="10807"/>
                </a:lnTo>
                <a:lnTo>
                  <a:pt x="3794" y="17814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previousslide"/>
          </p:cNvPr>
          <p:cNvSpPr/>
          <p:nvPr/>
        </p:nvSpPr>
        <p:spPr>
          <a:xfrm>
            <a:off x="8077320" y="28195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2A63-A7D5-49E3-9386-54C49A62CA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cc"/>
                </a:solidFill>
                <a:latin typeface="Transistor"/>
              </a:rPr>
              <a:t>Nombreux périphériques ..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16765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cc"/>
                </a:solidFill>
                <a:latin typeface="Vagabond"/>
              </a:rPr>
              <a:t>Convertisseurs Analogiques Numér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28800" y="24382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cc"/>
                </a:solidFill>
                <a:latin typeface="Vagabond"/>
              </a:rPr>
              <a:t>Convertisseurs Numériques Analog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468880" y="3124080"/>
            <a:ext cx="52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ccff"/>
                </a:solidFill>
                <a:latin typeface="Vagabond"/>
              </a:rPr>
              <a:t>Afficheurs à cristaux liquides, à 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66560" y="3809880"/>
            <a:ext cx="39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Vagabond"/>
              </a:rPr>
              <a:t>Mémoires : RAM, EEP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33920" y="44956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490a8"/>
                </a:solidFill>
                <a:latin typeface="Vagabond"/>
              </a:rPr>
              <a:t>Ti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5105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cc"/>
                </a:solidFill>
                <a:latin typeface="Vagabond"/>
              </a:rPr>
              <a:t>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638680" y="5638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Vagabond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nextslide"/>
          </p:cNvPr>
          <p:cNvSpPr/>
          <p:nvPr/>
        </p:nvSpPr>
        <p:spPr>
          <a:xfrm>
            <a:off x="8381880" y="42670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previousslide"/>
          </p:cNvPr>
          <p:cNvSpPr/>
          <p:nvPr/>
        </p:nvSpPr>
        <p:spPr>
          <a:xfrm>
            <a:off x="8381880" y="5029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219320" y="4800600"/>
            <a:ext cx="2444760" cy="128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A6FE-2B92-45C4-909F-63E588A930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Roughedge"/>
              </a:rPr>
              <a:t>PRINCIP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990720" y="2562120"/>
            <a:ext cx="2681280" cy="15796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86200" y="1676520"/>
            <a:ext cx="5029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Standout"/>
              </a:rPr>
              <a:t>Chaque composant possède un registre à décalage (8 ou 9 bi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Standout"/>
              </a:rPr>
              <a:t>L ’horloge est commune aux deux regis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Standout"/>
              </a:rPr>
              <a:t>La sortie de l ’un est l ’entrée de l ’au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Standout"/>
              </a:rPr>
              <a:t>L ’échange se fait donc en 8 (9) fronts d ’horlo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>
            <a:hlinkClick r:id="" action="ppaction://hlinkshowjump?jump=nextslide"/>
          </p:cNvPr>
          <p:cNvSpPr/>
          <p:nvPr/>
        </p:nvSpPr>
        <p:spPr>
          <a:xfrm>
            <a:off x="7543800" y="5334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previousslide"/>
          </p:cNvPr>
          <p:cNvSpPr/>
          <p:nvPr/>
        </p:nvSpPr>
        <p:spPr>
          <a:xfrm>
            <a:off x="75438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B9A7-D170-4FC1-9A56-68D2E1E5DC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Stylus"/>
              </a:rPr>
              <a:t>EXEMP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95280" y="2362320"/>
            <a:ext cx="71629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Bazooka"/>
              </a:rPr>
              <a:t>Les diapositives suivantes montrent un exemple d ’échange entre un micro contrôleur (Le Maître) et une EEPROM (L ’Esclave). Au départ les deux registres à décalage contiennent $8F et $72. Après huit font d horloge on constatera l ’échange des deux donn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03160" y="5275440"/>
            <a:ext cx="7173000" cy="1068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Brush Script MT"/>
              </a:rPr>
              <a:t>Dans le cas d ’une horloge à 200 KHz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Brush Script MT"/>
              </a:rPr>
              <a:t>l ’échange s ’effectue en : 40 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nextslide"/>
          </p:cNvPr>
          <p:cNvSpPr/>
          <p:nvPr/>
        </p:nvSpPr>
        <p:spPr>
          <a:xfrm>
            <a:off x="8381880" y="42670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" action="ppaction://hlinkshowjump?jump=previousslide"/>
          </p:cNvPr>
          <p:cNvSpPr/>
          <p:nvPr/>
        </p:nvSpPr>
        <p:spPr>
          <a:xfrm>
            <a:off x="8381880" y="5029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5768-2687-4DCD-8ADE-0E7ACB4E45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Communications Synchrones :</a:t>
            </a:r>
            <a:br>
              <a:rPr sz="4400"/>
            </a:b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e BUS S.P.I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71600" y="2057400"/>
            <a:ext cx="3048120" cy="40384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76520" y="49528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8108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90920" y="49528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9548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5320" y="49528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988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09680" y="3733920"/>
            <a:ext cx="1143000" cy="761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orlo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2057400"/>
            <a:ext cx="3047760" cy="40384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588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0080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705720" y="4952880"/>
            <a:ext cx="304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1028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31520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20120" y="4952880"/>
            <a:ext cx="304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92468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22960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352680" y="41148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32448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6252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114440" y="51055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1523880" y="510552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23880" y="51055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23880" y="5791320"/>
            <a:ext cx="7239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763120" y="51055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8534160" y="5105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729160" y="5299200"/>
            <a:ext cx="65484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$8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012080" y="5257800"/>
            <a:ext cx="63792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$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34320" y="3733920"/>
            <a:ext cx="11430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orlo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05320" y="4075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04600" y="50655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I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04600" y="57513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135880" y="2209680"/>
            <a:ext cx="134820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AI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32640" y="2209680"/>
            <a:ext cx="154944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S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EE3A-9B7E-4445-83DA-4622A93B5195}" type="slidenum">
              <a:t>8</a:t>
            </a:fld>
          </a:p>
        </p:txBody>
      </p:sp>
    </p:spTree>
  </p:cSld>
  <p:transition spd="med" advTm="1000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71600" y="2057400"/>
            <a:ext cx="3048120" cy="40384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988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76520" y="49528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8108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90920" y="49528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9548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0040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05320" y="49528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3733920"/>
            <a:ext cx="1143000" cy="761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orlo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91320" y="2057400"/>
            <a:ext cx="3047760" cy="40384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22960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40080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705720" y="4952880"/>
            <a:ext cx="304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1028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31520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20120" y="4952880"/>
            <a:ext cx="304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92468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352680" y="41148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96252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114440" y="51055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1523880" y="5105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23880" y="5105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23880" y="579132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686800" y="5105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8534160" y="5105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29160" y="5299200"/>
            <a:ext cx="65484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$8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012080" y="5257800"/>
            <a:ext cx="63792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$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934320" y="3733920"/>
            <a:ext cx="11430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orlo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78720" y="533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878720" y="4648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9528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724280" y="4038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87692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876920" y="380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405320" y="4075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404600" y="50655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I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04600" y="57513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135880" y="2209680"/>
            <a:ext cx="134820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AI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632640" y="2209680"/>
            <a:ext cx="154944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S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00600" y="27432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ubular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10800000">
            <a:off x="2057040" y="4647960"/>
            <a:ext cx="1523880" cy="22860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6705360" y="4647960"/>
            <a:ext cx="1523880" cy="22860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8FCA-8766-49C6-BAEB-BD3E2F51AC3F}" type="slidenum">
              <a:t>9</a:t>
            </a:fld>
          </a:p>
        </p:txBody>
      </p:sp>
    </p:spTree>
  </p:cSld>
  <p:transition spd="med" advTm="1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5T08:09:17Z</dcterms:created>
  <dc:creator>Christian Dupaty</dc:creator>
  <dc:description/>
  <dc:language>en-US</dc:language>
  <cp:lastModifiedBy>Karin Dupaty</cp:lastModifiedBy>
  <dcterms:modified xsi:type="dcterms:W3CDTF">1997-12-03T14:29:47Z</dcterms:modified>
  <cp:revision>50</cp:revision>
  <dc:subject/>
  <dc:title>Aucun titre de diapositive</dc:title>
</cp:coreProperties>
</file>