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22C-F10D-40F2-AE4C-DF922397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5B7-18A9-4DB8-85D9-3EDB2E8A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644-77E3-447C-978F-AECD3D29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273-D8D1-4B94-8EEF-4F62C41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D302-B276-4EAE-89A6-1711FD04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633F-3DC3-45E4-82A4-1F43846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CD47-99FF-4173-81BB-7ACFC152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C7F8-29E9-41F8-9378-63A128F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4D5-EF20-4D7D-A390-E3C6CD6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4A8-03FB-44B9-ADCD-1A7D42F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D51-F18B-4E2B-A69A-06EED46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94E-241B-40A0-990A-E9349EC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8EA6-9933-41AC-9F17-FD3C7335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65E-CB4F-4B0E-B866-2FC5C51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680E-A479-47B4-B855-09501E0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8AA-3191-487B-836B-67100776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D530-8175-426A-AE34-83065292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612-B0E9-43C0-81A5-AB73BFA6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99F-15A5-487E-B884-A51D27B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E4C-0243-4CED-8001-1E4247B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FE8-D5E2-4368-AA13-8B64AA4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1B7-BCD2-4E5A-B060-320B97C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BC7-5144-4B61-9A37-77E00E66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AFA-F15E-4FBB-A890-A5015D79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8192-17D0-4A78-B75F-3B09310A9188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F0A-80CD-49E9-8B99-DF7565C42EA2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ccffff"/>
                </a:solidFill>
                <a:latin typeface="Impact"/>
              </a:rPr>
              <a:t>Le BUS IIC</a:t>
            </a:r>
            <a:endParaRPr b="0" lang="en-US" sz="8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7652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Communications séries synchr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79520" y="1952640"/>
            <a:ext cx="458316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60958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Bazooka"/>
              </a:rPr>
              <a:t>Ch.Dupaty 11/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69608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ccffff"/>
                </a:solidFill>
                <a:latin typeface="Impact"/>
              </a:rPr>
              <a:t>Acquittement</a:t>
            </a:r>
            <a:endParaRPr b="0" lang="en-US" sz="8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Après la réception du 8ième bit de donnée, le récepteur </a:t>
            </a:r>
            <a:r>
              <a:rPr b="0" lang="fr-FR" sz="2800" spc="-1" strike="noStrike">
                <a:solidFill>
                  <a:srgbClr val="99ffcc"/>
                </a:solidFill>
                <a:latin typeface="Impact"/>
              </a:rPr>
              <a:t>prend la ligne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de donnée et la place à 0v durant l ’impulsion SCL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36520" indent="-23652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C ’est l ’information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« ACKNOWLEDGE »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L e micro contrôleur génère donc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9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impulsions d ’horloge pour transmettre un octe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2590920" cy="2281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20177400">
            <a:off x="6629760" y="4876560"/>
            <a:ext cx="16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ignature"/>
              </a:rPr>
              <a:t>Message bien reç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724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38098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ccffff"/>
                </a:solidFill>
                <a:latin typeface="Impact"/>
              </a:rPr>
              <a:t>Adresse</a:t>
            </a:r>
            <a:endParaRPr b="0" lang="en-US" sz="8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Chaque récepteur possède une adresse, il s ’identifie en reconnaissant l ’adresse émise par l e micro contrôleur au début de l ’échan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49960" y="2044800"/>
            <a:ext cx="3473280" cy="411480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63244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4100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cffff"/>
                </a:solidFill>
                <a:latin typeface="Impact"/>
              </a:rPr>
              <a:t>Exemple de trame IIC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8153280" y="3429000"/>
            <a:ext cx="609840" cy="609480"/>
          </a:xfrm>
          <a:prstGeom prst="rect">
            <a:avLst/>
          </a:prstGeom>
          <a:solidFill>
            <a:srgbClr val="acd400"/>
          </a:solidFill>
          <a:ln w="38160">
            <a:solidFill>
              <a:srgbClr val="acd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038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4038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429000"/>
            <a:ext cx="609480" cy="609480"/>
          </a:xfrm>
          <a:prstGeom prst="rect">
            <a:avLst/>
          </a:prstGeom>
          <a:solidFill>
            <a:srgbClr val="acd400"/>
          </a:solidFill>
          <a:ln w="38160">
            <a:solidFill>
              <a:srgbClr val="acd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3581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1932"/>
                </a:solidFill>
                <a:latin typeface="Bazooka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581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1932"/>
                </a:solidFill>
                <a:latin typeface="Bazooka"/>
              </a:rPr>
              <a:t>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981080" y="3429000"/>
            <a:ext cx="1828800" cy="914400"/>
            <a:chOff x="1981080" y="3429000"/>
            <a:chExt cx="1828800" cy="914400"/>
          </a:xfrm>
        </p:grpSpPr>
        <p:grpSp>
          <p:nvGrpSpPr>
            <p:cNvPr id="301" name=""/>
            <p:cNvGrpSpPr/>
            <p:nvPr/>
          </p:nvGrpSpPr>
          <p:grpSpPr>
            <a:xfrm>
              <a:off x="1981080" y="3429000"/>
              <a:ext cx="1828800" cy="609480"/>
              <a:chOff x="1981080" y="3429000"/>
              <a:chExt cx="1828800" cy="609480"/>
            </a:xfrm>
          </p:grpSpPr>
          <p:sp>
            <p:nvSpPr>
              <p:cNvPr id="302" name=""/>
              <p:cNvSpPr/>
              <p:nvPr/>
            </p:nvSpPr>
            <p:spPr>
              <a:xfrm>
                <a:off x="1981080" y="342900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096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09680" y="3429000"/>
                <a:ext cx="0" cy="609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66880" y="3429000"/>
                <a:ext cx="0" cy="609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438280" y="3429000"/>
                <a:ext cx="0" cy="609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438280" y="342900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668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895480" y="3962160"/>
                <a:ext cx="0" cy="75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954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124080" y="3962160"/>
                <a:ext cx="0" cy="75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352680" y="3962160"/>
                <a:ext cx="0" cy="75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526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581280" y="3962160"/>
                <a:ext cx="0" cy="75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81280" y="4038480"/>
                <a:ext cx="228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3809880" y="3962160"/>
                <a:ext cx="0" cy="75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981080" y="4343400"/>
              <a:ext cx="1828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095880" y="3429000"/>
            <a:ext cx="1905120" cy="914400"/>
            <a:chOff x="6095880" y="3429000"/>
            <a:chExt cx="1905120" cy="914400"/>
          </a:xfrm>
        </p:grpSpPr>
        <p:grpSp>
          <p:nvGrpSpPr>
            <p:cNvPr id="320" name=""/>
            <p:cNvGrpSpPr/>
            <p:nvPr/>
          </p:nvGrpSpPr>
          <p:grpSpPr>
            <a:xfrm>
              <a:off x="6095880" y="3429000"/>
              <a:ext cx="1828800" cy="609480"/>
              <a:chOff x="6095880" y="3429000"/>
              <a:chExt cx="1828800" cy="60948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60958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95880" y="403848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244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24480" y="403848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5530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53080" y="403848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7816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81680" y="403848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70102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10280" y="403848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7238880" y="3962160"/>
                <a:ext cx="0" cy="75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38880" y="3429000"/>
                <a:ext cx="0" cy="609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38880" y="342900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7467480" y="3429000"/>
                <a:ext cx="0" cy="763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67480" y="342900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7696080" y="3429000"/>
                <a:ext cx="0" cy="763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96080" y="3429000"/>
                <a:ext cx="228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24680" y="3429000"/>
                <a:ext cx="0" cy="609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72200" y="4343400"/>
              <a:ext cx="1828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038480" y="3429000"/>
            <a:ext cx="1828800" cy="914400"/>
            <a:chOff x="4038480" y="3429000"/>
            <a:chExt cx="1828800" cy="914400"/>
          </a:xfrm>
        </p:grpSpPr>
        <p:sp>
          <p:nvSpPr>
            <p:cNvPr id="341" name=""/>
            <p:cNvSpPr/>
            <p:nvPr/>
          </p:nvSpPr>
          <p:spPr>
            <a:xfrm>
              <a:off x="4038480" y="4343400"/>
              <a:ext cx="1828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038480" y="3429000"/>
              <a:ext cx="1828800" cy="609480"/>
              <a:chOff x="4038480" y="3429000"/>
              <a:chExt cx="1828800" cy="609480"/>
            </a:xfrm>
          </p:grpSpPr>
          <p:sp>
            <p:nvSpPr>
              <p:cNvPr id="343" name=""/>
              <p:cNvSpPr/>
              <p:nvPr/>
            </p:nvSpPr>
            <p:spPr>
              <a:xfrm flipV="1">
                <a:off x="4038480" y="3962160"/>
                <a:ext cx="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38480" y="3429000"/>
                <a:ext cx="0" cy="60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38480" y="342900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267080" y="3429000"/>
                <a:ext cx="0" cy="76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67080" y="342900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495680" y="3429000"/>
                <a:ext cx="0" cy="76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95680" y="342900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24280" y="403848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24280" y="3429000"/>
                <a:ext cx="0" cy="60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81480" y="3429000"/>
                <a:ext cx="0" cy="60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52880" y="3429000"/>
                <a:ext cx="0" cy="60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52880" y="342900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81480" y="403848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5410080" y="3962160"/>
                <a:ext cx="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10080" y="403848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867280" y="3962160"/>
                <a:ext cx="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38680" y="4038480"/>
                <a:ext cx="2286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638680" y="3962160"/>
                <a:ext cx="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4191120" y="24382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Ac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885840" y="2590920"/>
            <a:ext cx="4191480" cy="1143000"/>
            <a:chOff x="3885840" y="2590920"/>
            <a:chExt cx="4191480" cy="1143000"/>
          </a:xfrm>
        </p:grpSpPr>
        <p:sp>
          <p:nvSpPr>
            <p:cNvPr id="363" name=""/>
            <p:cNvSpPr/>
            <p:nvPr/>
          </p:nvSpPr>
          <p:spPr>
            <a:xfrm flipH="1">
              <a:off x="3885840" y="26668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4480" y="2590920"/>
              <a:ext cx="175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26668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920" y="28954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59092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905120" y="4495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Bazooka"/>
              </a:rPr>
              <a:t>Adresse esclave = 10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4495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Bazooka"/>
              </a:rPr>
              <a:t>Adresse memoire = E8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4495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Bazooka"/>
              </a:rPr>
              <a:t>Donnée memoire = 07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53341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</a:t>
            </a:r>
            <a:r>
              <a:rPr b="0" lang="fr-FR" sz="2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Bazooka"/>
              </a:rPr>
              <a:t>Ecrire la </a:t>
            </a:r>
            <a:r>
              <a:rPr b="0" lang="fr-FR" sz="2400" spc="-1" strike="noStrike">
                <a:solidFill>
                  <a:srgbClr val="00ff00"/>
                </a:solidFill>
                <a:latin typeface="Bazooka"/>
              </a:rPr>
              <a:t>donnée 07h</a:t>
            </a:r>
            <a:r>
              <a:rPr b="0" lang="fr-FR" sz="2400" spc="-1" strike="noStrike">
                <a:solidFill>
                  <a:srgbClr val="ffffff"/>
                </a:solidFill>
                <a:latin typeface="Bazooka"/>
              </a:rPr>
              <a:t> à </a:t>
            </a:r>
            <a:r>
              <a:rPr b="0" lang="fr-FR" sz="2400" spc="-1" strike="noStrike">
                <a:solidFill>
                  <a:srgbClr val="ff9900"/>
                </a:solidFill>
                <a:latin typeface="Bazooka"/>
              </a:rPr>
              <a:t>l’adresse E8h</a:t>
            </a:r>
            <a:r>
              <a:rPr b="0" lang="fr-FR" sz="2400" spc="-1" strike="noStrike">
                <a:solidFill>
                  <a:srgbClr val="ffffff"/>
                </a:solidFill>
                <a:latin typeface="Bazooka"/>
              </a:rPr>
              <a:t> d ’une EEPROM IIC. </a:t>
            </a: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Adresse IIC</a:t>
            </a:r>
            <a:r>
              <a:rPr b="0" lang="fr-FR" sz="2400" spc="-1" strike="noStrike">
                <a:solidFill>
                  <a:srgbClr val="ffffff"/>
                </a:solidFill>
                <a:latin typeface="Bazooka"/>
              </a:rPr>
              <a:t> du composant =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70866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ccffff"/>
                </a:solidFill>
                <a:latin typeface="Impact"/>
              </a:rPr>
              <a:t>Critères de choix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219320" y="2173320"/>
            <a:ext cx="3809880" cy="3857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Avantages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: Simplicité de cablage (2fils plus la référence)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Sécurité active grâce au drain ouver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Inconvénients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: Moins rapide que le bus S.P.I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Complexité du protocole de communic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6095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SPI ? Ou IIC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ccffff"/>
                </a:solidFill>
                <a:latin typeface="Impact"/>
              </a:rPr>
              <a:t>Le mot de la fin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219320" y="3100320"/>
            <a:ext cx="3809880" cy="20019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IIC bus de communication synchrone</a:t>
            </a:r>
            <a:r>
              <a:rPr b="0" lang="fr-FR" sz="2800" spc="-1" strike="noStrike">
                <a:solidFill>
                  <a:srgbClr val="3032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Phillip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SGS-THOMS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HARRI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ATM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et de nombreux autres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160020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8377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6532" y="3794"/>
                </a:lnTo>
                <a:lnTo>
                  <a:pt x="6532" y="17806"/>
                </a:lnTo>
                <a:lnTo>
                  <a:pt x="486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IIC :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I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nter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 I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ntegrated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C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ircuit BU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Bus de communication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synchrone </a:t>
            </a:r>
            <a:r>
              <a:rPr b="0" lang="fr-FR" sz="2400" spc="-1" strike="noStrike">
                <a:solidFill>
                  <a:srgbClr val="ffff00"/>
                </a:solidFill>
                <a:latin typeface="Impact"/>
              </a:rPr>
              <a:t>(même horloge pour l émetteur et le récepteur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Norme électrique et protocole d ’échange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très répandu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Nombreux périphériques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disponibl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979720"/>
            <a:ext cx="3810240" cy="22446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Connexions simplifié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Bazooka"/>
              </a:rPr>
              <a:t>Un fil</a:t>
            </a:r>
            <a:r>
              <a:rPr b="0" lang="fr-FR" sz="4000" spc="-1" strike="noStrike">
                <a:solidFill>
                  <a:srgbClr val="ffffff"/>
                </a:solidFill>
                <a:latin typeface="Bazooka"/>
              </a:rPr>
              <a:t> pour l ’horloge synchron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Bazooka"/>
              </a:rPr>
              <a:t>Un fil</a:t>
            </a:r>
            <a:r>
              <a:rPr b="0" lang="fr-FR" sz="4000" spc="-1" strike="noStrike">
                <a:solidFill>
                  <a:srgbClr val="ffffff"/>
                </a:solidFill>
                <a:latin typeface="Bazooka"/>
              </a:rPr>
              <a:t> pour la transmission des donné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Bazooka"/>
              </a:rPr>
              <a:t>Un fil</a:t>
            </a:r>
            <a:r>
              <a:rPr b="0" lang="fr-FR" sz="4000" spc="-1" strike="noStrike">
                <a:solidFill>
                  <a:srgbClr val="ffffff"/>
                </a:solidFill>
                <a:latin typeface="Bazooka"/>
              </a:rPr>
              <a:t> pour la référence de tens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2590920"/>
            <a:ext cx="1905120" cy="3504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cffff"/>
                </a:solidFill>
                <a:latin typeface="Impact"/>
              </a:rPr>
              <a:t>Connexion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6576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1932"/>
                </a:solidFill>
                <a:latin typeface="Bazooka"/>
              </a:rPr>
              <a:t>u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209680"/>
            <a:ext cx="175284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5486400"/>
            <a:ext cx="175284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4343400"/>
            <a:ext cx="175284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3276720"/>
            <a:ext cx="175284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236232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EEP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350532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4419720"/>
            <a:ext cx="14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Cart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à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P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5562720"/>
            <a:ext cx="21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Bazooka"/>
              </a:rPr>
              <a:t>Affich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038480"/>
            <a:ext cx="41907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562720" y="2895120"/>
            <a:ext cx="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038480"/>
            <a:ext cx="0" cy="2133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571500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5181480"/>
            <a:ext cx="16761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47760" y="4572000"/>
            <a:ext cx="1904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438280"/>
            <a:ext cx="0" cy="32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243828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57200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6172200"/>
            <a:ext cx="16761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971800"/>
            <a:ext cx="152280" cy="533520"/>
          </a:xfrm>
          <a:prstGeom prst="rect">
            <a:avLst/>
          </a:prstGeom>
          <a:solidFill>
            <a:srgbClr val="2181b7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2971800"/>
            <a:ext cx="152280" cy="533520"/>
          </a:xfrm>
          <a:prstGeom prst="rect">
            <a:avLst/>
          </a:prstGeom>
          <a:solidFill>
            <a:srgbClr val="2181b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505320"/>
            <a:ext cx="0" cy="5331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35053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26668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2666880"/>
            <a:ext cx="381240" cy="0"/>
          </a:xfrm>
          <a:prstGeom prst="line">
            <a:avLst/>
          </a:prstGeom>
          <a:ln w="57240">
            <a:solidFill>
              <a:srgbClr val="acd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581280" y="2209680"/>
            <a:ext cx="0" cy="457200"/>
          </a:xfrm>
          <a:prstGeom prst="line">
            <a:avLst/>
          </a:prstGeom>
          <a:ln w="57240">
            <a:solidFill>
              <a:srgbClr val="acd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5720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3657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cffff"/>
                </a:solidFill>
                <a:latin typeface="Impact"/>
              </a:rPr>
              <a:t>SCL &amp; SDA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SCL : Sérial Clock</a:t>
            </a: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Horloge de transmission synchrone, fournie par le micro controleur et commune à tous les récepteu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SDA : Sérial Data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Transfert des données bi-directionnel, synchrone avec SC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Un fil de données bi directionne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03200"/>
                </a:solidFill>
                <a:latin typeface="Impact"/>
              </a:rPr>
              <a:t>Commande par des sorties à drain ouvert afin d ’éviter les courts circui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Nécessité de résistances de rappel à VD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81480" y="2712960"/>
            <a:ext cx="3810240" cy="27781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Pas de fil de sélection de boîti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41360" y="2044800"/>
            <a:ext cx="356400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Nécessité d ’un protocole de communication logiciel entre les périphériques et le micro contrôleu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Validité des donné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1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133720" y="441936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971440" y="44193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1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33920" y="441936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419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571640" y="44193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1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334120" y="441936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4419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171840" y="44193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51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934320" y="441936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4419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772040" y="44193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809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2880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82844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2004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809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5268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35232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32004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3809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87692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7656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2004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809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0080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40044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2004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3809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92468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7924320" y="320004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3809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53280" y="3200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51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8195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8195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276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Donnée s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8195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3962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La donné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426708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7150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u repos les ligne SCL et SDA sont à l ’état logique 1 : Drain ouv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Condition de START et de STOP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Tout échange commence par un « </a:t>
            </a: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START</a:t>
            </a: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 » et finit par un »</a:t>
            </a: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STOP</a:t>
            </a:r>
            <a:r>
              <a:rPr b="0" lang="fr-FR" sz="2400" spc="-1" strike="noStrike">
                <a:solidFill>
                  <a:srgbClr val="ffff00"/>
                </a:solidFill>
                <a:latin typeface="Bazooka"/>
              </a:rPr>
              <a:t> ...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342900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95480" y="34290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886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34290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3886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543800" y="342900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34290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2900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8862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267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26708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24080" y="426708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267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4724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267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47242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086600" y="426708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2670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426708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267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724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048120"/>
            <a:ext cx="914400" cy="228600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971800"/>
            <a:ext cx="914400" cy="228600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086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2T08:55:05Z</dcterms:created>
  <dc:creator>Karin Dupaty</dc:creator>
  <dc:description/>
  <dc:language>en-US</dc:language>
  <cp:lastModifiedBy>Karin Dupaty</cp:lastModifiedBy>
  <dcterms:modified xsi:type="dcterms:W3CDTF">1997-12-02T14:07:29Z</dcterms:modified>
  <cp:revision>32</cp:revision>
  <dc:subject/>
  <dc:title>Le BUS IIC</dc:title>
</cp:coreProperties>
</file>