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omer.wav" TargetMode="External"/><Relationship Id="rId2" Type="http://schemas.microsoft.com/office/2007/relationships/media" Target="file:///tmp/home/.config/libreoffice/4/user/gallery/omer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3.xml"/><Relationship Id="rId3" Type="http://schemas.openxmlformats.org/officeDocument/2006/relationships/slide" Target="slide25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9143640" y="1066680"/>
            <a:ext cx="914760" cy="990720"/>
            <a:chOff x="9143640" y="1066680"/>
            <a:chExt cx="914760" cy="990720"/>
          </a:xfrm>
        </p:grpSpPr>
        <p:sp>
          <p:nvSpPr>
            <p:cNvPr id="41" name=""/>
            <p:cNvSpPr/>
            <p:nvPr/>
          </p:nvSpPr>
          <p:spPr>
            <a:xfrm>
              <a:off x="9296280" y="1197000"/>
              <a:ext cx="762120" cy="730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474120" y="1327320"/>
              <a:ext cx="0" cy="495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9143640" y="156204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9474120" y="1222560"/>
              <a:ext cx="355320" cy="23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474120" y="1640160"/>
              <a:ext cx="355320" cy="26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29800" y="1066680"/>
              <a:ext cx="0" cy="15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829800" y="1901160"/>
              <a:ext cx="0" cy="15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533520" y="990720"/>
            <a:ext cx="5105160" cy="3733560"/>
            <a:chOff x="533520" y="990720"/>
            <a:chExt cx="5105160" cy="3733560"/>
          </a:xfrm>
        </p:grpSpPr>
        <p:grpSp>
          <p:nvGrpSpPr>
            <p:cNvPr id="495" name=""/>
            <p:cNvGrpSpPr/>
            <p:nvPr/>
          </p:nvGrpSpPr>
          <p:grpSpPr>
            <a:xfrm>
              <a:off x="685440" y="990720"/>
              <a:ext cx="4953240" cy="3733560"/>
              <a:chOff x="685440" y="990720"/>
              <a:chExt cx="4953240" cy="373356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685440" y="2819520"/>
                <a:ext cx="3048480" cy="761760"/>
                <a:chOff x="685440" y="2819520"/>
                <a:chExt cx="3048480" cy="761760"/>
              </a:xfrm>
            </p:grpSpPr>
            <p:sp>
              <p:nvSpPr>
                <p:cNvPr id="497" name=""/>
                <p:cNvSpPr/>
                <p:nvPr/>
              </p:nvSpPr>
              <p:spPr>
                <a:xfrm flipH="1">
                  <a:off x="685440" y="34290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38280" y="3429000"/>
                  <a:ext cx="129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9" name=""/>
                <p:cNvGrpSpPr/>
                <p:nvPr/>
              </p:nvGrpSpPr>
              <p:grpSpPr>
                <a:xfrm>
                  <a:off x="1676520" y="2819520"/>
                  <a:ext cx="761760" cy="761760"/>
                  <a:chOff x="1676520" y="2819520"/>
                  <a:chExt cx="761760" cy="7617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>
                    <a:off x="175248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1752480" y="3276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1752480" y="358128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438280" y="3276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1676520" y="281952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5" name=""/>
              <p:cNvGrpSpPr/>
              <p:nvPr/>
            </p:nvGrpSpPr>
            <p:grpSpPr>
              <a:xfrm>
                <a:off x="4495680" y="990720"/>
                <a:ext cx="914400" cy="1752480"/>
                <a:chOff x="4495680" y="990720"/>
                <a:chExt cx="914400" cy="175248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4495680" y="1371240"/>
                  <a:ext cx="914400" cy="914760"/>
                  <a:chOff x="4495680" y="1371240"/>
                  <a:chExt cx="914400" cy="91476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4495680" y="1600200"/>
                    <a:ext cx="15264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4572000" y="1600200"/>
                    <a:ext cx="304920" cy="45720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800600" y="1600200"/>
                    <a:ext cx="15228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5400000">
                    <a:off x="4610880" y="1637640"/>
                    <a:ext cx="914400" cy="382320"/>
                  </a:xfrm>
                  <a:custGeom>
                    <a:avLst/>
                    <a:gdLst>
                      <a:gd name="textAreaLeft" fmla="*/ 201960 w 914400"/>
                      <a:gd name="textAreaRight" fmla="*/ 712440 w 914400"/>
                      <a:gd name="textAreaTop" fmla="*/ 84240 h 382320"/>
                      <a:gd name="textAreaBottom" fmla="*/ 298080 h 382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163" y="21600"/>
                        </a:lnTo>
                        <a:lnTo>
                          <a:pt x="5437" y="2160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5105520" y="1371600"/>
                    <a:ext cx="304560" cy="914400"/>
                  </a:xfrm>
                  <a:prstGeom prst="ellipse">
                    <a:avLst/>
                  </a:prstGeom>
                  <a:solidFill>
                    <a:srgbClr val="33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V="1">
                    <a:off x="4876920" y="137124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4876920" y="205740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4572000" y="160020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4572000" y="205740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>
                    <a:off x="4648320" y="144756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4648320" y="20574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4495680" y="990720"/>
                  <a:ext cx="304920" cy="456840"/>
                  <a:chOff x="4495680" y="990720"/>
                  <a:chExt cx="304920" cy="4568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4648320" y="12952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4572000" y="114336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4648320" y="106704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4495680" y="990720"/>
                    <a:ext cx="304920" cy="304920"/>
                  </a:xfrm>
                  <a:prstGeom prst="ellipse">
                    <a:avLst/>
                  </a:prstGeom>
                  <a:noFill/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>
                  <a:off x="4648320" y="22096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3733560" y="2743200"/>
                <a:ext cx="1905120" cy="1371240"/>
                <a:chOff x="3733560" y="2743200"/>
                <a:chExt cx="1905120" cy="137124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3733560" y="2743200"/>
                  <a:ext cx="1219320" cy="1371240"/>
                  <a:chOff x="3733560" y="2743200"/>
                  <a:chExt cx="1219320" cy="137124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3936960" y="2923560"/>
                    <a:ext cx="1015920" cy="101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174200" y="3103920"/>
                    <a:ext cx="0" cy="6858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>
                    <a:off x="3733560" y="3429000"/>
                    <a:ext cx="440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4174200" y="2959560"/>
                    <a:ext cx="473760" cy="324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4174200" y="3537000"/>
                    <a:ext cx="473760" cy="360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4647960" y="2743200"/>
                    <a:ext cx="0" cy="216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647960" y="3898080"/>
                    <a:ext cx="0" cy="216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5029200" y="320040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495680" y="4038480"/>
                <a:ext cx="304920" cy="685800"/>
                <a:chOff x="4495680" y="4038480"/>
                <a:chExt cx="304920" cy="6858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4648320" y="4038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495680" y="47242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7" name=""/>
            <p:cNvSpPr/>
            <p:nvPr/>
          </p:nvSpPr>
          <p:spPr>
            <a:xfrm>
              <a:off x="533520" y="4724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762120" y="3809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Vs = 0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1371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p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137160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étec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2120" y="3809880"/>
            <a:ext cx="160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Vs = 5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85800" y="350496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85800" y="350496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342900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42900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342900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2819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648320" y="1295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648320" y="38862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648320" y="2514600"/>
            <a:ext cx="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3623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86400" y="3200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 bloq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86400" y="3200400"/>
            <a:ext cx="2209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t satur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562720" y="1447560"/>
            <a:ext cx="380880" cy="914760"/>
            <a:chOff x="5562720" y="1447560"/>
            <a:chExt cx="380880" cy="914760"/>
          </a:xfrm>
        </p:grpSpPr>
        <p:sp>
          <p:nvSpPr>
            <p:cNvPr id="556" name=""/>
            <p:cNvSpPr/>
            <p:nvPr/>
          </p:nvSpPr>
          <p:spPr>
            <a:xfrm flipV="1">
              <a:off x="5562720" y="1447560"/>
              <a:ext cx="30492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39040" y="1905120"/>
              <a:ext cx="30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62720" y="2209680"/>
              <a:ext cx="304920" cy="15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838080" y="54864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voyons ça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2971800" y="2209680"/>
            <a:ext cx="2743200" cy="2895480"/>
            <a:chOff x="2971800" y="2209680"/>
            <a:chExt cx="2743200" cy="2895480"/>
          </a:xfrm>
        </p:grpSpPr>
        <p:sp>
          <p:nvSpPr>
            <p:cNvPr id="562" name=""/>
            <p:cNvSpPr/>
            <p:nvPr/>
          </p:nvSpPr>
          <p:spPr>
            <a:xfrm>
              <a:off x="3429000" y="2590560"/>
              <a:ext cx="2286000" cy="2133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62520" y="2971440"/>
              <a:ext cx="0" cy="1447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2971800" y="3657240"/>
              <a:ext cx="99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962520" y="2666520"/>
              <a:ext cx="106668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962520" y="3885840"/>
              <a:ext cx="106668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29200" y="22096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29200" y="464796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523880" y="3048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2057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05520" y="4724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ET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u tran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1295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chag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u tran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ant de sat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6248520" y="3352680"/>
            <a:ext cx="2895480" cy="2796120"/>
            <a:chOff x="6248520" y="3352680"/>
            <a:chExt cx="2895480" cy="2796120"/>
          </a:xfrm>
        </p:grpSpPr>
        <p:sp>
          <p:nvSpPr>
            <p:cNvPr id="577" name=""/>
            <p:cNvSpPr/>
            <p:nvPr/>
          </p:nvSpPr>
          <p:spPr>
            <a:xfrm>
              <a:off x="6477120" y="5715000"/>
              <a:ext cx="21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629400" y="37339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629400" y="4419720"/>
              <a:ext cx="1219320" cy="129528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48520" y="33526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534520" y="56386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400800" y="134136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8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sat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20120" y="1066680"/>
            <a:ext cx="12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AL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1569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72400" y="1646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6629040" y="44197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334120" y="4114800"/>
            <a:ext cx="16002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fr-FR" sz="24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209680"/>
            <a:ext cx="36576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0" lang="en-US" sz="2800" spc="-1" strike="noStrike" baseline="-2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ug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’augmente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943240" y="1981080"/>
            <a:ext cx="762120" cy="20574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05920" y="3429000"/>
            <a:ext cx="0" cy="6858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848720" y="441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924680" y="441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01000" y="441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77320" y="441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153280" y="441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05920" y="441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229600" y="4419720"/>
            <a:ext cx="0" cy="1295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848720" y="4419720"/>
            <a:ext cx="75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924680" y="4419720"/>
            <a:ext cx="76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01000" y="4419720"/>
            <a:ext cx="76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077320" y="4419720"/>
            <a:ext cx="75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53280" y="4419720"/>
            <a:ext cx="76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29600" y="4419720"/>
            <a:ext cx="76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19720" y="1371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E = 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3600" y="1676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52280" y="2514240"/>
            <a:ext cx="4419720" cy="2895840"/>
            <a:chOff x="152280" y="2514240"/>
            <a:chExt cx="4419720" cy="2895840"/>
          </a:xfrm>
        </p:grpSpPr>
        <p:grpSp>
          <p:nvGrpSpPr>
            <p:cNvPr id="607" name=""/>
            <p:cNvGrpSpPr/>
            <p:nvPr/>
          </p:nvGrpSpPr>
          <p:grpSpPr>
            <a:xfrm>
              <a:off x="152280" y="2514240"/>
              <a:ext cx="4419720" cy="2895840"/>
              <a:chOff x="152280" y="2514240"/>
              <a:chExt cx="4419720" cy="289584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980720" y="3657600"/>
                <a:ext cx="914760" cy="1066320"/>
                <a:chOff x="1980720" y="3657600"/>
                <a:chExt cx="914760" cy="10663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2133360" y="3797640"/>
                  <a:ext cx="762120" cy="7858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311200" y="3938040"/>
                  <a:ext cx="0" cy="533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H="1">
                  <a:off x="1980720" y="4190760"/>
                  <a:ext cx="33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2311200" y="3825360"/>
                  <a:ext cx="355320" cy="252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311200" y="4275000"/>
                  <a:ext cx="355320" cy="280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666880" y="3657600"/>
                  <a:ext cx="0" cy="168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666880" y="4555800"/>
                  <a:ext cx="0" cy="168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H="1">
                <a:off x="380880" y="41911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66880" y="33526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66880" y="4648320"/>
                <a:ext cx="0" cy="76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666880" y="2514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523880" y="41911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8080" y="358128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0574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685800" y="434340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2120" y="46483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514600" y="2666880"/>
                <a:ext cx="304920" cy="685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16200000">
                <a:off x="1028520" y="3847680"/>
                <a:ext cx="304920" cy="685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905120" y="2666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124080" y="2819520"/>
                <a:ext cx="106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ALI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80880" y="5410080"/>
                <a:ext cx="396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2280" y="45720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666880" y="251460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80880" y="4191120"/>
                <a:ext cx="0" cy="121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114800" y="36576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343400" y="25146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4038480" y="2742840"/>
                <a:ext cx="0" cy="243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66880" y="350532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828800" y="41911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133720" y="327672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76520" y="35812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048120" y="3504960"/>
                <a:ext cx="0" cy="144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048120" y="4038480"/>
                <a:ext cx="106668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2400" spc="-1" strike="noStrike" baseline="-20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838080" y="2514240"/>
              <a:ext cx="1219320" cy="762480"/>
              <a:chOff x="838080" y="2514240"/>
              <a:chExt cx="1219320" cy="76248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838080" y="2514240"/>
                <a:ext cx="685440" cy="762480"/>
                <a:chOff x="838080" y="2514240"/>
                <a:chExt cx="685440" cy="76248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838080" y="2705040"/>
                  <a:ext cx="114480" cy="38088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95320" y="2705040"/>
                  <a:ext cx="228600" cy="3808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066680" y="2705040"/>
                  <a:ext cx="114120" cy="38088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rot="5400000">
                  <a:off x="885960" y="2752200"/>
                  <a:ext cx="762120" cy="286560"/>
                </a:xfrm>
                <a:custGeom>
                  <a:avLst/>
                  <a:gdLst>
                    <a:gd name="textAreaLeft" fmla="*/ 168120 w 762120"/>
                    <a:gd name="textAreaRight" fmla="*/ 594000 w 762120"/>
                    <a:gd name="textAreaTop" fmla="*/ 63360 h 286560"/>
                    <a:gd name="textAreaBottom" fmla="*/ 223200 h 286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163" y="21600"/>
                      </a:lnTo>
                      <a:lnTo>
                        <a:pt x="5437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295280" y="2514600"/>
                  <a:ext cx="228240" cy="762120"/>
                </a:xfrm>
                <a:prstGeom prst="ellipse">
                  <a:avLst/>
                </a:prstGeom>
                <a:solidFill>
                  <a:srgbClr val="33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1123920" y="2514240"/>
                  <a:ext cx="285480" cy="190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23920" y="3085920"/>
                  <a:ext cx="285480" cy="190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95320" y="270504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95320" y="308592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V="1">
                  <a:off x="952560" y="2577240"/>
                  <a:ext cx="0" cy="127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952560" y="3085920"/>
                  <a:ext cx="0" cy="12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" name=""/>
              <p:cNvSpPr/>
              <p:nvPr/>
            </p:nvSpPr>
            <p:spPr>
              <a:xfrm>
                <a:off x="1447920" y="2666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6" name=""/>
          <p:cNvSpPr/>
          <p:nvPr/>
        </p:nvSpPr>
        <p:spPr>
          <a:xfrm flipH="1">
            <a:off x="4419720" y="4572000"/>
            <a:ext cx="2590560" cy="685800"/>
          </a:xfrm>
          <a:prstGeom prst="wedgeRectCallout">
            <a:avLst>
              <a:gd name="adj1" fmla="val -42773"/>
              <a:gd name="adj2" fmla="val 81476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linéaire non utilisée en com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3505320"/>
            <a:ext cx="1676520" cy="533160"/>
          </a:xfrm>
          <a:prstGeom prst="wedgeRectCallout">
            <a:avLst>
              <a:gd name="adj1" fmla="val -1324"/>
              <a:gd name="adj2" fmla="val 116962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u tran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1295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Tension Collecteur-Emetteu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52280" y="2514240"/>
            <a:ext cx="4419720" cy="2895840"/>
            <a:chOff x="152280" y="2514240"/>
            <a:chExt cx="4419720" cy="2895840"/>
          </a:xfrm>
        </p:grpSpPr>
        <p:grpSp>
          <p:nvGrpSpPr>
            <p:cNvPr id="661" name=""/>
            <p:cNvGrpSpPr/>
            <p:nvPr/>
          </p:nvGrpSpPr>
          <p:grpSpPr>
            <a:xfrm>
              <a:off x="1980720" y="3657600"/>
              <a:ext cx="914760" cy="1066320"/>
              <a:chOff x="1980720" y="3657600"/>
              <a:chExt cx="914760" cy="1066320"/>
            </a:xfrm>
          </p:grpSpPr>
          <p:sp>
            <p:nvSpPr>
              <p:cNvPr id="662" name=""/>
              <p:cNvSpPr/>
              <p:nvPr/>
            </p:nvSpPr>
            <p:spPr>
              <a:xfrm>
                <a:off x="2133360" y="3797640"/>
                <a:ext cx="762120" cy="78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311200" y="393804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1980720" y="4190760"/>
                <a:ext cx="33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2311200" y="3825360"/>
                <a:ext cx="355320" cy="252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311200" y="4275000"/>
                <a:ext cx="355320" cy="28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666880" y="3657600"/>
                <a:ext cx="0" cy="16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66880" y="4555800"/>
                <a:ext cx="0" cy="16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 flipH="1">
              <a:off x="3808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66880" y="33526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66880" y="46483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2666880" y="2514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238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38080" y="3581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574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685800" y="4343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212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514600" y="266688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1028520" y="384768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905120" y="2666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124080" y="2819520"/>
              <a:ext cx="106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0880" y="5410080"/>
              <a:ext cx="396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52280" y="4572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66880" y="2514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0880" y="41911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14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43400" y="2514600"/>
              <a:ext cx="0" cy="28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4038480" y="27428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66880" y="350532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8800" y="419112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33720" y="32767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76520" y="35812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 flipV="1">
            <a:off x="3048120" y="350496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048120" y="4038480"/>
            <a:ext cx="1066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10080" y="1371600"/>
            <a:ext cx="34290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AL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I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029200" y="3276720"/>
            <a:ext cx="3733920" cy="2491200"/>
            <a:chOff x="5029200" y="3276720"/>
            <a:chExt cx="3733920" cy="2491200"/>
          </a:xfrm>
        </p:grpSpPr>
        <p:grpSp>
          <p:nvGrpSpPr>
            <p:cNvPr id="697" name=""/>
            <p:cNvGrpSpPr/>
            <p:nvPr/>
          </p:nvGrpSpPr>
          <p:grpSpPr>
            <a:xfrm>
              <a:off x="5029200" y="3276720"/>
              <a:ext cx="3124080" cy="2437920"/>
              <a:chOff x="5029200" y="3276720"/>
              <a:chExt cx="3124080" cy="2437920"/>
            </a:xfrm>
          </p:grpSpPr>
          <p:sp>
            <p:nvSpPr>
              <p:cNvPr id="698" name=""/>
              <p:cNvSpPr/>
              <p:nvPr/>
            </p:nvSpPr>
            <p:spPr>
              <a:xfrm>
                <a:off x="5638680" y="563868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715000" y="3581280"/>
                <a:ext cx="0" cy="213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29200" y="3276720"/>
                <a:ext cx="762120" cy="49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0000">
                    <a:solidFill>
                      <a:srgbClr val="00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8153280" y="5257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4724280" y="3886200"/>
            <a:ext cx="1143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</a:rPr>
              <a:t>A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2209680"/>
            <a:ext cx="3733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 ,  V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U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</a:rPr>
              <a:t>A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5866920" y="2743200"/>
            <a:ext cx="381240" cy="12193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638680" y="4114800"/>
            <a:ext cx="152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129528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410080" y="1981080"/>
            <a:ext cx="3429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8839080" y="1294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409720" y="1295280"/>
            <a:ext cx="3429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095880" y="3048120"/>
            <a:ext cx="2057400" cy="533160"/>
          </a:xfrm>
          <a:prstGeom prst="wedgeRectCallout">
            <a:avLst>
              <a:gd name="adj1" fmla="val -69828"/>
              <a:gd name="adj2" fmla="val 155356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lo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86600" y="4724280"/>
            <a:ext cx="2057400" cy="533520"/>
          </a:xfrm>
          <a:prstGeom prst="wedgeRectCallout">
            <a:avLst>
              <a:gd name="adj1" fmla="val -42824"/>
              <a:gd name="adj2" fmla="val 119643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tu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629400" y="3809880"/>
            <a:ext cx="2514600" cy="685800"/>
          </a:xfrm>
          <a:prstGeom prst="wedgeRectCallout">
            <a:avLst>
              <a:gd name="adj1" fmla="val -58837"/>
              <a:gd name="adj2" fmla="val 93518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linéaire non utilisé en com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638680" y="4038480"/>
            <a:ext cx="152640" cy="1526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162920" y="5562720"/>
            <a:ext cx="152280" cy="152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715000" y="4114800"/>
            <a:ext cx="1523880" cy="1523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00600" y="2590920"/>
            <a:ext cx="37339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i I</a:t>
            </a:r>
            <a:r>
              <a:rPr b="1" lang="fr-FR" sz="2400" spc="-1" strike="noStrike" baseline="-20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1" lang="fr-FR" sz="2400" spc="-1" strike="noStrike" baseline="-20000">
                <a:solidFill>
                  <a:srgbClr val="000000"/>
                </a:solidFill>
                <a:latin typeface="Times New Roman"/>
              </a:rPr>
              <a:t>Csa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,  V</a:t>
            </a:r>
            <a:r>
              <a:rPr b="1" lang="fr-FR" sz="2400" spc="-1" strike="noStrike" baseline="-20000">
                <a:solidFill>
                  <a:srgbClr val="000000"/>
                </a:solidFill>
                <a:latin typeface="Times New Roman"/>
              </a:rPr>
              <a:t>C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= 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010280" y="3124080"/>
            <a:ext cx="228600" cy="22860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152280" y="2514240"/>
            <a:ext cx="4419720" cy="2895840"/>
            <a:chOff x="152280" y="2514240"/>
            <a:chExt cx="4419720" cy="2895840"/>
          </a:xfrm>
        </p:grpSpPr>
        <p:grpSp>
          <p:nvGrpSpPr>
            <p:cNvPr id="719" name=""/>
            <p:cNvGrpSpPr/>
            <p:nvPr/>
          </p:nvGrpSpPr>
          <p:grpSpPr>
            <a:xfrm>
              <a:off x="1980720" y="3657600"/>
              <a:ext cx="914760" cy="1066320"/>
              <a:chOff x="1980720" y="3657600"/>
              <a:chExt cx="914760" cy="1066320"/>
            </a:xfrm>
          </p:grpSpPr>
          <p:sp>
            <p:nvSpPr>
              <p:cNvPr id="720" name=""/>
              <p:cNvSpPr/>
              <p:nvPr/>
            </p:nvSpPr>
            <p:spPr>
              <a:xfrm>
                <a:off x="2133360" y="3797640"/>
                <a:ext cx="762120" cy="78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11200" y="393804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1980720" y="4190760"/>
                <a:ext cx="33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2311200" y="3825360"/>
                <a:ext cx="355320" cy="252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311200" y="4275000"/>
                <a:ext cx="355320" cy="28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666880" y="3657600"/>
                <a:ext cx="0" cy="16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666880" y="4555800"/>
                <a:ext cx="0" cy="168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3808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666880" y="33526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46483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2666880" y="2514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5238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8080" y="3581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9548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685800" y="43434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2120" y="4648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14600" y="266688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1028520" y="384768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05120" y="2666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124080" y="2819520"/>
              <a:ext cx="106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0880" y="5410080"/>
              <a:ext cx="3962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2280" y="4572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66880" y="2514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880" y="4191120"/>
              <a:ext cx="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114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343400" y="2514600"/>
              <a:ext cx="0" cy="28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038480" y="27428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66880" y="350532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8800" y="419112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1676520" y="35812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8600" y="1295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ant de 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ctéristiques du tran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05120" y="434340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4724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257800" y="21337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19920" y="190512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e - V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172200" y="23623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4008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257800" y="1828800"/>
            <a:ext cx="259092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27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VBE = 0,7 v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5105520" y="2209680"/>
            <a:ext cx="0" cy="13716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763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343400" y="4114800"/>
            <a:ext cx="3809880" cy="2491200"/>
            <a:chOff x="4343400" y="4114800"/>
            <a:chExt cx="3809880" cy="2491200"/>
          </a:xfrm>
        </p:grpSpPr>
        <p:sp>
          <p:nvSpPr>
            <p:cNvPr id="793" name=""/>
            <p:cNvSpPr/>
            <p:nvPr/>
          </p:nvSpPr>
          <p:spPr>
            <a:xfrm>
              <a:off x="7543800" y="60958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799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5000760" y="4770360"/>
            <a:ext cx="75960" cy="76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47880" y="6431040"/>
            <a:ext cx="7596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029200" y="4800600"/>
            <a:ext cx="0" cy="1676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 rot="16200000">
            <a:off x="2666880" y="13712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43000" y="4038480"/>
            <a:ext cx="3200400" cy="609840"/>
          </a:xfrm>
          <a:prstGeom prst="wedgeRoundRectCallout">
            <a:avLst>
              <a:gd name="adj1" fmla="val -36361"/>
              <a:gd name="adj2" fmla="val 172916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nsistor bloq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5105520" y="2285640"/>
            <a:ext cx="0" cy="121932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813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343400" y="4114800"/>
            <a:ext cx="3733920" cy="2491200"/>
            <a:chOff x="4343400" y="4114800"/>
            <a:chExt cx="3733920" cy="2491200"/>
          </a:xfrm>
        </p:grpSpPr>
        <p:sp>
          <p:nvSpPr>
            <p:cNvPr id="843" name=""/>
            <p:cNvSpPr/>
            <p:nvPr/>
          </p:nvSpPr>
          <p:spPr>
            <a:xfrm>
              <a:off x="7467480" y="60958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849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5294160" y="5067360"/>
            <a:ext cx="76320" cy="76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49200" y="6132600"/>
            <a:ext cx="7632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1280" y="289548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48320" y="2133720"/>
            <a:ext cx="0" cy="152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295280" y="61718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1722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41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5028840" y="5105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>
            <a:hlinkClick r:id="" action="ppaction://hlinkshowjump?jump=nextslide"/>
          </p:cNvPr>
          <p:cNvSpPr/>
          <p:nvPr/>
        </p:nvSpPr>
        <p:spPr>
          <a:xfrm rot="16200000">
            <a:off x="2666880" y="13712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>
            <a:hlinkClick r:id="" action="ppaction://hlinkshowjump?jump=previousslide"/>
          </p:cNvPr>
          <p:cNvSpPr/>
          <p:nvPr/>
        </p:nvSpPr>
        <p:spPr>
          <a:xfrm rot="16200000">
            <a:off x="2666880" y="18284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143000" y="4038480"/>
            <a:ext cx="2895480" cy="762120"/>
          </a:xfrm>
          <a:prstGeom prst="wedgeRoundRectCallout">
            <a:avLst>
              <a:gd name="adj1" fmla="val -25875"/>
              <a:gd name="adj2" fmla="val 151250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linéaire non utilisée en com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5105520" y="2361960"/>
            <a:ext cx="0" cy="1066680"/>
          </a:xfrm>
          <a:prstGeom prst="line">
            <a:avLst/>
          </a:prstGeom>
          <a:ln w="507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869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4343400" y="4114800"/>
            <a:ext cx="3733920" cy="2491200"/>
            <a:chOff x="4343400" y="4114800"/>
            <a:chExt cx="3733920" cy="2491200"/>
          </a:xfrm>
        </p:grpSpPr>
        <p:sp>
          <p:nvSpPr>
            <p:cNvPr id="899" name=""/>
            <p:cNvSpPr/>
            <p:nvPr/>
          </p:nvSpPr>
          <p:spPr>
            <a:xfrm>
              <a:off x="7467480" y="60958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905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599080" y="5370480"/>
            <a:ext cx="76320" cy="76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54120" y="5827680"/>
            <a:ext cx="76320" cy="76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581280" y="2895480"/>
            <a:ext cx="76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48320" y="213372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600200" y="58672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90720" y="58672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638680" y="5410080"/>
            <a:ext cx="0" cy="1067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5028840" y="54100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>
            <a:hlinkClick r:id="" action="ppaction://hlinkshowjump?jump=nextslide"/>
          </p:cNvPr>
          <p:cNvSpPr/>
          <p:nvPr/>
        </p:nvSpPr>
        <p:spPr>
          <a:xfrm rot="16200000">
            <a:off x="2666880" y="13712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>
            <a:hlinkClick r:id="" action="ppaction://hlinkshowjump?jump=previousslide"/>
          </p:cNvPr>
          <p:cNvSpPr/>
          <p:nvPr/>
        </p:nvSpPr>
        <p:spPr>
          <a:xfrm rot="16200000">
            <a:off x="2666880" y="18284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43000" y="4038480"/>
            <a:ext cx="2895480" cy="762120"/>
          </a:xfrm>
          <a:prstGeom prst="wedgeRoundRectCallout">
            <a:avLst>
              <a:gd name="adj1" fmla="val -25875"/>
              <a:gd name="adj2" fmla="val 151250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linéaire non utilisée en com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5105520" y="2438280"/>
            <a:ext cx="0" cy="99072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925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4343400" y="4114800"/>
            <a:ext cx="3733920" cy="2491200"/>
            <a:chOff x="4343400" y="4114800"/>
            <a:chExt cx="3733920" cy="2491200"/>
          </a:xfrm>
        </p:grpSpPr>
        <p:sp>
          <p:nvSpPr>
            <p:cNvPr id="955" name=""/>
            <p:cNvSpPr/>
            <p:nvPr/>
          </p:nvSpPr>
          <p:spPr>
            <a:xfrm>
              <a:off x="7467480" y="60958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961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977080" y="5748480"/>
            <a:ext cx="7596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59040" y="5508720"/>
            <a:ext cx="7596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81280" y="2895480"/>
            <a:ext cx="763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648320" y="2133720"/>
            <a:ext cx="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905120" y="556272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90720" y="55627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019920" y="57913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029200" y="5791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nextslide"/>
          </p:cNvPr>
          <p:cNvSpPr/>
          <p:nvPr/>
        </p:nvSpPr>
        <p:spPr>
          <a:xfrm rot="16200000">
            <a:off x="2666880" y="13712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 rot="16200000">
            <a:off x="2666880" y="18284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43000" y="4038480"/>
            <a:ext cx="2895480" cy="762120"/>
          </a:xfrm>
          <a:prstGeom prst="wedgeRoundRectCallout">
            <a:avLst>
              <a:gd name="adj1" fmla="val -25875"/>
              <a:gd name="adj2" fmla="val 151250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linéaire non utilisée en com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5105520" y="2514600"/>
            <a:ext cx="0" cy="8380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981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4343400" y="4114800"/>
            <a:ext cx="3733920" cy="2491200"/>
            <a:chOff x="4343400" y="4114800"/>
            <a:chExt cx="3733920" cy="2491200"/>
          </a:xfrm>
        </p:grpSpPr>
        <p:sp>
          <p:nvSpPr>
            <p:cNvPr id="1011" name=""/>
            <p:cNvSpPr/>
            <p:nvPr/>
          </p:nvSpPr>
          <p:spPr>
            <a:xfrm>
              <a:off x="7467480" y="60958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1017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"/>
          <p:cNvSpPr/>
          <p:nvPr/>
        </p:nvSpPr>
        <p:spPr>
          <a:xfrm>
            <a:off x="6354720" y="6124680"/>
            <a:ext cx="7632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163600" y="5203800"/>
            <a:ext cx="76320" cy="76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581280" y="2895480"/>
            <a:ext cx="7632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648320" y="2133720"/>
            <a:ext cx="0" cy="152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2209680" y="5257440"/>
            <a:ext cx="0" cy="12193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990720" y="525780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029200" y="61722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>
            <a:hlinkClick r:id="" action="ppaction://hlinkshowjump?jump=nextslide"/>
          </p:cNvPr>
          <p:cNvSpPr/>
          <p:nvPr/>
        </p:nvSpPr>
        <p:spPr>
          <a:xfrm rot="16200000">
            <a:off x="2666880" y="13712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>
            <a:hlinkClick r:id="" action="ppaction://hlinkshowjump?jump=previousslide"/>
          </p:cNvPr>
          <p:cNvSpPr/>
          <p:nvPr/>
        </p:nvSpPr>
        <p:spPr>
          <a:xfrm rot="16200000">
            <a:off x="2666880" y="18284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143000" y="4038480"/>
            <a:ext cx="2895480" cy="762120"/>
          </a:xfrm>
          <a:prstGeom prst="wedgeRoundRectCallout">
            <a:avLst>
              <a:gd name="adj1" fmla="val -25875"/>
              <a:gd name="adj2" fmla="val 151250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one linéaire non utilisée en comm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ise en situ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désire protéger une habitation contre les effr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0000178" descr=""/>
          <p:cNvPicPr/>
          <p:nvPr/>
        </p:nvPicPr>
        <p:blipFill>
          <a:blip r:embed="rId1"/>
          <a:stretch/>
        </p:blipFill>
        <p:spPr>
          <a:xfrm>
            <a:off x="685800" y="239868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35053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4343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 d’une alarme avec sirè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5105520" y="2514240"/>
            <a:ext cx="0" cy="7621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1037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343400" y="4114800"/>
            <a:ext cx="3733920" cy="2491200"/>
            <a:chOff x="4343400" y="4114800"/>
            <a:chExt cx="3733920" cy="2491200"/>
          </a:xfrm>
        </p:grpSpPr>
        <p:sp>
          <p:nvSpPr>
            <p:cNvPr id="1067" name=""/>
            <p:cNvSpPr/>
            <p:nvPr/>
          </p:nvSpPr>
          <p:spPr>
            <a:xfrm>
              <a:off x="7467480" y="60958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1073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6657840" y="6431040"/>
            <a:ext cx="7632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395440" y="5000760"/>
            <a:ext cx="7632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581280" y="2895480"/>
            <a:ext cx="76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648320" y="2133720"/>
            <a:ext cx="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438280" y="50292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90720" y="5029200"/>
            <a:ext cx="144756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5028840" y="647712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>
            <a:hlinkClick r:id="" action="ppaction://hlinkshowjump?jump=nextslide"/>
          </p:cNvPr>
          <p:cNvSpPr/>
          <p:nvPr/>
        </p:nvSpPr>
        <p:spPr>
          <a:xfrm rot="16200000">
            <a:off x="2666880" y="13712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>
            <a:hlinkClick r:id="" action="ppaction://hlinkshowjump?jump=previousslide"/>
          </p:cNvPr>
          <p:cNvSpPr/>
          <p:nvPr/>
        </p:nvSpPr>
        <p:spPr>
          <a:xfrm rot="16200000">
            <a:off x="2666880" y="18284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715000" y="4114800"/>
            <a:ext cx="3200400" cy="609480"/>
          </a:xfrm>
          <a:prstGeom prst="wedgeRoundRectCallout">
            <a:avLst>
              <a:gd name="adj1" fmla="val -19541"/>
              <a:gd name="adj2" fmla="val 329425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nsistor bloq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105520" y="2514240"/>
            <a:ext cx="0" cy="7621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1092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4343400" y="4114800"/>
            <a:ext cx="3733920" cy="2491200"/>
            <a:chOff x="4343400" y="4114800"/>
            <a:chExt cx="3733920" cy="2491200"/>
          </a:xfrm>
        </p:grpSpPr>
        <p:sp>
          <p:nvSpPr>
            <p:cNvPr id="1122" name=""/>
            <p:cNvSpPr/>
            <p:nvPr/>
          </p:nvSpPr>
          <p:spPr>
            <a:xfrm>
              <a:off x="7467480" y="60958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1128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6688080" y="6445080"/>
            <a:ext cx="76320" cy="76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552760" y="5000760"/>
            <a:ext cx="7632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581280" y="2895480"/>
            <a:ext cx="76320" cy="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48320" y="2133720"/>
            <a:ext cx="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2590920" y="50292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990720" y="50292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H="1">
            <a:off x="5028840" y="647712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>
            <a:hlinkClick r:id="" action="ppaction://hlinkshowjump?jump=nextslide"/>
          </p:cNvPr>
          <p:cNvSpPr/>
          <p:nvPr/>
        </p:nvSpPr>
        <p:spPr>
          <a:xfrm rot="16200000">
            <a:off x="2666880" y="13712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>
            <a:hlinkClick r:id="" action="ppaction://hlinkshowjump?jump=previousslide"/>
          </p:cNvPr>
          <p:cNvSpPr/>
          <p:nvPr/>
        </p:nvSpPr>
        <p:spPr>
          <a:xfrm rot="16200000">
            <a:off x="2666880" y="18284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15000" y="4114800"/>
            <a:ext cx="3200400" cy="609480"/>
          </a:xfrm>
          <a:prstGeom prst="wedgeRoundRectCallout">
            <a:avLst>
              <a:gd name="adj1" fmla="val -19541"/>
              <a:gd name="adj2" fmla="val 329425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nsistor bloq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380880" y="152388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re varier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105520" y="2514240"/>
            <a:ext cx="0" cy="762120"/>
          </a:xfrm>
          <a:prstGeom prst="line">
            <a:avLst/>
          </a:prstGeom>
          <a:ln w="1908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685800" y="990360"/>
            <a:ext cx="8229600" cy="2667240"/>
            <a:chOff x="685800" y="990360"/>
            <a:chExt cx="8229600" cy="2667240"/>
          </a:xfrm>
        </p:grpSpPr>
        <p:sp>
          <p:nvSpPr>
            <p:cNvPr id="1147" name=""/>
            <p:cNvSpPr/>
            <p:nvPr/>
          </p:nvSpPr>
          <p:spPr>
            <a:xfrm>
              <a:off x="4114800" y="2502000"/>
              <a:ext cx="762120" cy="787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292640" y="26431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962160" y="289548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4292640" y="2530080"/>
              <a:ext cx="35568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92640" y="2979720"/>
              <a:ext cx="355680" cy="281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236232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48320" y="326088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91440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48320" y="18288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48320" y="3276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648320" y="9903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057400" y="2895480"/>
              <a:ext cx="1905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371600" y="2133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1219320" y="2971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21932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495680" y="1143000"/>
              <a:ext cx="30492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00600" y="1143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848720" y="1600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L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14400" y="3657600"/>
              <a:ext cx="64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8580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48320" y="990720"/>
              <a:ext cx="2666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914400" y="28954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086600" y="21337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315200" y="990720"/>
              <a:ext cx="0" cy="266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7772400" y="1142640"/>
              <a:ext cx="0" cy="243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86200" y="1905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57600" y="30481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71600" y="2743200"/>
              <a:ext cx="685800" cy="304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181480" y="27432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4343400" y="4114800"/>
            <a:ext cx="3733920" cy="2491200"/>
            <a:chOff x="4343400" y="4114800"/>
            <a:chExt cx="3733920" cy="2491200"/>
          </a:xfrm>
        </p:grpSpPr>
        <p:sp>
          <p:nvSpPr>
            <p:cNvPr id="1177" name=""/>
            <p:cNvSpPr/>
            <p:nvPr/>
          </p:nvSpPr>
          <p:spPr>
            <a:xfrm>
              <a:off x="7467480" y="609588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52880" y="64771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029200" y="44197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343400" y="4114800"/>
              <a:ext cx="7621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0000">
                  <a:solidFill>
                    <a:srgbClr val="008000"/>
                  </a:solidFill>
                  <a:latin typeface="Times New Roman"/>
                </a:rPr>
                <a:t>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29200" y="4800600"/>
              <a:ext cx="1676520" cy="1676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609480" y="4114800"/>
            <a:ext cx="3353040" cy="2796120"/>
            <a:chOff x="609480" y="4114800"/>
            <a:chExt cx="3353040" cy="2796120"/>
          </a:xfrm>
        </p:grpSpPr>
        <p:sp>
          <p:nvSpPr>
            <p:cNvPr id="1183" name=""/>
            <p:cNvSpPr/>
            <p:nvPr/>
          </p:nvSpPr>
          <p:spPr>
            <a:xfrm>
              <a:off x="838080" y="6477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990720" y="449532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9480" y="4114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352680" y="64008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990720" y="5029200"/>
              <a:ext cx="1447560" cy="1447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38280" y="5029200"/>
              <a:ext cx="6098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6673680" y="6429240"/>
            <a:ext cx="76320" cy="7632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930400" y="5000760"/>
            <a:ext cx="76320" cy="7596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2895480"/>
            <a:ext cx="76320" cy="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648320" y="2133720"/>
            <a:ext cx="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971800" y="5029200"/>
            <a:ext cx="0" cy="1447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990720" y="5029200"/>
            <a:ext cx="1981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5028840" y="647712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>
            <a:hlinkClick r:id="" action="ppaction://hlinkshowjump?jump=nextslide"/>
          </p:cNvPr>
          <p:cNvSpPr/>
          <p:nvPr/>
        </p:nvSpPr>
        <p:spPr>
          <a:xfrm>
            <a:off x="8153280" y="533520"/>
            <a:ext cx="533520" cy="533160"/>
          </a:xfrm>
          <a:custGeom>
            <a:avLst/>
            <a:gdLst>
              <a:gd name="textAreaLeft" fmla="*/ 133200 w 533520"/>
              <a:gd name="textAreaRight" fmla="*/ 400320 w 53352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6215" y="5400"/>
                </a:lnTo>
                <a:lnTo>
                  <a:pt x="5400" y="5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6215" y="16200"/>
                </a:lnTo>
                <a:lnTo>
                  <a:pt x="16215" y="5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5" y="16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5" h="21600">
                <a:moveTo>
                  <a:pt x="6782" y="6775"/>
                </a:moveTo>
                <a:lnTo>
                  <a:pt x="14832" y="10800"/>
                </a:lnTo>
                <a:lnTo>
                  <a:pt x="6782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>
            <a:hlinkClick r:id="" action="ppaction://hlinkshowjump?jump=previousslide"/>
          </p:cNvPr>
          <p:cNvSpPr/>
          <p:nvPr/>
        </p:nvSpPr>
        <p:spPr>
          <a:xfrm rot="16200000">
            <a:off x="2666880" y="1828440"/>
            <a:ext cx="304920" cy="304920"/>
          </a:xfrm>
          <a:custGeom>
            <a:avLst/>
            <a:gdLst>
              <a:gd name="textAreaLeft" fmla="*/ 76320 w 304920"/>
              <a:gd name="textAreaRight" fmla="*/ 228960 w 3049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15000" y="4114800"/>
            <a:ext cx="3200400" cy="609480"/>
          </a:xfrm>
          <a:prstGeom prst="wedgeRoundRectCallout">
            <a:avLst>
              <a:gd name="adj1" fmla="val -19541"/>
              <a:gd name="adj2" fmla="val 329425"/>
              <a:gd name="adj3" fmla="val 16667"/>
            </a:avLst>
          </a:pr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0 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ransistor bloqu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1" name="">
            <a:hlinkClick r:id="rId2" action="ppaction://hlinksldjump"/>
          </p:cNvPr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ide au dépan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457200" y="380880"/>
            <a:ext cx="8153280" cy="3124440"/>
            <a:chOff x="457200" y="380880"/>
            <a:chExt cx="8153280" cy="3124440"/>
          </a:xfrm>
        </p:grpSpPr>
        <p:grpSp>
          <p:nvGrpSpPr>
            <p:cNvPr id="1203" name=""/>
            <p:cNvGrpSpPr/>
            <p:nvPr/>
          </p:nvGrpSpPr>
          <p:grpSpPr>
            <a:xfrm>
              <a:off x="457200" y="761760"/>
              <a:ext cx="7924680" cy="1624680"/>
              <a:chOff x="457200" y="761760"/>
              <a:chExt cx="7924680" cy="162468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7467480" y="761760"/>
                <a:ext cx="914400" cy="914760"/>
                <a:chOff x="7467480" y="761760"/>
                <a:chExt cx="914400" cy="91476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7467480" y="990720"/>
                  <a:ext cx="15264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543800" y="990720"/>
                  <a:ext cx="304920" cy="45720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7772400" y="990720"/>
                  <a:ext cx="15228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rot="5400000">
                  <a:off x="7582680" y="1028160"/>
                  <a:ext cx="914400" cy="382320"/>
                </a:xfrm>
                <a:custGeom>
                  <a:avLst/>
                  <a:gdLst>
                    <a:gd name="textAreaLeft" fmla="*/ 201960 w 914400"/>
                    <a:gd name="textAreaRight" fmla="*/ 712440 w 914400"/>
                    <a:gd name="textAreaTop" fmla="*/ 84240 h 382320"/>
                    <a:gd name="textAreaBottom" fmla="*/ 298080 h 38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163" y="21600"/>
                      </a:lnTo>
                      <a:lnTo>
                        <a:pt x="5437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8077320" y="762120"/>
                  <a:ext cx="304560" cy="914400"/>
                </a:xfrm>
                <a:prstGeom prst="ellipse">
                  <a:avLst/>
                </a:prstGeom>
                <a:solidFill>
                  <a:srgbClr val="33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V="1">
                  <a:off x="7848720" y="76176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848720" y="144792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7543800" y="9907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5438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7620120" y="8380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620120" y="1447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216" name=""/>
              <p:cNvCxnSpPr>
                <a:stCxn id="1217" idx="0"/>
              </p:cNvCxnSpPr>
              <p:nvPr/>
            </p:nvCxnSpPr>
            <p:spPr>
              <a:xfrm>
                <a:off x="1026720" y="1446120"/>
                <a:ext cx="940680" cy="519840"/>
              </a:xfrm>
              <a:prstGeom prst="curvedConnector5">
                <a:avLst>
                  <a:gd name="adj1" fmla="val 47970"/>
                  <a:gd name="adj2" fmla="val 49965"/>
                  <a:gd name="adj3" fmla="val 4797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grpSp>
            <p:nvGrpSpPr>
              <p:cNvPr id="1218" name=""/>
              <p:cNvGrpSpPr/>
              <p:nvPr/>
            </p:nvGrpSpPr>
            <p:grpSpPr>
              <a:xfrm>
                <a:off x="1905120" y="1523880"/>
                <a:ext cx="3886200" cy="862560"/>
                <a:chOff x="1905120" y="1523880"/>
                <a:chExt cx="3886200" cy="8625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1905120" y="1523880"/>
                  <a:ext cx="3886200" cy="862560"/>
                </a:xfrm>
                <a:prstGeom prst="rect">
                  <a:avLst/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Électronique de ges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20" name="CI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971800" y="1981080"/>
                  <a:ext cx="380880" cy="298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1" name="CI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800600" y="1600200"/>
                  <a:ext cx="76212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2" name=""/>
              <p:cNvGrpSpPr/>
              <p:nvPr/>
            </p:nvGrpSpPr>
            <p:grpSpPr>
              <a:xfrm>
                <a:off x="457200" y="914400"/>
                <a:ext cx="609480" cy="685800"/>
                <a:chOff x="457200" y="914400"/>
                <a:chExt cx="609480" cy="6858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990720" y="1066680"/>
                  <a:ext cx="75960" cy="457200"/>
                </a:xfrm>
                <a:prstGeom prst="rect">
                  <a:avLst/>
                </a:prstGeom>
                <a:solidFill>
                  <a:srgbClr val="000000"/>
                </a:solidFill>
                <a:ln w="66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rot="5400000">
                  <a:off x="723600" y="800280"/>
                  <a:ext cx="152280" cy="53316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rot="5400000">
                  <a:off x="647640" y="723600"/>
                  <a:ext cx="152280" cy="5335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 rot="5400000">
                  <a:off x="495360" y="952560"/>
                  <a:ext cx="457200" cy="5335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 rot="5400000">
                  <a:off x="647640" y="1180800"/>
                  <a:ext cx="152280" cy="53352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457200" y="9907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990720" y="9907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rot="5400000">
                  <a:off x="723600" y="1257480"/>
                  <a:ext cx="152280" cy="53316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57200" y="1447920"/>
                  <a:ext cx="76320" cy="759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990720" y="990720"/>
                  <a:ext cx="75960" cy="759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2" name=""/>
            <p:cNvGrpSpPr/>
            <p:nvPr/>
          </p:nvGrpSpPr>
          <p:grpSpPr>
            <a:xfrm>
              <a:off x="5791320" y="1676520"/>
              <a:ext cx="1143000" cy="761760"/>
              <a:chOff x="5791320" y="1676520"/>
              <a:chExt cx="1143000" cy="761760"/>
            </a:xfrm>
          </p:grpSpPr>
          <p:sp>
            <p:nvSpPr>
              <p:cNvPr id="1233" name=""/>
              <p:cNvSpPr/>
              <p:nvPr/>
            </p:nvSpPr>
            <p:spPr>
              <a:xfrm flipH="1">
                <a:off x="5791320" y="2286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095880" y="213372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0958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095880" y="2438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7816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781680" y="228600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24852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7467480" y="380880"/>
              <a:ext cx="304920" cy="456840"/>
              <a:chOff x="7467480" y="380880"/>
              <a:chExt cx="304920" cy="456840"/>
            </a:xfrm>
          </p:grpSpPr>
          <p:sp>
            <p:nvSpPr>
              <p:cNvPr id="1241" name=""/>
              <p:cNvSpPr/>
              <p:nvPr/>
            </p:nvSpPr>
            <p:spPr>
              <a:xfrm flipV="1">
                <a:off x="7620120" y="6854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43800" y="53352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620120" y="45720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467480" y="380880"/>
                <a:ext cx="304920" cy="30492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7467480" y="1523880"/>
              <a:ext cx="304920" cy="1981440"/>
              <a:chOff x="7467480" y="1523880"/>
              <a:chExt cx="304920" cy="1981440"/>
            </a:xfrm>
          </p:grpSpPr>
          <p:sp>
            <p:nvSpPr>
              <p:cNvPr id="1246" name=""/>
              <p:cNvSpPr/>
              <p:nvPr/>
            </p:nvSpPr>
            <p:spPr>
              <a:xfrm>
                <a:off x="7620120" y="15238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620120" y="28195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467480" y="3505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6933960" y="1752480"/>
              <a:ext cx="914760" cy="1067040"/>
              <a:chOff x="6933960" y="1752480"/>
              <a:chExt cx="914760" cy="1067040"/>
            </a:xfrm>
          </p:grpSpPr>
          <p:sp>
            <p:nvSpPr>
              <p:cNvPr id="1250" name=""/>
              <p:cNvSpPr/>
              <p:nvPr/>
            </p:nvSpPr>
            <p:spPr>
              <a:xfrm>
                <a:off x="7086600" y="1892520"/>
                <a:ext cx="762120" cy="786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264440" y="203292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6933960" y="2286000"/>
                <a:ext cx="33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7264440" y="1920960"/>
                <a:ext cx="355320" cy="2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264440" y="2370240"/>
                <a:ext cx="355320" cy="28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20120" y="175248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20120" y="265104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800100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" name="">
            <a:hlinkClick r:id="rId5" action="ppaction://hlinksldjump"/>
          </p:cNvPr>
          <p:cNvSpPr/>
          <p:nvPr/>
        </p:nvSpPr>
        <p:spPr>
          <a:xfrm>
            <a:off x="1295280" y="39625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rène ne se déclenche ja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>
            <a:hlinkClick r:id="" action="ppaction://hlinkshowjump?jump=nextslide"/>
          </p:cNvPr>
          <p:cNvSpPr/>
          <p:nvPr/>
        </p:nvSpPr>
        <p:spPr>
          <a:xfrm>
            <a:off x="1295280" y="4724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rène sonne en perman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>
            <a:hlinkClick r:id="rId6" action="ppaction://hlinksldjump"/>
          </p:cNvPr>
          <p:cNvSpPr/>
          <p:nvPr/>
        </p:nvSpPr>
        <p:spPr>
          <a:xfrm>
            <a:off x="838080" y="396252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900" y="2700"/>
                </a:lnTo>
                <a:lnTo>
                  <a:pt x="2700" y="27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900" y="18900"/>
                </a:lnTo>
                <a:lnTo>
                  <a:pt x="18900" y="27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18900" y="189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  <a:path fill="darken" w="21600" h="21600">
                <a:moveTo>
                  <a:pt x="10800" y="14250"/>
                </a:moveTo>
                <a:arcTo wR="1268" hR="1268" stAng="16200000" swAng="-5400000"/>
                <a:arcTo wR="1268" hR="1268" stAng="10800000" swAng="-5400000"/>
                <a:arcTo wR="1268" hR="1268" stAng="5400000" swAng="-5400000"/>
                <a:arcTo wR="1268" hR="1268" stAng="0" swAng="-5400000"/>
                <a:close/>
              </a:path>
              <a:path fill="darken" w="21600" h="21600">
                <a:moveTo>
                  <a:pt x="11753" y="13800"/>
                </a:moveTo>
                <a:lnTo>
                  <a:pt x="11753" y="12113"/>
                </a:lnTo>
                <a:cubicBezTo>
                  <a:pt x="11753" y="11400"/>
                  <a:pt x="12038" y="10800"/>
                  <a:pt x="12555" y="10800"/>
                </a:cubicBezTo>
                <a:cubicBezTo>
                  <a:pt x="13530" y="10800"/>
                  <a:pt x="14303" y="9623"/>
                  <a:pt x="14303" y="8258"/>
                </a:cubicBezTo>
                <a:cubicBezTo>
                  <a:pt x="14303" y="6263"/>
                  <a:pt x="12705" y="4763"/>
                  <a:pt x="10800" y="4763"/>
                </a:cubicBezTo>
                <a:cubicBezTo>
                  <a:pt x="8895" y="4763"/>
                  <a:pt x="7455" y="6263"/>
                  <a:pt x="7455" y="8258"/>
                </a:cubicBezTo>
                <a:lnTo>
                  <a:pt x="9053" y="8258"/>
                </a:lnTo>
                <a:cubicBezTo>
                  <a:pt x="9053" y="7275"/>
                  <a:pt x="9848" y="6510"/>
                  <a:pt x="10800" y="6510"/>
                </a:cubicBezTo>
                <a:cubicBezTo>
                  <a:pt x="11753" y="6510"/>
                  <a:pt x="12555" y="7275"/>
                  <a:pt x="12555" y="8258"/>
                </a:cubicBezTo>
                <a:cubicBezTo>
                  <a:pt x="12555" y="8895"/>
                  <a:pt x="12150" y="9525"/>
                  <a:pt x="11753" y="9525"/>
                </a:cubicBezTo>
                <a:cubicBezTo>
                  <a:pt x="10800" y="9525"/>
                  <a:pt x="9848" y="10800"/>
                  <a:pt x="9848" y="12113"/>
                </a:cubicBezTo>
                <a:lnTo>
                  <a:pt x="9848" y="13800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>
            <a:hlinkClick r:id="" action="ppaction://hlinkshowjump?jump=nextslide"/>
          </p:cNvPr>
          <p:cNvSpPr/>
          <p:nvPr/>
        </p:nvSpPr>
        <p:spPr>
          <a:xfrm>
            <a:off x="838080" y="472428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900" y="2700"/>
                </a:lnTo>
                <a:lnTo>
                  <a:pt x="2700" y="27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900" y="18900"/>
                </a:lnTo>
                <a:lnTo>
                  <a:pt x="18900" y="27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18900" y="189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  <a:path fill="darken" w="21600" h="21600">
                <a:moveTo>
                  <a:pt x="10800" y="14250"/>
                </a:moveTo>
                <a:arcTo wR="1268" hR="1268" stAng="16200000" swAng="-5400000"/>
                <a:arcTo wR="1268" hR="1268" stAng="10800000" swAng="-5400000"/>
                <a:arcTo wR="1268" hR="1268" stAng="5400000" swAng="-5400000"/>
                <a:arcTo wR="1268" hR="1268" stAng="0" swAng="-5400000"/>
                <a:close/>
              </a:path>
              <a:path fill="darken" w="21600" h="21600">
                <a:moveTo>
                  <a:pt x="11753" y="13800"/>
                </a:moveTo>
                <a:lnTo>
                  <a:pt x="11753" y="12113"/>
                </a:lnTo>
                <a:cubicBezTo>
                  <a:pt x="11753" y="11400"/>
                  <a:pt x="12038" y="10800"/>
                  <a:pt x="12555" y="10800"/>
                </a:cubicBezTo>
                <a:cubicBezTo>
                  <a:pt x="13530" y="10800"/>
                  <a:pt x="14303" y="9623"/>
                  <a:pt x="14303" y="8258"/>
                </a:cubicBezTo>
                <a:cubicBezTo>
                  <a:pt x="14303" y="6263"/>
                  <a:pt x="12705" y="4763"/>
                  <a:pt x="10800" y="4763"/>
                </a:cubicBezTo>
                <a:cubicBezTo>
                  <a:pt x="8895" y="4763"/>
                  <a:pt x="7455" y="6263"/>
                  <a:pt x="7455" y="8258"/>
                </a:cubicBezTo>
                <a:lnTo>
                  <a:pt x="9053" y="8258"/>
                </a:lnTo>
                <a:cubicBezTo>
                  <a:pt x="9053" y="7275"/>
                  <a:pt x="9848" y="6510"/>
                  <a:pt x="10800" y="6510"/>
                </a:cubicBezTo>
                <a:cubicBezTo>
                  <a:pt x="11753" y="6510"/>
                  <a:pt x="12555" y="7275"/>
                  <a:pt x="12555" y="8258"/>
                </a:cubicBezTo>
                <a:cubicBezTo>
                  <a:pt x="12555" y="8895"/>
                  <a:pt x="12150" y="9525"/>
                  <a:pt x="11753" y="9525"/>
                </a:cubicBezTo>
                <a:cubicBezTo>
                  <a:pt x="10800" y="9525"/>
                  <a:pt x="9848" y="10800"/>
                  <a:pt x="9848" y="12113"/>
                </a:cubicBezTo>
                <a:lnTo>
                  <a:pt x="9848" y="13800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>
            <a:hlinkClick r:id="" action="ppaction://hlinkshowjump?jump=lastslide"/>
          </p:cNvPr>
          <p:cNvSpPr/>
          <p:nvPr/>
        </p:nvSpPr>
        <p:spPr>
          <a:xfrm>
            <a:off x="7010280" y="4876920"/>
            <a:ext cx="1143000" cy="990360"/>
          </a:xfrm>
          <a:custGeom>
            <a:avLst/>
            <a:gdLst>
              <a:gd name="textAreaLeft" fmla="*/ 147600 w 1143000"/>
              <a:gd name="textAreaRight" fmla="*/ 995400 w 1143000"/>
              <a:gd name="textAreaTop" fmla="*/ 147600 h 990360"/>
              <a:gd name="textAreaBottom" fmla="*/ 84276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1709" y="3219"/>
                </a:lnTo>
                <a:lnTo>
                  <a:pt x="3219" y="3219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1709" y="18381"/>
                </a:lnTo>
                <a:lnTo>
                  <a:pt x="21709" y="3219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3219" y="18381"/>
                </a:lnTo>
                <a:lnTo>
                  <a:pt x="21709" y="18381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3219" y="3219"/>
                </a:lnTo>
                <a:lnTo>
                  <a:pt x="3219" y="18381"/>
                </a:lnTo>
                <a:close/>
              </a:path>
              <a:path fill="darken" w="24928" h="21600">
                <a:moveTo>
                  <a:pt x="15286" y="10800"/>
                </a:moveTo>
                <a:lnTo>
                  <a:pt x="6813" y="16451"/>
                </a:lnTo>
                <a:lnTo>
                  <a:pt x="6813" y="5149"/>
                </a:lnTo>
                <a:close/>
              </a:path>
              <a:path fill="darken" w="24928" h="21600">
                <a:moveTo>
                  <a:pt x="16774" y="5149"/>
                </a:moveTo>
                <a:lnTo>
                  <a:pt x="16774" y="16451"/>
                </a:lnTo>
                <a:lnTo>
                  <a:pt x="18115" y="16451"/>
                </a:lnTo>
                <a:lnTo>
                  <a:pt x="18115" y="5149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>
            <a:hlinkClick r:id="" action="ppaction://hlinkshowjump?jump=lastslide"/>
          </p:cNvPr>
          <p:cNvSpPr/>
          <p:nvPr/>
        </p:nvSpPr>
        <p:spPr>
          <a:xfrm>
            <a:off x="701028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5791320" y="380880"/>
            <a:ext cx="2819160" cy="3124440"/>
            <a:chOff x="5791320" y="380880"/>
            <a:chExt cx="2819160" cy="3124440"/>
          </a:xfrm>
        </p:grpSpPr>
        <p:grpSp>
          <p:nvGrpSpPr>
            <p:cNvPr id="1266" name=""/>
            <p:cNvGrpSpPr/>
            <p:nvPr/>
          </p:nvGrpSpPr>
          <p:grpSpPr>
            <a:xfrm>
              <a:off x="7467480" y="761760"/>
              <a:ext cx="914400" cy="914760"/>
              <a:chOff x="7467480" y="761760"/>
              <a:chExt cx="914400" cy="914760"/>
            </a:xfrm>
          </p:grpSpPr>
          <p:sp>
            <p:nvSpPr>
              <p:cNvPr id="1267" name=""/>
              <p:cNvSpPr/>
              <p:nvPr/>
            </p:nvSpPr>
            <p:spPr>
              <a:xfrm>
                <a:off x="7467480" y="990720"/>
                <a:ext cx="15264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543800" y="990720"/>
                <a:ext cx="304920" cy="4572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772400" y="990720"/>
                <a:ext cx="15228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5400000">
                <a:off x="7582680" y="1028160"/>
                <a:ext cx="914400" cy="382320"/>
              </a:xfrm>
              <a:custGeom>
                <a:avLst/>
                <a:gdLst>
                  <a:gd name="textAreaLeft" fmla="*/ 201960 w 914400"/>
                  <a:gd name="textAreaRight" fmla="*/ 712440 w 914400"/>
                  <a:gd name="textAreaTop" fmla="*/ 84240 h 382320"/>
                  <a:gd name="textAreaBottom" fmla="*/ 298080 h 3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63" y="21600"/>
                    </a:lnTo>
                    <a:lnTo>
                      <a:pt x="5437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077320" y="762120"/>
                <a:ext cx="304560" cy="914400"/>
              </a:xfrm>
              <a:prstGeom prst="ellipse">
                <a:avLst/>
              </a:prstGeom>
              <a:solidFill>
                <a:srgbClr val="33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V="1">
                <a:off x="7848720" y="76176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848720" y="144792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543800" y="9907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543800" y="14479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7620120" y="838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620120" y="14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5791320" y="1676520"/>
              <a:ext cx="1143000" cy="761760"/>
              <a:chOff x="5791320" y="1676520"/>
              <a:chExt cx="1143000" cy="761760"/>
            </a:xfrm>
          </p:grpSpPr>
          <p:sp>
            <p:nvSpPr>
              <p:cNvPr id="1279" name=""/>
              <p:cNvSpPr/>
              <p:nvPr/>
            </p:nvSpPr>
            <p:spPr>
              <a:xfrm flipH="1">
                <a:off x="5791320" y="2286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095880" y="213372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0958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095880" y="2438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7816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781680" y="228600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24852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6" name=""/>
            <p:cNvGrpSpPr/>
            <p:nvPr/>
          </p:nvGrpSpPr>
          <p:grpSpPr>
            <a:xfrm>
              <a:off x="7467480" y="380880"/>
              <a:ext cx="304920" cy="456840"/>
              <a:chOff x="7467480" y="380880"/>
              <a:chExt cx="304920" cy="456840"/>
            </a:xfrm>
          </p:grpSpPr>
          <p:sp>
            <p:nvSpPr>
              <p:cNvPr id="1287" name=""/>
              <p:cNvSpPr/>
              <p:nvPr/>
            </p:nvSpPr>
            <p:spPr>
              <a:xfrm flipV="1">
                <a:off x="7620120" y="6854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543800" y="53352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620120" y="45720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467480" y="380880"/>
                <a:ext cx="304920" cy="30492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7467480" y="1523880"/>
              <a:ext cx="304920" cy="1981440"/>
              <a:chOff x="7467480" y="1523880"/>
              <a:chExt cx="304920" cy="1981440"/>
            </a:xfrm>
          </p:grpSpPr>
          <p:sp>
            <p:nvSpPr>
              <p:cNvPr id="1292" name=""/>
              <p:cNvSpPr/>
              <p:nvPr/>
            </p:nvSpPr>
            <p:spPr>
              <a:xfrm>
                <a:off x="7620120" y="15238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20120" y="28195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67480" y="3505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"/>
            <p:cNvGrpSpPr/>
            <p:nvPr/>
          </p:nvGrpSpPr>
          <p:grpSpPr>
            <a:xfrm>
              <a:off x="6933960" y="1752480"/>
              <a:ext cx="914760" cy="1067040"/>
              <a:chOff x="6933960" y="1752480"/>
              <a:chExt cx="914760" cy="1067040"/>
            </a:xfrm>
          </p:grpSpPr>
          <p:sp>
            <p:nvSpPr>
              <p:cNvPr id="1296" name=""/>
              <p:cNvSpPr/>
              <p:nvPr/>
            </p:nvSpPr>
            <p:spPr>
              <a:xfrm>
                <a:off x="7086600" y="1892520"/>
                <a:ext cx="762120" cy="786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264440" y="203292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>
                <a:off x="6933960" y="2286000"/>
                <a:ext cx="33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7264440" y="1920960"/>
                <a:ext cx="355320" cy="2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264440" y="2370240"/>
                <a:ext cx="355320" cy="28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620120" y="175248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620120" y="265104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"/>
            <p:cNvSpPr/>
            <p:nvPr/>
          </p:nvSpPr>
          <p:spPr>
            <a:xfrm>
              <a:off x="800100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>
            <a:hlinkClick r:id="rId2" action="ppaction://hlinksldjump"/>
          </p:cNvPr>
          <p:cNvSpPr/>
          <p:nvPr/>
        </p:nvSpPr>
        <p:spPr>
          <a:xfrm>
            <a:off x="304920" y="1600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isole une partie de la structu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>
            <a:hlinkClick r:id="" action="ppaction://hlinkshowjump?jump=nextslide"/>
          </p:cNvPr>
          <p:cNvSpPr/>
          <p:nvPr/>
        </p:nvSpPr>
        <p:spPr>
          <a:xfrm>
            <a:off x="838080" y="472428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900" y="2700"/>
                </a:lnTo>
                <a:lnTo>
                  <a:pt x="2700" y="27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900" y="18900"/>
                </a:lnTo>
                <a:lnTo>
                  <a:pt x="18900" y="27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18900" y="189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  <a:path fill="darken" w="21600" h="21600">
                <a:moveTo>
                  <a:pt x="10800" y="14250"/>
                </a:moveTo>
                <a:arcTo wR="1268" hR="1268" stAng="16200000" swAng="-5400000"/>
                <a:arcTo wR="1268" hR="1268" stAng="10800000" swAng="-5400000"/>
                <a:arcTo wR="1268" hR="1268" stAng="5400000" swAng="-5400000"/>
                <a:arcTo wR="1268" hR="1268" stAng="0" swAng="-5400000"/>
                <a:close/>
              </a:path>
              <a:path fill="darken" w="21600" h="21600">
                <a:moveTo>
                  <a:pt x="11753" y="13800"/>
                </a:moveTo>
                <a:lnTo>
                  <a:pt x="11753" y="12113"/>
                </a:lnTo>
                <a:cubicBezTo>
                  <a:pt x="11753" y="11400"/>
                  <a:pt x="12038" y="10800"/>
                  <a:pt x="12555" y="10800"/>
                </a:cubicBezTo>
                <a:cubicBezTo>
                  <a:pt x="13530" y="10800"/>
                  <a:pt x="14303" y="9623"/>
                  <a:pt x="14303" y="8258"/>
                </a:cubicBezTo>
                <a:cubicBezTo>
                  <a:pt x="14303" y="6263"/>
                  <a:pt x="12705" y="4763"/>
                  <a:pt x="10800" y="4763"/>
                </a:cubicBezTo>
                <a:cubicBezTo>
                  <a:pt x="8895" y="4763"/>
                  <a:pt x="7455" y="6263"/>
                  <a:pt x="7455" y="8258"/>
                </a:cubicBezTo>
                <a:lnTo>
                  <a:pt x="9053" y="8258"/>
                </a:lnTo>
                <a:cubicBezTo>
                  <a:pt x="9053" y="7275"/>
                  <a:pt x="9848" y="6510"/>
                  <a:pt x="10800" y="6510"/>
                </a:cubicBezTo>
                <a:cubicBezTo>
                  <a:pt x="11753" y="6510"/>
                  <a:pt x="12555" y="7275"/>
                  <a:pt x="12555" y="8258"/>
                </a:cubicBezTo>
                <a:cubicBezTo>
                  <a:pt x="12555" y="8895"/>
                  <a:pt x="12150" y="9525"/>
                  <a:pt x="11753" y="9525"/>
                </a:cubicBezTo>
                <a:cubicBezTo>
                  <a:pt x="10800" y="9525"/>
                  <a:pt x="9848" y="10800"/>
                  <a:pt x="9848" y="12113"/>
                </a:cubicBezTo>
                <a:lnTo>
                  <a:pt x="9848" y="13800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>
            <a:hlinkClick r:id="rId3" action="ppaction://hlinksldjump"/>
          </p:cNvPr>
          <p:cNvSpPr/>
          <p:nvPr/>
        </p:nvSpPr>
        <p:spPr>
          <a:xfrm>
            <a:off x="0" y="3886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rène ne sonne plu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électronique de gestion défectu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nextslide"/>
          </p:cNvPr>
          <p:cNvSpPr/>
          <p:nvPr/>
        </p:nvSpPr>
        <p:spPr>
          <a:xfrm>
            <a:off x="1295280" y="4724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rène sonne tou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>
            <a:hlinkClick r:id="rId4" action="ppaction://hlinksldjump"/>
          </p:cNvPr>
          <p:cNvSpPr/>
          <p:nvPr/>
        </p:nvSpPr>
        <p:spPr>
          <a:xfrm>
            <a:off x="8305920" y="3886200"/>
            <a:ext cx="533160" cy="533520"/>
          </a:xfrm>
          <a:custGeom>
            <a:avLst/>
            <a:gdLst>
              <a:gd name="textAreaLeft" fmla="*/ 77760 w 533160"/>
              <a:gd name="textAreaRight" fmla="*/ 455400 w 533160"/>
              <a:gd name="textAreaTop" fmla="*/ 77760 h 533520"/>
              <a:gd name="textAreaBottom" fmla="*/ 4557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18450" y="18465"/>
                </a:lnTo>
                <a:lnTo>
                  <a:pt x="18450" y="315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3150" y="18465"/>
                </a:lnTo>
                <a:lnTo>
                  <a:pt x="18450" y="1846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65"/>
                </a:lnTo>
                <a:close/>
              </a:path>
              <a:path fill="darken" w="21600" h="21615">
                <a:moveTo>
                  <a:pt x="7953" y="10807"/>
                </a:moveTo>
                <a:lnTo>
                  <a:pt x="16502" y="5105"/>
                </a:lnTo>
                <a:lnTo>
                  <a:pt x="16502" y="16509"/>
                </a:lnTo>
                <a:close/>
              </a:path>
              <a:path fill="darken" w="21600" h="21615">
                <a:moveTo>
                  <a:pt x="5098" y="5105"/>
                </a:moveTo>
                <a:lnTo>
                  <a:pt x="6451" y="5105"/>
                </a:lnTo>
                <a:lnTo>
                  <a:pt x="6451" y="16509"/>
                </a:lnTo>
                <a:lnTo>
                  <a:pt x="5098" y="16509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>
            <a:hlinkClick r:id="rId5" action="ppaction://hlinksldjump"/>
          </p:cNvPr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ide au dépan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"/>
          <p:cNvGrpSpPr/>
          <p:nvPr/>
        </p:nvGrpSpPr>
        <p:grpSpPr>
          <a:xfrm>
            <a:off x="1294920" y="2971800"/>
            <a:ext cx="914760" cy="1066320"/>
            <a:chOff x="1294920" y="2971800"/>
            <a:chExt cx="914760" cy="1066320"/>
          </a:xfrm>
        </p:grpSpPr>
        <p:sp>
          <p:nvSpPr>
            <p:cNvPr id="1313" name=""/>
            <p:cNvSpPr/>
            <p:nvPr/>
          </p:nvSpPr>
          <p:spPr>
            <a:xfrm>
              <a:off x="1447560" y="3111840"/>
              <a:ext cx="762120" cy="785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25400" y="325224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1294920" y="350496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1625400" y="3139560"/>
              <a:ext cx="355320" cy="25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25400" y="3589200"/>
              <a:ext cx="355320" cy="28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981080" y="297180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981080" y="3870000"/>
              <a:ext cx="0" cy="16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0" name="">
            <a:hlinkClick r:id="rId2" action="ppaction://hlinksldjump"/>
          </p:cNvPr>
          <p:cNvSpPr/>
          <p:nvPr/>
        </p:nvSpPr>
        <p:spPr>
          <a:xfrm>
            <a:off x="7696080" y="4952880"/>
            <a:ext cx="533520" cy="533520"/>
          </a:xfrm>
          <a:custGeom>
            <a:avLst/>
            <a:gdLst>
              <a:gd name="textAreaLeft" fmla="*/ 77760 w 533520"/>
              <a:gd name="textAreaRight" fmla="*/ 455760 w 533520"/>
              <a:gd name="textAreaTop" fmla="*/ 77760 h 533520"/>
              <a:gd name="textAreaBottom" fmla="*/ 455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450" y="18450"/>
                </a:lnTo>
                <a:lnTo>
                  <a:pt x="18450" y="31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18450" y="184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  <a:path fill="darken" w="21600" h="21600">
                <a:moveTo>
                  <a:pt x="7953" y="10800"/>
                </a:moveTo>
                <a:lnTo>
                  <a:pt x="16502" y="5098"/>
                </a:lnTo>
                <a:lnTo>
                  <a:pt x="16502" y="16502"/>
                </a:lnTo>
                <a:close/>
              </a:path>
              <a:path fill="darken" w="21600" h="21600">
                <a:moveTo>
                  <a:pt x="5098" y="5098"/>
                </a:moveTo>
                <a:lnTo>
                  <a:pt x="6451" y="5098"/>
                </a:lnTo>
                <a:lnTo>
                  <a:pt x="6451" y="16502"/>
                </a:lnTo>
                <a:lnTo>
                  <a:pt x="5098" y="16502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>
            <a:hlinkClick r:id="rId3" action="ppaction://hlinksldjump"/>
          </p:cNvPr>
          <p:cNvSpPr/>
          <p:nvPr/>
        </p:nvSpPr>
        <p:spPr>
          <a:xfrm>
            <a:off x="990720" y="129528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transistor est défectueu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 est en court-circuit entre collecteur et émet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62120" y="4800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peut le vérifier à l’aide d’un ohm-mè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3429000" y="3276720"/>
            <a:ext cx="1295280" cy="581400"/>
            <a:chOff x="3429000" y="3276720"/>
            <a:chExt cx="1295280" cy="581400"/>
          </a:xfrm>
        </p:grpSpPr>
        <p:sp>
          <p:nvSpPr>
            <p:cNvPr id="1324" name=""/>
            <p:cNvSpPr/>
            <p:nvPr/>
          </p:nvSpPr>
          <p:spPr>
            <a:xfrm>
              <a:off x="3429000" y="3276720"/>
              <a:ext cx="1295280" cy="5814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505320" y="3352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505320" y="3657600"/>
              <a:ext cx="152280" cy="152280"/>
            </a:xfrm>
            <a:prstGeom prst="ellipse">
              <a:avLst/>
            </a:prstGeom>
            <a:solidFill>
              <a:srgbClr val="00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 flipH="1">
            <a:off x="1980720" y="29718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581280" y="29718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581280" y="3733920"/>
            <a:ext cx="0" cy="30456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980720" y="4038480"/>
            <a:ext cx="1600200" cy="0"/>
          </a:xfrm>
          <a:prstGeom prst="line">
            <a:avLst/>
          </a:prstGeom>
          <a:ln w="284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ide au dépan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3" name="">
            <a:hlinkClick r:id="rId4" action="ppaction://hlinksldjump"/>
          </p:cNvPr>
          <p:cNvSpPr/>
          <p:nvPr/>
        </p:nvSpPr>
        <p:spPr>
          <a:xfrm>
            <a:off x="480060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sistance quasiment null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6781680" y="1447920"/>
            <a:ext cx="914400" cy="1828800"/>
            <a:chOff x="6781680" y="1447920"/>
            <a:chExt cx="914400" cy="1828800"/>
          </a:xfrm>
        </p:grpSpPr>
        <p:grpSp>
          <p:nvGrpSpPr>
            <p:cNvPr id="1336" name=""/>
            <p:cNvGrpSpPr/>
            <p:nvPr/>
          </p:nvGrpSpPr>
          <p:grpSpPr>
            <a:xfrm>
              <a:off x="6781680" y="1828440"/>
              <a:ext cx="914400" cy="914760"/>
              <a:chOff x="6781680" y="1828440"/>
              <a:chExt cx="914400" cy="914760"/>
            </a:xfrm>
          </p:grpSpPr>
          <p:sp>
            <p:nvSpPr>
              <p:cNvPr id="1337" name=""/>
              <p:cNvSpPr/>
              <p:nvPr/>
            </p:nvSpPr>
            <p:spPr>
              <a:xfrm>
                <a:off x="6781680" y="2057400"/>
                <a:ext cx="15264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858000" y="2057400"/>
                <a:ext cx="304920" cy="4572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086600" y="2057400"/>
                <a:ext cx="15228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5400000">
                <a:off x="6896880" y="2094840"/>
                <a:ext cx="914400" cy="382320"/>
              </a:xfrm>
              <a:custGeom>
                <a:avLst/>
                <a:gdLst>
                  <a:gd name="textAreaLeft" fmla="*/ 201960 w 914400"/>
                  <a:gd name="textAreaRight" fmla="*/ 712440 w 914400"/>
                  <a:gd name="textAreaTop" fmla="*/ 84240 h 382320"/>
                  <a:gd name="textAreaBottom" fmla="*/ 298080 h 3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63" y="21600"/>
                    </a:lnTo>
                    <a:lnTo>
                      <a:pt x="5437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391520" y="1828800"/>
                <a:ext cx="304560" cy="914400"/>
              </a:xfrm>
              <a:prstGeom prst="ellipse">
                <a:avLst/>
              </a:prstGeom>
              <a:solidFill>
                <a:srgbClr val="33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V="1">
                <a:off x="7162920" y="182844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62920" y="251460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858000" y="20574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858000" y="251460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6934320" y="190476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934320" y="25146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6781680" y="1447920"/>
              <a:ext cx="304560" cy="456840"/>
              <a:chOff x="6781680" y="1447920"/>
              <a:chExt cx="304560" cy="456840"/>
            </a:xfrm>
          </p:grpSpPr>
          <p:sp>
            <p:nvSpPr>
              <p:cNvPr id="1349" name=""/>
              <p:cNvSpPr/>
              <p:nvPr/>
            </p:nvSpPr>
            <p:spPr>
              <a:xfrm flipV="1">
                <a:off x="6933960" y="175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857640" y="1600560"/>
                <a:ext cx="151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933960" y="152424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781680" y="1447920"/>
                <a:ext cx="304560" cy="30492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6933960" y="2590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781680" y="32767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5" name=""/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ide au dépan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>
            <a:hlinkClick r:id="" action="ppaction://hlinkshowjump?jump=nextslide"/>
          </p:cNvPr>
          <p:cNvSpPr/>
          <p:nvPr/>
        </p:nvSpPr>
        <p:spPr>
          <a:xfrm>
            <a:off x="838080" y="472428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900" y="2700"/>
                </a:lnTo>
                <a:lnTo>
                  <a:pt x="2700" y="27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900" y="18900"/>
                </a:lnTo>
                <a:lnTo>
                  <a:pt x="18900" y="27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18900" y="189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  <a:path fill="darken" w="21600" h="21600">
                <a:moveTo>
                  <a:pt x="10800" y="14250"/>
                </a:moveTo>
                <a:arcTo wR="1268" hR="1268" stAng="16200000" swAng="-5400000"/>
                <a:arcTo wR="1268" hR="1268" stAng="10800000" swAng="-5400000"/>
                <a:arcTo wR="1268" hR="1268" stAng="5400000" swAng="-5400000"/>
                <a:arcTo wR="1268" hR="1268" stAng="0" swAng="-5400000"/>
                <a:close/>
              </a:path>
              <a:path fill="darken" w="21600" h="21600">
                <a:moveTo>
                  <a:pt x="11753" y="13800"/>
                </a:moveTo>
                <a:lnTo>
                  <a:pt x="11753" y="12113"/>
                </a:lnTo>
                <a:cubicBezTo>
                  <a:pt x="11753" y="11400"/>
                  <a:pt x="12038" y="10800"/>
                  <a:pt x="12555" y="10800"/>
                </a:cubicBezTo>
                <a:cubicBezTo>
                  <a:pt x="13530" y="10800"/>
                  <a:pt x="14303" y="9623"/>
                  <a:pt x="14303" y="8258"/>
                </a:cubicBezTo>
                <a:cubicBezTo>
                  <a:pt x="14303" y="6263"/>
                  <a:pt x="12705" y="4763"/>
                  <a:pt x="10800" y="4763"/>
                </a:cubicBezTo>
                <a:cubicBezTo>
                  <a:pt x="8895" y="4763"/>
                  <a:pt x="7455" y="6263"/>
                  <a:pt x="7455" y="8258"/>
                </a:cubicBezTo>
                <a:lnTo>
                  <a:pt x="9053" y="8258"/>
                </a:lnTo>
                <a:cubicBezTo>
                  <a:pt x="9053" y="7275"/>
                  <a:pt x="9848" y="6510"/>
                  <a:pt x="10800" y="6510"/>
                </a:cubicBezTo>
                <a:cubicBezTo>
                  <a:pt x="11753" y="6510"/>
                  <a:pt x="12555" y="7275"/>
                  <a:pt x="12555" y="8258"/>
                </a:cubicBezTo>
                <a:cubicBezTo>
                  <a:pt x="12555" y="8895"/>
                  <a:pt x="12150" y="9525"/>
                  <a:pt x="11753" y="9525"/>
                </a:cubicBezTo>
                <a:cubicBezTo>
                  <a:pt x="10800" y="9525"/>
                  <a:pt x="9848" y="10800"/>
                  <a:pt x="9848" y="12113"/>
                </a:cubicBezTo>
                <a:lnTo>
                  <a:pt x="9848" y="13800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>
            <a:hlinkClick r:id="" action="ppaction://hlinkshowjump?jump=nextslide"/>
          </p:cNvPr>
          <p:cNvSpPr/>
          <p:nvPr/>
        </p:nvSpPr>
        <p:spPr>
          <a:xfrm>
            <a:off x="1295280" y="4724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rène foncti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5800" y="2286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branche la sirène en direc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905120" y="3886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 de s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a sirène est défectu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3886200"/>
            <a:ext cx="533520" cy="533520"/>
          </a:xfrm>
          <a:custGeom>
            <a:avLst/>
            <a:gdLst>
              <a:gd name="textAreaLeft" fmla="*/ 77760 w 533520"/>
              <a:gd name="textAreaRight" fmla="*/ 455760 w 533520"/>
              <a:gd name="textAreaTop" fmla="*/ 77760 h 533520"/>
              <a:gd name="textAreaBottom" fmla="*/ 455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450" y="18450"/>
                </a:lnTo>
                <a:lnTo>
                  <a:pt x="18450" y="31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18450" y="184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  <a:path fill="darken" w="21600" h="21600">
                <a:moveTo>
                  <a:pt x="7953" y="10800"/>
                </a:moveTo>
                <a:lnTo>
                  <a:pt x="16502" y="5098"/>
                </a:lnTo>
                <a:lnTo>
                  <a:pt x="16502" y="16502"/>
                </a:lnTo>
                <a:close/>
              </a:path>
              <a:path fill="darken" w="21600" h="21600">
                <a:moveTo>
                  <a:pt x="5098" y="5098"/>
                </a:moveTo>
                <a:lnTo>
                  <a:pt x="6451" y="5098"/>
                </a:lnTo>
                <a:lnTo>
                  <a:pt x="6451" y="16502"/>
                </a:lnTo>
                <a:lnTo>
                  <a:pt x="5098" y="16502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5791320" y="380880"/>
            <a:ext cx="2819160" cy="3124440"/>
            <a:chOff x="5791320" y="380880"/>
            <a:chExt cx="2819160" cy="3124440"/>
          </a:xfrm>
        </p:grpSpPr>
        <p:grpSp>
          <p:nvGrpSpPr>
            <p:cNvPr id="1364" name=""/>
            <p:cNvGrpSpPr/>
            <p:nvPr/>
          </p:nvGrpSpPr>
          <p:grpSpPr>
            <a:xfrm>
              <a:off x="7467480" y="761760"/>
              <a:ext cx="914400" cy="914760"/>
              <a:chOff x="7467480" y="761760"/>
              <a:chExt cx="914400" cy="914760"/>
            </a:xfrm>
          </p:grpSpPr>
          <p:sp>
            <p:nvSpPr>
              <p:cNvPr id="1365" name=""/>
              <p:cNvSpPr/>
              <p:nvPr/>
            </p:nvSpPr>
            <p:spPr>
              <a:xfrm>
                <a:off x="7467480" y="990720"/>
                <a:ext cx="15264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543800" y="990720"/>
                <a:ext cx="304920" cy="4572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772400" y="990720"/>
                <a:ext cx="15228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5400000">
                <a:off x="7582680" y="1028160"/>
                <a:ext cx="914400" cy="382320"/>
              </a:xfrm>
              <a:custGeom>
                <a:avLst/>
                <a:gdLst>
                  <a:gd name="textAreaLeft" fmla="*/ 201960 w 914400"/>
                  <a:gd name="textAreaRight" fmla="*/ 712440 w 914400"/>
                  <a:gd name="textAreaTop" fmla="*/ 84240 h 382320"/>
                  <a:gd name="textAreaBottom" fmla="*/ 298080 h 3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63" y="21600"/>
                    </a:lnTo>
                    <a:lnTo>
                      <a:pt x="5437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77320" y="762120"/>
                <a:ext cx="304560" cy="914400"/>
              </a:xfrm>
              <a:prstGeom prst="ellipse">
                <a:avLst/>
              </a:prstGeom>
              <a:solidFill>
                <a:srgbClr val="33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7848720" y="76176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848720" y="144792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543800" y="9907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543800" y="14479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7620120" y="838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620120" y="14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5791320" y="1676520"/>
              <a:ext cx="1143000" cy="761760"/>
              <a:chOff x="5791320" y="1676520"/>
              <a:chExt cx="1143000" cy="761760"/>
            </a:xfrm>
          </p:grpSpPr>
          <p:sp>
            <p:nvSpPr>
              <p:cNvPr id="1377" name=""/>
              <p:cNvSpPr/>
              <p:nvPr/>
            </p:nvSpPr>
            <p:spPr>
              <a:xfrm flipH="1">
                <a:off x="5791320" y="2286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095880" y="213372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0958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095880" y="2438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7816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781680" y="228600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24852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"/>
            <p:cNvGrpSpPr/>
            <p:nvPr/>
          </p:nvGrpSpPr>
          <p:grpSpPr>
            <a:xfrm>
              <a:off x="7467480" y="380880"/>
              <a:ext cx="304920" cy="456840"/>
              <a:chOff x="7467480" y="380880"/>
              <a:chExt cx="304920" cy="456840"/>
            </a:xfrm>
          </p:grpSpPr>
          <p:sp>
            <p:nvSpPr>
              <p:cNvPr id="1385" name=""/>
              <p:cNvSpPr/>
              <p:nvPr/>
            </p:nvSpPr>
            <p:spPr>
              <a:xfrm flipV="1">
                <a:off x="7620120" y="6854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543800" y="53352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620120" y="45720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467480" y="380880"/>
                <a:ext cx="304920" cy="30492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7467480" y="1523880"/>
              <a:ext cx="304920" cy="1981440"/>
              <a:chOff x="7467480" y="1523880"/>
              <a:chExt cx="304920" cy="1981440"/>
            </a:xfrm>
          </p:grpSpPr>
          <p:sp>
            <p:nvSpPr>
              <p:cNvPr id="1390" name=""/>
              <p:cNvSpPr/>
              <p:nvPr/>
            </p:nvSpPr>
            <p:spPr>
              <a:xfrm>
                <a:off x="7620120" y="15238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620120" y="28195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467480" y="3505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6933960" y="1752480"/>
              <a:ext cx="914760" cy="1067040"/>
              <a:chOff x="6933960" y="1752480"/>
              <a:chExt cx="914760" cy="1067040"/>
            </a:xfrm>
          </p:grpSpPr>
          <p:sp>
            <p:nvSpPr>
              <p:cNvPr id="1394" name=""/>
              <p:cNvSpPr/>
              <p:nvPr/>
            </p:nvSpPr>
            <p:spPr>
              <a:xfrm>
                <a:off x="7086600" y="1892520"/>
                <a:ext cx="762120" cy="786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4440" y="203292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H="1">
                <a:off x="6933960" y="2286000"/>
                <a:ext cx="33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7264440" y="1920960"/>
                <a:ext cx="355320" cy="2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264440" y="2370240"/>
                <a:ext cx="355320" cy="28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0120" y="175248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620120" y="265104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"/>
            <p:cNvSpPr/>
            <p:nvPr/>
          </p:nvSpPr>
          <p:spPr>
            <a:xfrm>
              <a:off x="800100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2" name="">
            <a:hlinkClick r:id="rId2" action="ppaction://hlinksldjump"/>
          </p:cNvPr>
          <p:cNvSpPr/>
          <p:nvPr/>
        </p:nvSpPr>
        <p:spPr>
          <a:xfrm>
            <a:off x="304920" y="16002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isole une partie de la structu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 on applique 5 v en entré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>
            <a:hlinkClick r:id="" action="ppaction://hlinkshowjump?jump=nextslide"/>
          </p:cNvPr>
          <p:cNvSpPr/>
          <p:nvPr/>
        </p:nvSpPr>
        <p:spPr>
          <a:xfrm>
            <a:off x="838080" y="4724280"/>
            <a:ext cx="457200" cy="45720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457200"/>
              <a:gd name="textAreaBottom" fmla="*/ 400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900" y="2700"/>
                </a:lnTo>
                <a:lnTo>
                  <a:pt x="2700" y="27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900" y="18900"/>
                </a:lnTo>
                <a:lnTo>
                  <a:pt x="18900" y="27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700" y="18900"/>
                </a:lnTo>
                <a:lnTo>
                  <a:pt x="18900" y="189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700" y="2700"/>
                </a:lnTo>
                <a:lnTo>
                  <a:pt x="2700" y="18900"/>
                </a:lnTo>
                <a:close/>
              </a:path>
              <a:path fill="darken" w="21600" h="21600">
                <a:moveTo>
                  <a:pt x="10800" y="14250"/>
                </a:moveTo>
                <a:arcTo wR="1268" hR="1268" stAng="16200000" swAng="-5400000"/>
                <a:arcTo wR="1268" hR="1268" stAng="10800000" swAng="-5400000"/>
                <a:arcTo wR="1268" hR="1268" stAng="5400000" swAng="-5400000"/>
                <a:arcTo wR="1268" hR="1268" stAng="0" swAng="-5400000"/>
                <a:close/>
              </a:path>
              <a:path fill="darken" w="21600" h="21600">
                <a:moveTo>
                  <a:pt x="11753" y="13800"/>
                </a:moveTo>
                <a:lnTo>
                  <a:pt x="11753" y="12113"/>
                </a:lnTo>
                <a:cubicBezTo>
                  <a:pt x="11753" y="11400"/>
                  <a:pt x="12038" y="10800"/>
                  <a:pt x="12555" y="10800"/>
                </a:cubicBezTo>
                <a:cubicBezTo>
                  <a:pt x="13530" y="10800"/>
                  <a:pt x="14303" y="9623"/>
                  <a:pt x="14303" y="8258"/>
                </a:cubicBezTo>
                <a:cubicBezTo>
                  <a:pt x="14303" y="6263"/>
                  <a:pt x="12705" y="4763"/>
                  <a:pt x="10800" y="4763"/>
                </a:cubicBezTo>
                <a:cubicBezTo>
                  <a:pt x="8895" y="4763"/>
                  <a:pt x="7455" y="6263"/>
                  <a:pt x="7455" y="8258"/>
                </a:cubicBezTo>
                <a:lnTo>
                  <a:pt x="9053" y="8258"/>
                </a:lnTo>
                <a:cubicBezTo>
                  <a:pt x="9053" y="7275"/>
                  <a:pt x="9848" y="6510"/>
                  <a:pt x="10800" y="6510"/>
                </a:cubicBezTo>
                <a:cubicBezTo>
                  <a:pt x="11753" y="6510"/>
                  <a:pt x="12555" y="7275"/>
                  <a:pt x="12555" y="8258"/>
                </a:cubicBezTo>
                <a:cubicBezTo>
                  <a:pt x="12555" y="8895"/>
                  <a:pt x="12150" y="9525"/>
                  <a:pt x="11753" y="9525"/>
                </a:cubicBezTo>
                <a:cubicBezTo>
                  <a:pt x="10800" y="9525"/>
                  <a:pt x="9848" y="10800"/>
                  <a:pt x="9848" y="12113"/>
                </a:cubicBezTo>
                <a:lnTo>
                  <a:pt x="9848" y="13800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>
            <a:hlinkClick r:id="rId3" action="ppaction://hlinksldjump"/>
          </p:cNvPr>
          <p:cNvSpPr/>
          <p:nvPr/>
        </p:nvSpPr>
        <p:spPr>
          <a:xfrm>
            <a:off x="457200" y="38862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rène sonn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électronique de gestion défectu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>
            <a:hlinkClick r:id="" action="ppaction://hlinkshowjump?jump=nextslide"/>
          </p:cNvPr>
          <p:cNvSpPr/>
          <p:nvPr/>
        </p:nvSpPr>
        <p:spPr>
          <a:xfrm>
            <a:off x="1295280" y="4724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sirène ne sonne toujours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>
            <a:hlinkClick r:id="rId4" action="ppaction://hlinksldjump"/>
          </p:cNvPr>
          <p:cNvSpPr/>
          <p:nvPr/>
        </p:nvSpPr>
        <p:spPr>
          <a:xfrm>
            <a:off x="7848720" y="3886200"/>
            <a:ext cx="533160" cy="533520"/>
          </a:xfrm>
          <a:custGeom>
            <a:avLst/>
            <a:gdLst>
              <a:gd name="textAreaLeft" fmla="*/ 77760 w 533160"/>
              <a:gd name="textAreaRight" fmla="*/ 455400 w 533160"/>
              <a:gd name="textAreaTop" fmla="*/ 77760 h 533520"/>
              <a:gd name="textAreaBottom" fmla="*/ 4557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18450" y="18465"/>
                </a:lnTo>
                <a:lnTo>
                  <a:pt x="18450" y="315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3150" y="18465"/>
                </a:lnTo>
                <a:lnTo>
                  <a:pt x="18450" y="1846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65"/>
                </a:lnTo>
                <a:close/>
              </a:path>
              <a:path fill="darken" w="21600" h="21615">
                <a:moveTo>
                  <a:pt x="7953" y="10807"/>
                </a:moveTo>
                <a:lnTo>
                  <a:pt x="16502" y="5105"/>
                </a:lnTo>
                <a:lnTo>
                  <a:pt x="16502" y="16509"/>
                </a:lnTo>
                <a:close/>
              </a:path>
              <a:path fill="darken" w="21600" h="21615">
                <a:moveTo>
                  <a:pt x="5098" y="5105"/>
                </a:moveTo>
                <a:lnTo>
                  <a:pt x="6451" y="5105"/>
                </a:lnTo>
                <a:lnTo>
                  <a:pt x="6451" y="16509"/>
                </a:lnTo>
                <a:lnTo>
                  <a:pt x="5098" y="16509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>
            <a:hlinkClick r:id="rId5" action="ppaction://hlinksldjump"/>
          </p:cNvPr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ide au dépan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V="1">
            <a:off x="5791320" y="2438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638680" y="3505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105520" y="2743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rId2" action="ppaction://hlinksldjump"/>
          </p:cNvPr>
          <p:cNvSpPr/>
          <p:nvPr/>
        </p:nvSpPr>
        <p:spPr>
          <a:xfrm>
            <a:off x="380880" y="388620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= 0 v </a:t>
            </a:r>
            <a:r>
              <a:rPr b="1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la résistance Rb doit être cou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80880" y="472428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0,7 v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 transistor est coupé, il est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781680" y="3886200"/>
            <a:ext cx="533520" cy="533520"/>
          </a:xfrm>
          <a:custGeom>
            <a:avLst/>
            <a:gdLst>
              <a:gd name="textAreaLeft" fmla="*/ 77760 w 533520"/>
              <a:gd name="textAreaRight" fmla="*/ 455760 w 533520"/>
              <a:gd name="textAreaTop" fmla="*/ 77760 h 533520"/>
              <a:gd name="textAreaBottom" fmla="*/ 455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450" y="18450"/>
                </a:lnTo>
                <a:lnTo>
                  <a:pt x="18450" y="31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18450" y="184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  <a:path fill="darken" w="21600" h="21600">
                <a:moveTo>
                  <a:pt x="7953" y="10800"/>
                </a:moveTo>
                <a:lnTo>
                  <a:pt x="16502" y="5098"/>
                </a:lnTo>
                <a:lnTo>
                  <a:pt x="16502" y="16502"/>
                </a:lnTo>
                <a:close/>
              </a:path>
              <a:path fill="darken" w="21600" h="21600">
                <a:moveTo>
                  <a:pt x="5098" y="5098"/>
                </a:moveTo>
                <a:lnTo>
                  <a:pt x="6451" y="5098"/>
                </a:lnTo>
                <a:lnTo>
                  <a:pt x="6451" y="16502"/>
                </a:lnTo>
                <a:lnTo>
                  <a:pt x="5098" y="16502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>
            <a:hlinkClick r:id="rId3" action="ppaction://hlinksldjump"/>
          </p:cNvPr>
          <p:cNvSpPr/>
          <p:nvPr/>
        </p:nvSpPr>
        <p:spPr>
          <a:xfrm>
            <a:off x="838080" y="60498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ide au dépann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1523880" y="228600"/>
            <a:ext cx="525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Le transistor en commutatio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5105520" y="380880"/>
            <a:ext cx="3504960" cy="3124440"/>
            <a:chOff x="5105520" y="380880"/>
            <a:chExt cx="3504960" cy="3124440"/>
          </a:xfrm>
        </p:grpSpPr>
        <p:grpSp>
          <p:nvGrpSpPr>
            <p:cNvPr id="1419" name=""/>
            <p:cNvGrpSpPr/>
            <p:nvPr/>
          </p:nvGrpSpPr>
          <p:grpSpPr>
            <a:xfrm>
              <a:off x="5791320" y="380880"/>
              <a:ext cx="2819160" cy="3124440"/>
              <a:chOff x="5791320" y="380880"/>
              <a:chExt cx="2819160" cy="3124440"/>
            </a:xfrm>
          </p:grpSpPr>
          <p:grpSp>
            <p:nvGrpSpPr>
              <p:cNvPr id="1420" name=""/>
              <p:cNvGrpSpPr/>
              <p:nvPr/>
            </p:nvGrpSpPr>
            <p:grpSpPr>
              <a:xfrm>
                <a:off x="7467480" y="761760"/>
                <a:ext cx="914400" cy="914760"/>
                <a:chOff x="7467480" y="761760"/>
                <a:chExt cx="914400" cy="91476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467480" y="990720"/>
                  <a:ext cx="15264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7543800" y="990720"/>
                  <a:ext cx="304920" cy="45720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72400" y="990720"/>
                  <a:ext cx="15228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rot="5400000">
                  <a:off x="7582680" y="1028160"/>
                  <a:ext cx="914400" cy="382320"/>
                </a:xfrm>
                <a:custGeom>
                  <a:avLst/>
                  <a:gdLst>
                    <a:gd name="textAreaLeft" fmla="*/ 201960 w 914400"/>
                    <a:gd name="textAreaRight" fmla="*/ 712440 w 914400"/>
                    <a:gd name="textAreaTop" fmla="*/ 84240 h 382320"/>
                    <a:gd name="textAreaBottom" fmla="*/ 298080 h 38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163" y="21600"/>
                      </a:lnTo>
                      <a:lnTo>
                        <a:pt x="5437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8077320" y="762120"/>
                  <a:ext cx="304560" cy="914400"/>
                </a:xfrm>
                <a:prstGeom prst="ellipse">
                  <a:avLst/>
                </a:prstGeom>
                <a:solidFill>
                  <a:srgbClr val="33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V="1">
                  <a:off x="7848720" y="76176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848720" y="144792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43800" y="9907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5438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7620120" y="8380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620120" y="1447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791320" y="1676520"/>
                <a:ext cx="1143000" cy="761760"/>
                <a:chOff x="5791320" y="1676520"/>
                <a:chExt cx="1143000" cy="761760"/>
              </a:xfrm>
            </p:grpSpPr>
            <p:sp>
              <p:nvSpPr>
                <p:cNvPr id="1433" name=""/>
                <p:cNvSpPr/>
                <p:nvPr/>
              </p:nvSpPr>
              <p:spPr>
                <a:xfrm flipH="1">
                  <a:off x="5791320" y="22860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6095880" y="2133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095880" y="2133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6095880" y="2438280"/>
                  <a:ext cx="68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6781680" y="2133720"/>
                  <a:ext cx="0" cy="304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781680" y="2286000"/>
                  <a:ext cx="152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6248520" y="16765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7467480" y="380880"/>
                <a:ext cx="304920" cy="456840"/>
                <a:chOff x="7467480" y="380880"/>
                <a:chExt cx="304920" cy="456840"/>
              </a:xfrm>
            </p:grpSpPr>
            <p:sp>
              <p:nvSpPr>
                <p:cNvPr id="1441" name=""/>
                <p:cNvSpPr/>
                <p:nvPr/>
              </p:nvSpPr>
              <p:spPr>
                <a:xfrm flipV="1">
                  <a:off x="7620120" y="68544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543800" y="533520"/>
                  <a:ext cx="152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620120" y="457200"/>
                  <a:ext cx="0" cy="152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467480" y="380880"/>
                  <a:ext cx="304920" cy="304920"/>
                </a:xfrm>
                <a:prstGeom prst="ellipse">
                  <a:avLst/>
                </a:prstGeom>
                <a:noFill/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7467480" y="1523880"/>
                <a:ext cx="304920" cy="1981440"/>
                <a:chOff x="7467480" y="1523880"/>
                <a:chExt cx="304920" cy="198144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7620120" y="1523880"/>
                  <a:ext cx="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620120" y="281952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467480" y="350532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6933960" y="1752480"/>
                <a:ext cx="914760" cy="1067040"/>
                <a:chOff x="6933960" y="1752480"/>
                <a:chExt cx="914760" cy="106704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7086600" y="1892520"/>
                  <a:ext cx="762120" cy="786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264440" y="2032920"/>
                  <a:ext cx="0" cy="5335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H="1">
                  <a:off x="6933960" y="2286000"/>
                  <a:ext cx="33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V="1">
                  <a:off x="7264440" y="1920960"/>
                  <a:ext cx="355320" cy="2527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7264440" y="2370240"/>
                  <a:ext cx="355320" cy="280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620120" y="1752480"/>
                  <a:ext cx="0" cy="168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620120" y="2651040"/>
                  <a:ext cx="0" cy="168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7" name=""/>
              <p:cNvSpPr/>
              <p:nvPr/>
            </p:nvSpPr>
            <p:spPr>
              <a:xfrm>
                <a:off x="8001000" y="20574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"/>
            <p:cNvSpPr/>
            <p:nvPr/>
          </p:nvSpPr>
          <p:spPr>
            <a:xfrm flipV="1">
              <a:off x="5791320" y="2438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638680" y="35053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105520" y="27432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 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>
            <a:hlinkClick r:id="rId4" action="ppaction://hlinksldjump"/>
          </p:cNvPr>
          <p:cNvSpPr/>
          <p:nvPr/>
        </p:nvSpPr>
        <p:spPr>
          <a:xfrm>
            <a:off x="1295280" y="198108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mesur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6934320" y="243792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400800" y="27432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696080" y="4724280"/>
            <a:ext cx="533520" cy="533520"/>
          </a:xfrm>
          <a:custGeom>
            <a:avLst/>
            <a:gdLst>
              <a:gd name="textAreaLeft" fmla="*/ 77760 w 533520"/>
              <a:gd name="textAreaRight" fmla="*/ 455760 w 533520"/>
              <a:gd name="textAreaTop" fmla="*/ 77760 h 533520"/>
              <a:gd name="textAreaBottom" fmla="*/ 455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450" y="3150"/>
                </a:lnTo>
                <a:lnTo>
                  <a:pt x="3150" y="31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450" y="18450"/>
                </a:lnTo>
                <a:lnTo>
                  <a:pt x="18450" y="31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150" y="18450"/>
                </a:lnTo>
                <a:lnTo>
                  <a:pt x="18450" y="184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150" y="3150"/>
                </a:lnTo>
                <a:lnTo>
                  <a:pt x="3150" y="18450"/>
                </a:lnTo>
                <a:close/>
              </a:path>
              <a:path fill="darken" w="21600" h="21600">
                <a:moveTo>
                  <a:pt x="7953" y="10800"/>
                </a:moveTo>
                <a:lnTo>
                  <a:pt x="16502" y="5098"/>
                </a:lnTo>
                <a:lnTo>
                  <a:pt x="16502" y="16502"/>
                </a:lnTo>
                <a:close/>
              </a:path>
              <a:path fill="darken" w="21600" h="21600">
                <a:moveTo>
                  <a:pt x="5098" y="5098"/>
                </a:moveTo>
                <a:lnTo>
                  <a:pt x="6451" y="5098"/>
                </a:lnTo>
                <a:lnTo>
                  <a:pt x="6451" y="16502"/>
                </a:lnTo>
                <a:lnTo>
                  <a:pt x="5098" y="16502"/>
                </a:lnTo>
                <a:close/>
              </a:path>
            </a:pathLst>
          </a:custGeom>
          <a:solidFill>
            <a:srgbClr val="00cc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tude fonctionnelle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00600"/>
            <a:ext cx="182880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é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572000"/>
            <a:ext cx="2819520" cy="1556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isation + commande de déclench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4572000"/>
            <a:ext cx="236196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isation so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981080"/>
            <a:ext cx="8381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a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ése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 déclencha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irè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36576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848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467480" y="1066320"/>
            <a:ext cx="914400" cy="914760"/>
            <a:chOff x="7467480" y="1066320"/>
            <a:chExt cx="914400" cy="914760"/>
          </a:xfrm>
        </p:grpSpPr>
        <p:sp>
          <p:nvSpPr>
            <p:cNvPr id="63" name=""/>
            <p:cNvSpPr/>
            <p:nvPr/>
          </p:nvSpPr>
          <p:spPr>
            <a:xfrm>
              <a:off x="7467480" y="1295280"/>
              <a:ext cx="152640" cy="45720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43800" y="1295280"/>
              <a:ext cx="304920" cy="457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2400" y="1295280"/>
              <a:ext cx="152280" cy="45720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7582680" y="1332720"/>
              <a:ext cx="914400" cy="382320"/>
            </a:xfrm>
            <a:custGeom>
              <a:avLst/>
              <a:gdLst>
                <a:gd name="textAreaLeft" fmla="*/ 201960 w 914400"/>
                <a:gd name="textAreaRight" fmla="*/ 712440 w 914400"/>
                <a:gd name="textAreaTop" fmla="*/ 84240 h 382320"/>
                <a:gd name="textAreaBottom" fmla="*/ 29808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63" y="21600"/>
                  </a:lnTo>
                  <a:lnTo>
                    <a:pt x="5437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77320" y="1066680"/>
              <a:ext cx="304560" cy="914400"/>
            </a:xfrm>
            <a:prstGeom prst="ellipse">
              <a:avLst/>
            </a:prstGeom>
            <a:solidFill>
              <a:srgbClr val="33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48720" y="106632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8720" y="1752480"/>
              <a:ext cx="3808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43800" y="12952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543800" y="1752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7620120" y="114264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0120" y="17524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" name=""/>
          <p:cNvCxnSpPr>
            <a:stCxn id="75" idx="0"/>
          </p:cNvCxnSpPr>
          <p:nvPr/>
        </p:nvCxnSpPr>
        <p:spPr>
          <a:xfrm>
            <a:off x="1026720" y="1751040"/>
            <a:ext cx="940680" cy="519840"/>
          </a:xfrm>
          <a:prstGeom prst="curvedConnector5">
            <a:avLst>
              <a:gd name="adj1" fmla="val 47970"/>
              <a:gd name="adj2" fmla="val 49965"/>
              <a:gd name="adj3" fmla="val 4797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6" name=""/>
          <p:cNvGrpSpPr/>
          <p:nvPr/>
        </p:nvGrpSpPr>
        <p:grpSpPr>
          <a:xfrm>
            <a:off x="1905120" y="1784520"/>
            <a:ext cx="3886200" cy="862560"/>
            <a:chOff x="1905120" y="1784520"/>
            <a:chExt cx="3886200" cy="862560"/>
          </a:xfrm>
        </p:grpSpPr>
        <p:sp>
          <p:nvSpPr>
            <p:cNvPr id="77" name=""/>
            <p:cNvSpPr/>
            <p:nvPr/>
          </p:nvSpPr>
          <p:spPr>
            <a:xfrm>
              <a:off x="1905120" y="1784520"/>
              <a:ext cx="3886200" cy="86256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Électronique de ges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CI1" descr=""/>
            <p:cNvPicPr/>
            <p:nvPr/>
          </p:nvPicPr>
          <p:blipFill>
            <a:blip r:embed="rId1"/>
            <a:stretch/>
          </p:blipFill>
          <p:spPr>
            <a:xfrm>
              <a:off x="2971800" y="2241360"/>
              <a:ext cx="38088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CI2" descr=""/>
            <p:cNvPicPr/>
            <p:nvPr/>
          </p:nvPicPr>
          <p:blipFill>
            <a:blip r:embed="rId2"/>
            <a:stretch/>
          </p:blipFill>
          <p:spPr>
            <a:xfrm>
              <a:off x="4800600" y="1860480"/>
              <a:ext cx="762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>
            <a:off x="228600" y="29113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détecteur de pré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352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cœur de L’ala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352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e puissante sirè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495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BLEM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038480" y="2819520"/>
            <a:ext cx="763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31484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ble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4495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te puiss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5668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mpossible de relier directement la sirèn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934320" y="2209320"/>
            <a:ext cx="152280" cy="152640"/>
            <a:chOff x="6934320" y="2209320"/>
            <a:chExt cx="152280" cy="152640"/>
          </a:xfrm>
        </p:grpSpPr>
        <p:sp>
          <p:nvSpPr>
            <p:cNvPr id="90" name=""/>
            <p:cNvSpPr/>
            <p:nvPr/>
          </p:nvSpPr>
          <p:spPr>
            <a:xfrm flipV="1">
              <a:off x="6934320" y="2209320"/>
              <a:ext cx="15228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2209680"/>
              <a:ext cx="15228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086600" y="1066320"/>
            <a:ext cx="152280" cy="152640"/>
            <a:chOff x="7086600" y="1066320"/>
            <a:chExt cx="152280" cy="152640"/>
          </a:xfrm>
        </p:grpSpPr>
        <p:sp>
          <p:nvSpPr>
            <p:cNvPr id="93" name=""/>
            <p:cNvSpPr/>
            <p:nvPr/>
          </p:nvSpPr>
          <p:spPr>
            <a:xfrm flipV="1">
              <a:off x="7086600" y="1066320"/>
              <a:ext cx="15228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86600" y="1066680"/>
              <a:ext cx="152280" cy="15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790960" y="1143000"/>
            <a:ext cx="1829160" cy="1143000"/>
            <a:chOff x="5790960" y="1143000"/>
            <a:chExt cx="1829160" cy="1143000"/>
          </a:xfrm>
        </p:grpSpPr>
        <p:sp>
          <p:nvSpPr>
            <p:cNvPr id="96" name=""/>
            <p:cNvSpPr/>
            <p:nvPr/>
          </p:nvSpPr>
          <p:spPr>
            <a:xfrm flipH="1">
              <a:off x="5790960" y="20574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791320" y="228600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858000" y="11430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58000" y="11430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0120" y="1905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191120" y="3048120"/>
            <a:ext cx="304560" cy="30456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2438280"/>
            <a:ext cx="914400" cy="838440"/>
          </a:xfrm>
          <a:prstGeom prst="lightningBol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57200" y="1219320"/>
            <a:ext cx="609480" cy="685800"/>
            <a:chOff x="457200" y="1219320"/>
            <a:chExt cx="609480" cy="685800"/>
          </a:xfrm>
        </p:grpSpPr>
        <p:sp>
          <p:nvSpPr>
            <p:cNvPr id="104" name=""/>
            <p:cNvSpPr/>
            <p:nvPr/>
          </p:nvSpPr>
          <p:spPr>
            <a:xfrm>
              <a:off x="990720" y="1371600"/>
              <a:ext cx="75960" cy="457200"/>
            </a:xfrm>
            <a:prstGeom prst="rect">
              <a:avLst/>
            </a:prstGeom>
            <a:solidFill>
              <a:srgbClr val="000000"/>
            </a:solidFill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723600" y="1105200"/>
              <a:ext cx="152280" cy="533160"/>
            </a:xfrm>
            <a:prstGeom prst="ellipse">
              <a:avLst/>
            </a:prstGeom>
            <a:solidFill>
              <a:srgbClr val="00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647640" y="1028520"/>
              <a:ext cx="152280" cy="533520"/>
            </a:xfrm>
            <a:prstGeom prst="ellipse">
              <a:avLst/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495360" y="1257480"/>
              <a:ext cx="457200" cy="533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647640" y="1485720"/>
              <a:ext cx="152280" cy="533520"/>
            </a:xfrm>
            <a:prstGeom prst="ellipse">
              <a:avLst/>
            </a:prstGeom>
            <a:solidFill>
              <a:srgbClr val="00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" y="12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0720" y="12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723600" y="1562400"/>
              <a:ext cx="152280" cy="533160"/>
            </a:xfrm>
            <a:prstGeom prst="ellipse">
              <a:avLst/>
            </a:prstGeom>
            <a:solidFill>
              <a:srgbClr val="00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1752840"/>
              <a:ext cx="76320" cy="75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0720" y="1295640"/>
              <a:ext cx="75960" cy="75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523880" y="7621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Étude matériel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4648320"/>
            <a:ext cx="7620120" cy="18288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761760"/>
            <a:ext cx="7924680" cy="1624680"/>
            <a:chOff x="457200" y="761760"/>
            <a:chExt cx="7924680" cy="1624680"/>
          </a:xfrm>
        </p:grpSpPr>
        <p:grpSp>
          <p:nvGrpSpPr>
            <p:cNvPr id="116" name=""/>
            <p:cNvGrpSpPr/>
            <p:nvPr/>
          </p:nvGrpSpPr>
          <p:grpSpPr>
            <a:xfrm>
              <a:off x="7467480" y="761760"/>
              <a:ext cx="914400" cy="914760"/>
              <a:chOff x="7467480" y="761760"/>
              <a:chExt cx="914400" cy="914760"/>
            </a:xfrm>
          </p:grpSpPr>
          <p:sp>
            <p:nvSpPr>
              <p:cNvPr id="117" name=""/>
              <p:cNvSpPr/>
              <p:nvPr/>
            </p:nvSpPr>
            <p:spPr>
              <a:xfrm>
                <a:off x="7467480" y="990720"/>
                <a:ext cx="15264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543800" y="990720"/>
                <a:ext cx="304920" cy="4572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72400" y="990720"/>
                <a:ext cx="152280" cy="457200"/>
              </a:xfrm>
              <a:prstGeom prst="ellips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5400000">
                <a:off x="7582680" y="1028160"/>
                <a:ext cx="914400" cy="382320"/>
              </a:xfrm>
              <a:custGeom>
                <a:avLst/>
                <a:gdLst>
                  <a:gd name="textAreaLeft" fmla="*/ 201960 w 914400"/>
                  <a:gd name="textAreaRight" fmla="*/ 712440 w 914400"/>
                  <a:gd name="textAreaTop" fmla="*/ 84240 h 382320"/>
                  <a:gd name="textAreaBottom" fmla="*/ 298080 h 3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163" y="21600"/>
                    </a:lnTo>
                    <a:lnTo>
                      <a:pt x="5437" y="2160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77320" y="762120"/>
                <a:ext cx="304560" cy="914400"/>
              </a:xfrm>
              <a:prstGeom prst="ellipse">
                <a:avLst/>
              </a:prstGeom>
              <a:solidFill>
                <a:srgbClr val="3333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7848720" y="76176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848720" y="144792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43800" y="9907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43800" y="14479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7620120" y="838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20120" y="14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28" name=""/>
            <p:cNvCxnSpPr>
              <a:stCxn id="129" idx="0"/>
            </p:cNvCxnSpPr>
            <p:nvPr/>
          </p:nvCxnSpPr>
          <p:spPr>
            <a:xfrm>
              <a:off x="1026720" y="1446120"/>
              <a:ext cx="940680" cy="519840"/>
            </a:xfrm>
            <a:prstGeom prst="curvedConnector5">
              <a:avLst>
                <a:gd name="adj1" fmla="val 47970"/>
                <a:gd name="adj2" fmla="val 49965"/>
                <a:gd name="adj3" fmla="val 479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30" name=""/>
            <p:cNvGrpSpPr/>
            <p:nvPr/>
          </p:nvGrpSpPr>
          <p:grpSpPr>
            <a:xfrm>
              <a:off x="1905120" y="1523880"/>
              <a:ext cx="3886200" cy="862560"/>
              <a:chOff x="1905120" y="1523880"/>
              <a:chExt cx="3886200" cy="862560"/>
            </a:xfrm>
          </p:grpSpPr>
          <p:sp>
            <p:nvSpPr>
              <p:cNvPr id="131" name=""/>
              <p:cNvSpPr/>
              <p:nvPr/>
            </p:nvSpPr>
            <p:spPr>
              <a:xfrm>
                <a:off x="1905120" y="1523880"/>
                <a:ext cx="3886200" cy="862560"/>
              </a:xfrm>
              <a:prstGeom prst="rect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Électronique de ges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2" name="CI1" descr=""/>
              <p:cNvPicPr/>
              <p:nvPr/>
            </p:nvPicPr>
            <p:blipFill>
              <a:blip r:embed="rId1"/>
              <a:stretch/>
            </p:blipFill>
            <p:spPr>
              <a:xfrm>
                <a:off x="2971800" y="1981080"/>
                <a:ext cx="380880" cy="29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CI2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600200"/>
                <a:ext cx="762120" cy="685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457200" y="914400"/>
              <a:ext cx="609480" cy="685800"/>
              <a:chOff x="457200" y="914400"/>
              <a:chExt cx="609480" cy="685800"/>
            </a:xfrm>
          </p:grpSpPr>
          <p:sp>
            <p:nvSpPr>
              <p:cNvPr id="135" name=""/>
              <p:cNvSpPr/>
              <p:nvPr/>
            </p:nvSpPr>
            <p:spPr>
              <a:xfrm>
                <a:off x="990720" y="1066680"/>
                <a:ext cx="75960" cy="457200"/>
              </a:xfrm>
              <a:prstGeom prst="rect">
                <a:avLst/>
              </a:prstGeom>
              <a:solidFill>
                <a:srgbClr val="000000"/>
              </a:solidFill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5400000">
                <a:off x="723600" y="800280"/>
                <a:ext cx="152280" cy="5331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5400000">
                <a:off x="647640" y="723600"/>
                <a:ext cx="152280" cy="533520"/>
              </a:xfrm>
              <a:prstGeom prst="ellipse">
                <a:avLst/>
              </a:prstGeom>
              <a:solidFill>
                <a:srgbClr val="00cc99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5400000">
                <a:off x="495360" y="952560"/>
                <a:ext cx="457200" cy="53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400000">
                <a:off x="647640" y="1180800"/>
                <a:ext cx="152280" cy="53352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9907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90720" y="9907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5400000">
                <a:off x="723600" y="1257480"/>
                <a:ext cx="152280" cy="533160"/>
              </a:xfrm>
              <a:prstGeom prst="ellipse">
                <a:avLst/>
              </a:prstGeom>
              <a:solidFill>
                <a:srgbClr val="0000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57200" y="1447920"/>
                <a:ext cx="76320" cy="75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90720" y="990720"/>
                <a:ext cx="75960" cy="759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3808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u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38862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tilisation d’un transistor en comm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933960" y="1752480"/>
            <a:ext cx="914760" cy="1067040"/>
            <a:chOff x="6933960" y="1752480"/>
            <a:chExt cx="914760" cy="1067040"/>
          </a:xfrm>
        </p:grpSpPr>
        <p:sp>
          <p:nvSpPr>
            <p:cNvPr id="147" name=""/>
            <p:cNvSpPr/>
            <p:nvPr/>
          </p:nvSpPr>
          <p:spPr>
            <a:xfrm>
              <a:off x="7086600" y="1892520"/>
              <a:ext cx="762120" cy="78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64440" y="203292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933960" y="2286000"/>
              <a:ext cx="33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440" y="1920960"/>
              <a:ext cx="355320" cy="2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4440" y="2370240"/>
              <a:ext cx="355320" cy="28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20120" y="1752480"/>
              <a:ext cx="0" cy="16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0120" y="2651040"/>
              <a:ext cx="0" cy="16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 flipH="1">
            <a:off x="5791320" y="22860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1523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620120" y="6854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819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67480" y="3505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5335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45720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80880"/>
            <a:ext cx="304920" cy="30492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2133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2133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438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2133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22860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8006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ffcc"/>
                </a:solidFill>
                <a:latin typeface="Times New Roman"/>
              </a:rPr>
              <a:t>T</a:t>
            </a: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  :  Transistor de commande de la sirène (ref : 2N30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257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Times New Roman"/>
              </a:rPr>
              <a:t>Rb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</a:rPr>
              <a:t>: Résistance de limitation du coura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7913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ffcc"/>
                </a:solidFill>
                <a:latin typeface="Times New Roman"/>
              </a:rPr>
              <a:t>Vs</a:t>
            </a:r>
            <a:r>
              <a:rPr b="1" lang="fr-FR" sz="2400" spc="-1" strike="noStrike">
                <a:solidFill>
                  <a:srgbClr val="ccffcc"/>
                </a:solidFill>
                <a:latin typeface="Times New Roman"/>
              </a:rPr>
              <a:t>: Tension de sortie fournie par les circuits de 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43600" y="2438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5053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57200" y="380880"/>
            <a:ext cx="8153280" cy="3124440"/>
            <a:chOff x="457200" y="380880"/>
            <a:chExt cx="8153280" cy="3124440"/>
          </a:xfrm>
        </p:grpSpPr>
        <p:grpSp>
          <p:nvGrpSpPr>
            <p:cNvPr id="177" name=""/>
            <p:cNvGrpSpPr/>
            <p:nvPr/>
          </p:nvGrpSpPr>
          <p:grpSpPr>
            <a:xfrm>
              <a:off x="457200" y="761760"/>
              <a:ext cx="7924680" cy="1624680"/>
              <a:chOff x="457200" y="761760"/>
              <a:chExt cx="7924680" cy="162468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7467480" y="761760"/>
                <a:ext cx="914400" cy="914760"/>
                <a:chOff x="7467480" y="761760"/>
                <a:chExt cx="914400" cy="914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7480" y="990720"/>
                  <a:ext cx="15264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543800" y="990720"/>
                  <a:ext cx="304920" cy="45720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772400" y="990720"/>
                  <a:ext cx="15228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5400000">
                  <a:off x="7582680" y="1028160"/>
                  <a:ext cx="914400" cy="382320"/>
                </a:xfrm>
                <a:custGeom>
                  <a:avLst/>
                  <a:gdLst>
                    <a:gd name="textAreaLeft" fmla="*/ 201960 w 914400"/>
                    <a:gd name="textAreaRight" fmla="*/ 712440 w 914400"/>
                    <a:gd name="textAreaTop" fmla="*/ 84240 h 382320"/>
                    <a:gd name="textAreaBottom" fmla="*/ 298080 h 38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163" y="21600"/>
                      </a:lnTo>
                      <a:lnTo>
                        <a:pt x="5437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077320" y="762120"/>
                  <a:ext cx="304560" cy="914400"/>
                </a:xfrm>
                <a:prstGeom prst="ellipse">
                  <a:avLst/>
                </a:prstGeom>
                <a:solidFill>
                  <a:srgbClr val="33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7848720" y="76176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848720" y="144792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543800" y="9907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5438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7620120" y="8380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620120" y="1447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0" name=""/>
              <p:cNvCxnSpPr>
                <a:stCxn id="191" idx="0"/>
              </p:cNvCxnSpPr>
              <p:nvPr/>
            </p:nvCxnSpPr>
            <p:spPr>
              <a:xfrm>
                <a:off x="1026720" y="1446120"/>
                <a:ext cx="940680" cy="519840"/>
              </a:xfrm>
              <a:prstGeom prst="curvedConnector5">
                <a:avLst>
                  <a:gd name="adj1" fmla="val 47970"/>
                  <a:gd name="adj2" fmla="val 49965"/>
                  <a:gd name="adj3" fmla="val 4797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grpSp>
            <p:nvGrpSpPr>
              <p:cNvPr id="192" name=""/>
              <p:cNvGrpSpPr/>
              <p:nvPr/>
            </p:nvGrpSpPr>
            <p:grpSpPr>
              <a:xfrm>
                <a:off x="1905120" y="1523880"/>
                <a:ext cx="3886200" cy="862560"/>
                <a:chOff x="1905120" y="1523880"/>
                <a:chExt cx="3886200" cy="8625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905120" y="1523880"/>
                  <a:ext cx="3886200" cy="862560"/>
                </a:xfrm>
                <a:prstGeom prst="rect">
                  <a:avLst/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Électronique de ges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4" name="CI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971800" y="1981080"/>
                  <a:ext cx="380880" cy="298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CI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00600" y="1600200"/>
                  <a:ext cx="76212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96" name=""/>
              <p:cNvGrpSpPr/>
              <p:nvPr/>
            </p:nvGrpSpPr>
            <p:grpSpPr>
              <a:xfrm>
                <a:off x="457200" y="914400"/>
                <a:ext cx="609480" cy="685800"/>
                <a:chOff x="457200" y="914400"/>
                <a:chExt cx="609480" cy="6858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990720" y="1066680"/>
                  <a:ext cx="75960" cy="457200"/>
                </a:xfrm>
                <a:prstGeom prst="rect">
                  <a:avLst/>
                </a:prstGeom>
                <a:solidFill>
                  <a:srgbClr val="000000"/>
                </a:solidFill>
                <a:ln w="66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400000">
                  <a:off x="723600" y="800280"/>
                  <a:ext cx="152280" cy="53316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5400000">
                  <a:off x="647640" y="723600"/>
                  <a:ext cx="152280" cy="5335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5400000">
                  <a:off x="495360" y="952560"/>
                  <a:ext cx="457200" cy="5335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5400000">
                  <a:off x="647640" y="1180800"/>
                  <a:ext cx="152280" cy="53352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57200" y="9907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990720" y="9907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5400000">
                  <a:off x="723600" y="1257480"/>
                  <a:ext cx="152280" cy="53316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57200" y="1447920"/>
                  <a:ext cx="76320" cy="759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990720" y="990720"/>
                  <a:ext cx="75960" cy="759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5791320" y="1676520"/>
              <a:ext cx="1143000" cy="761760"/>
              <a:chOff x="5791320" y="1676520"/>
              <a:chExt cx="1143000" cy="76176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5791320" y="2286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95880" y="213372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0958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95880" y="2438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816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81680" y="228600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4852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7467480" y="380880"/>
              <a:ext cx="304920" cy="456840"/>
              <a:chOff x="7467480" y="380880"/>
              <a:chExt cx="304920" cy="45684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7620120" y="6854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43800" y="53352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620120" y="45720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67480" y="380880"/>
                <a:ext cx="304920" cy="30492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7467480" y="1523880"/>
              <a:ext cx="304920" cy="1981440"/>
              <a:chOff x="7467480" y="1523880"/>
              <a:chExt cx="304920" cy="1981440"/>
            </a:xfrm>
          </p:grpSpPr>
          <p:sp>
            <p:nvSpPr>
              <p:cNvPr id="220" name=""/>
              <p:cNvSpPr/>
              <p:nvPr/>
            </p:nvSpPr>
            <p:spPr>
              <a:xfrm>
                <a:off x="7620120" y="15238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20120" y="28195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67480" y="3505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933960" y="1752480"/>
              <a:ext cx="914760" cy="1067040"/>
              <a:chOff x="6933960" y="1752480"/>
              <a:chExt cx="914760" cy="1067040"/>
            </a:xfrm>
          </p:grpSpPr>
          <p:sp>
            <p:nvSpPr>
              <p:cNvPr id="224" name=""/>
              <p:cNvSpPr/>
              <p:nvPr/>
            </p:nvSpPr>
            <p:spPr>
              <a:xfrm>
                <a:off x="7086600" y="1892520"/>
                <a:ext cx="762120" cy="786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64440" y="203292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933960" y="2286000"/>
                <a:ext cx="33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264440" y="1920960"/>
                <a:ext cx="355320" cy="2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264440" y="2370240"/>
                <a:ext cx="355320" cy="28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20120" y="175248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20120" y="265104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800100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38080" y="449568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at de fonction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304812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943600" y="24382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458200" y="761760"/>
            <a:ext cx="380880" cy="914760"/>
            <a:chOff x="8458200" y="761760"/>
            <a:chExt cx="380880" cy="914760"/>
          </a:xfrm>
        </p:grpSpPr>
        <p:sp>
          <p:nvSpPr>
            <p:cNvPr id="236" name=""/>
            <p:cNvSpPr/>
            <p:nvPr/>
          </p:nvSpPr>
          <p:spPr>
            <a:xfrm flipV="1">
              <a:off x="8458200" y="761760"/>
              <a:ext cx="30492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534520" y="1219320"/>
              <a:ext cx="30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458200" y="1523880"/>
              <a:ext cx="304920" cy="152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240" name="Homer" descr=""/>
          <p:cNvPicPr/>
          <p:nvPr/>
        </p:nvPicPr>
        <p:blipFill>
          <a:blip r:embed="rId5"/>
          <a:stretch/>
        </p:blipFill>
        <p:spPr>
          <a:xfrm>
            <a:off x="457200" y="2590920"/>
            <a:ext cx="76212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19920" y="838080"/>
            <a:ext cx="2666880" cy="2819520"/>
          </a:xfrm>
          <a:prstGeom prst="rect">
            <a:avLst/>
          </a:prstGeom>
          <a:solidFill>
            <a:srgbClr val="cccc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57200" y="380880"/>
            <a:ext cx="8153280" cy="3124440"/>
            <a:chOff x="457200" y="380880"/>
            <a:chExt cx="8153280" cy="3124440"/>
          </a:xfrm>
        </p:grpSpPr>
        <p:grpSp>
          <p:nvGrpSpPr>
            <p:cNvPr id="243" name=""/>
            <p:cNvGrpSpPr/>
            <p:nvPr/>
          </p:nvGrpSpPr>
          <p:grpSpPr>
            <a:xfrm>
              <a:off x="457200" y="761760"/>
              <a:ext cx="7924680" cy="1624680"/>
              <a:chOff x="457200" y="761760"/>
              <a:chExt cx="7924680" cy="16246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7467480" y="761760"/>
                <a:ext cx="914400" cy="914760"/>
                <a:chOff x="7467480" y="761760"/>
                <a:chExt cx="914400" cy="9147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7467480" y="990720"/>
                  <a:ext cx="15264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543800" y="990720"/>
                  <a:ext cx="304920" cy="45720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72400" y="990720"/>
                  <a:ext cx="152280" cy="457200"/>
                </a:xfrm>
                <a:prstGeom prst="ellipse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7582680" y="1028160"/>
                  <a:ext cx="914400" cy="382320"/>
                </a:xfrm>
                <a:custGeom>
                  <a:avLst/>
                  <a:gdLst>
                    <a:gd name="textAreaLeft" fmla="*/ 201960 w 914400"/>
                    <a:gd name="textAreaRight" fmla="*/ 712440 w 914400"/>
                    <a:gd name="textAreaTop" fmla="*/ 84240 h 382320"/>
                    <a:gd name="textAreaBottom" fmla="*/ 298080 h 382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163" y="21600"/>
                      </a:lnTo>
                      <a:lnTo>
                        <a:pt x="5437" y="2160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077320" y="762120"/>
                  <a:ext cx="304560" cy="914400"/>
                </a:xfrm>
                <a:prstGeom prst="ellipse">
                  <a:avLst/>
                </a:prstGeom>
                <a:solidFill>
                  <a:srgbClr val="3333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7848720" y="76176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848720" y="1447920"/>
                  <a:ext cx="38088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543800" y="9907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543800" y="1447920"/>
                  <a:ext cx="30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7620120" y="838080"/>
                  <a:ext cx="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620120" y="144792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56" name=""/>
              <p:cNvCxnSpPr>
                <a:stCxn id="257" idx="0"/>
              </p:cNvCxnSpPr>
              <p:nvPr/>
            </p:nvCxnSpPr>
            <p:spPr>
              <a:xfrm>
                <a:off x="1026720" y="1446120"/>
                <a:ext cx="940680" cy="519840"/>
              </a:xfrm>
              <a:prstGeom prst="curvedConnector5">
                <a:avLst>
                  <a:gd name="adj1" fmla="val 47970"/>
                  <a:gd name="adj2" fmla="val 49965"/>
                  <a:gd name="adj3" fmla="val 4797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grpSp>
            <p:nvGrpSpPr>
              <p:cNvPr id="258" name=""/>
              <p:cNvGrpSpPr/>
              <p:nvPr/>
            </p:nvGrpSpPr>
            <p:grpSpPr>
              <a:xfrm>
                <a:off x="1905120" y="1523880"/>
                <a:ext cx="3886200" cy="862560"/>
                <a:chOff x="1905120" y="1523880"/>
                <a:chExt cx="3886200" cy="862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905120" y="1523880"/>
                  <a:ext cx="3886200" cy="862560"/>
                </a:xfrm>
                <a:prstGeom prst="rect">
                  <a:avLst/>
                </a:prstGeom>
                <a:solidFill>
                  <a:srgbClr val="00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Électronique de gesti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60" name="CI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71800" y="1981080"/>
                  <a:ext cx="380880" cy="298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CI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00600" y="1600200"/>
                  <a:ext cx="76212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2" name=""/>
              <p:cNvGrpSpPr/>
              <p:nvPr/>
            </p:nvGrpSpPr>
            <p:grpSpPr>
              <a:xfrm>
                <a:off x="457200" y="914400"/>
                <a:ext cx="609480" cy="685800"/>
                <a:chOff x="457200" y="914400"/>
                <a:chExt cx="609480" cy="6858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990720" y="1066680"/>
                  <a:ext cx="75960" cy="457200"/>
                </a:xfrm>
                <a:prstGeom prst="rect">
                  <a:avLst/>
                </a:prstGeom>
                <a:solidFill>
                  <a:srgbClr val="000000"/>
                </a:solidFill>
                <a:ln w="66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5400000">
                  <a:off x="723600" y="800280"/>
                  <a:ext cx="152280" cy="53316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5400000">
                  <a:off x="647640" y="723600"/>
                  <a:ext cx="152280" cy="533520"/>
                </a:xfrm>
                <a:prstGeom prst="ellipse">
                  <a:avLst/>
                </a:prstGeom>
                <a:solidFill>
                  <a:srgbClr val="00cc99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5400000">
                  <a:off x="495360" y="952560"/>
                  <a:ext cx="457200" cy="5335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5400000">
                  <a:off x="647640" y="1180800"/>
                  <a:ext cx="152280" cy="53352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57200" y="9907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990720" y="990720"/>
                  <a:ext cx="0" cy="457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5400000">
                  <a:off x="723600" y="1257480"/>
                  <a:ext cx="152280" cy="533160"/>
                </a:xfrm>
                <a:prstGeom prst="ellipse">
                  <a:avLst/>
                </a:prstGeom>
                <a:solidFill>
                  <a:srgbClr val="000000"/>
                </a:solidFill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57200" y="1447920"/>
                  <a:ext cx="76320" cy="759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990720" y="990720"/>
                  <a:ext cx="75960" cy="759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5791320" y="1676520"/>
              <a:ext cx="1143000" cy="761760"/>
              <a:chOff x="5791320" y="1676520"/>
              <a:chExt cx="1143000" cy="76176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5791320" y="228600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095880" y="213372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0958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095880" y="243828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1680" y="2133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81680" y="2286000"/>
                <a:ext cx="152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48520" y="16765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467480" y="380880"/>
              <a:ext cx="304920" cy="456840"/>
              <a:chOff x="7467480" y="380880"/>
              <a:chExt cx="304920" cy="45684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7620120" y="6854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43800" y="53352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20120" y="457200"/>
                <a:ext cx="0" cy="152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67480" y="380880"/>
                <a:ext cx="304920" cy="304920"/>
              </a:xfrm>
              <a:prstGeom prst="ellipse">
                <a:avLst/>
              </a:prstGeom>
              <a:noFill/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7467480" y="1523880"/>
              <a:ext cx="304920" cy="1981440"/>
              <a:chOff x="7467480" y="1523880"/>
              <a:chExt cx="304920" cy="1981440"/>
            </a:xfrm>
          </p:grpSpPr>
          <p:sp>
            <p:nvSpPr>
              <p:cNvPr id="286" name=""/>
              <p:cNvSpPr/>
              <p:nvPr/>
            </p:nvSpPr>
            <p:spPr>
              <a:xfrm>
                <a:off x="7620120" y="15238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20120" y="281952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467480" y="35053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933960" y="1752480"/>
              <a:ext cx="914760" cy="1067040"/>
              <a:chOff x="6933960" y="1752480"/>
              <a:chExt cx="914760" cy="1067040"/>
            </a:xfrm>
          </p:grpSpPr>
          <p:sp>
            <p:nvSpPr>
              <p:cNvPr id="290" name=""/>
              <p:cNvSpPr/>
              <p:nvPr/>
            </p:nvSpPr>
            <p:spPr>
              <a:xfrm>
                <a:off x="7086600" y="1892520"/>
                <a:ext cx="762120" cy="786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264440" y="203292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933960" y="2286000"/>
                <a:ext cx="33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7264440" y="1920960"/>
                <a:ext cx="355320" cy="252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64440" y="2370240"/>
                <a:ext cx="355320" cy="28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20120" y="175248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0120" y="265104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8001000" y="2057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943600" y="685800"/>
            <a:ext cx="0" cy="3048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3733920"/>
            <a:ext cx="28195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762120"/>
            <a:ext cx="28195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63120" y="762120"/>
            <a:ext cx="0" cy="297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44956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et validation de notre struc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7391520" y="1066680"/>
            <a:ext cx="1066680" cy="3657600"/>
            <a:chOff x="7391520" y="1066680"/>
            <a:chExt cx="1066680" cy="3657600"/>
          </a:xfrm>
        </p:grpSpPr>
        <p:grpSp>
          <p:nvGrpSpPr>
            <p:cNvPr id="304" name=""/>
            <p:cNvGrpSpPr/>
            <p:nvPr/>
          </p:nvGrpSpPr>
          <p:grpSpPr>
            <a:xfrm>
              <a:off x="7543800" y="1066680"/>
              <a:ext cx="914400" cy="3657600"/>
              <a:chOff x="7543800" y="1066680"/>
              <a:chExt cx="914400" cy="36576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3800" y="4038480"/>
                <a:ext cx="304920" cy="685800"/>
                <a:chOff x="7543800" y="4038480"/>
                <a:chExt cx="304920" cy="6858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696440" y="4038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43800" y="47242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7543800" y="1066680"/>
                <a:ext cx="914400" cy="1676520"/>
                <a:chOff x="7543800" y="1066680"/>
                <a:chExt cx="914400" cy="167652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7543800" y="1447560"/>
                  <a:ext cx="914400" cy="914760"/>
                  <a:chOff x="7543800" y="1447560"/>
                  <a:chExt cx="914400" cy="91476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7543800" y="1676520"/>
                    <a:ext cx="15264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620120" y="1676520"/>
                    <a:ext cx="304920" cy="45720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848720" y="1676520"/>
                    <a:ext cx="15228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rot="5400000">
                    <a:off x="7659000" y="1713960"/>
                    <a:ext cx="914400" cy="382320"/>
                  </a:xfrm>
                  <a:custGeom>
                    <a:avLst/>
                    <a:gdLst>
                      <a:gd name="textAreaLeft" fmla="*/ 201960 w 914400"/>
                      <a:gd name="textAreaRight" fmla="*/ 712440 w 914400"/>
                      <a:gd name="textAreaTop" fmla="*/ 84240 h 382320"/>
                      <a:gd name="textAreaBottom" fmla="*/ 298080 h 382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163" y="21600"/>
                        </a:lnTo>
                        <a:lnTo>
                          <a:pt x="5437" y="2160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8153640" y="1447920"/>
                    <a:ext cx="304560" cy="914400"/>
                  </a:xfrm>
                  <a:prstGeom prst="ellipse">
                    <a:avLst/>
                  </a:prstGeom>
                  <a:solidFill>
                    <a:srgbClr val="33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V="1">
                    <a:off x="7925040" y="144756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925040" y="213372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7620120" y="167652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620120" y="213372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7696440" y="152388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696440" y="213372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543800" y="1066680"/>
                  <a:ext cx="304920" cy="456840"/>
                  <a:chOff x="7543800" y="1066680"/>
                  <a:chExt cx="304920" cy="4568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flipV="1">
                    <a:off x="7696440" y="137124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620120" y="121932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696440" y="1143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543800" y="1066680"/>
                    <a:ext cx="304920" cy="304920"/>
                  </a:xfrm>
                  <a:prstGeom prst="ellipse">
                    <a:avLst/>
                  </a:prstGeom>
                  <a:noFill/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6" name=""/>
                <p:cNvSpPr/>
                <p:nvPr/>
              </p:nvSpPr>
              <p:spPr>
                <a:xfrm>
                  <a:off x="7696080" y="22096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7391520" y="2666880"/>
              <a:ext cx="380880" cy="1447920"/>
              <a:chOff x="7391520" y="2666880"/>
              <a:chExt cx="380880" cy="14479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91520" y="2666880"/>
                <a:ext cx="304560" cy="14479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20120" y="2743200"/>
                <a:ext cx="1522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>
            <a:off x="457200" y="1371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u re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33520" y="990720"/>
            <a:ext cx="5105160" cy="3733560"/>
            <a:chOff x="533520" y="990720"/>
            <a:chExt cx="5105160" cy="3733560"/>
          </a:xfrm>
        </p:grpSpPr>
        <p:grpSp>
          <p:nvGrpSpPr>
            <p:cNvPr id="332" name=""/>
            <p:cNvGrpSpPr/>
            <p:nvPr/>
          </p:nvGrpSpPr>
          <p:grpSpPr>
            <a:xfrm>
              <a:off x="685440" y="990720"/>
              <a:ext cx="4953240" cy="3733560"/>
              <a:chOff x="685440" y="990720"/>
              <a:chExt cx="4953240" cy="37335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85440" y="2819520"/>
                <a:ext cx="3048480" cy="761760"/>
                <a:chOff x="685440" y="2819520"/>
                <a:chExt cx="3048480" cy="761760"/>
              </a:xfrm>
            </p:grpSpPr>
            <p:sp>
              <p:nvSpPr>
                <p:cNvPr id="334" name=""/>
                <p:cNvSpPr/>
                <p:nvPr/>
              </p:nvSpPr>
              <p:spPr>
                <a:xfrm flipH="1">
                  <a:off x="685440" y="34290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438280" y="3429000"/>
                  <a:ext cx="129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1676520" y="2819520"/>
                  <a:ext cx="761760" cy="761760"/>
                  <a:chOff x="1676520" y="2819520"/>
                  <a:chExt cx="761760" cy="7617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175248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752480" y="3276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752480" y="358128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438280" y="3276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676520" y="281952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2" name=""/>
              <p:cNvGrpSpPr/>
              <p:nvPr/>
            </p:nvGrpSpPr>
            <p:grpSpPr>
              <a:xfrm>
                <a:off x="4495680" y="990720"/>
                <a:ext cx="914400" cy="1752480"/>
                <a:chOff x="4495680" y="990720"/>
                <a:chExt cx="914400" cy="17524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4495680" y="1371240"/>
                  <a:ext cx="914400" cy="914760"/>
                  <a:chOff x="4495680" y="1371240"/>
                  <a:chExt cx="914400" cy="9147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4495680" y="1600200"/>
                    <a:ext cx="15264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4572000" y="1600200"/>
                    <a:ext cx="304920" cy="45720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4800600" y="1600200"/>
                    <a:ext cx="15228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rot="5400000">
                    <a:off x="4610880" y="1637640"/>
                    <a:ext cx="914400" cy="382320"/>
                  </a:xfrm>
                  <a:custGeom>
                    <a:avLst/>
                    <a:gdLst>
                      <a:gd name="textAreaLeft" fmla="*/ 201960 w 914400"/>
                      <a:gd name="textAreaRight" fmla="*/ 712440 w 914400"/>
                      <a:gd name="textAreaTop" fmla="*/ 84240 h 382320"/>
                      <a:gd name="textAreaBottom" fmla="*/ 298080 h 382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163" y="21600"/>
                        </a:lnTo>
                        <a:lnTo>
                          <a:pt x="5437" y="2160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105520" y="1371600"/>
                    <a:ext cx="304560" cy="914400"/>
                  </a:xfrm>
                  <a:prstGeom prst="ellipse">
                    <a:avLst/>
                  </a:prstGeom>
                  <a:solidFill>
                    <a:srgbClr val="33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V="1">
                    <a:off x="4876920" y="137124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876920" y="205740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572000" y="160020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572000" y="205740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4648320" y="144756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4648320" y="20574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4495680" y="990720"/>
                  <a:ext cx="304920" cy="456840"/>
                  <a:chOff x="4495680" y="990720"/>
                  <a:chExt cx="304920" cy="45684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flipV="1">
                    <a:off x="4648320" y="12952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4572000" y="114336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4648320" y="106704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495680" y="990720"/>
                    <a:ext cx="304920" cy="304920"/>
                  </a:xfrm>
                  <a:prstGeom prst="ellipse">
                    <a:avLst/>
                  </a:prstGeom>
                  <a:noFill/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" name=""/>
                <p:cNvSpPr/>
                <p:nvPr/>
              </p:nvSpPr>
              <p:spPr>
                <a:xfrm>
                  <a:off x="4648320" y="22096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733560" y="2743200"/>
                <a:ext cx="1905120" cy="1371240"/>
                <a:chOff x="3733560" y="2743200"/>
                <a:chExt cx="1905120" cy="137124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3733560" y="2743200"/>
                  <a:ext cx="1219320" cy="1371240"/>
                  <a:chOff x="3733560" y="2743200"/>
                  <a:chExt cx="1219320" cy="137124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3936960" y="2923560"/>
                    <a:ext cx="1015920" cy="101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174200" y="3103920"/>
                    <a:ext cx="0" cy="6858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>
                    <a:off x="3733560" y="3429000"/>
                    <a:ext cx="440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V="1">
                    <a:off x="4174200" y="2959560"/>
                    <a:ext cx="473760" cy="324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4174200" y="3537000"/>
                    <a:ext cx="473760" cy="360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4647960" y="2743200"/>
                    <a:ext cx="0" cy="216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647960" y="3898080"/>
                    <a:ext cx="0" cy="216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" name=""/>
                <p:cNvSpPr/>
                <p:nvPr/>
              </p:nvSpPr>
              <p:spPr>
                <a:xfrm>
                  <a:off x="5029200" y="320040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495680" y="4038480"/>
                <a:ext cx="304920" cy="685800"/>
                <a:chOff x="4495680" y="4038480"/>
                <a:chExt cx="304920" cy="6858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648320" y="4038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95680" y="47242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533520" y="4724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838080" y="3886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Vs = 0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34290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1800" y="3429000"/>
            <a:ext cx="152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66880" y="2819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Times New Roman"/>
              </a:rPr>
              <a:t>Ib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86400" y="3200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oq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8320" y="2362320"/>
            <a:ext cx="0" cy="152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00600" y="2362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c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e circuit est ou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 sirène est mu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3080" y="2895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3520" y="350496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533520" y="990720"/>
            <a:ext cx="5105160" cy="3733560"/>
            <a:chOff x="533520" y="990720"/>
            <a:chExt cx="5105160" cy="3733560"/>
          </a:xfrm>
        </p:grpSpPr>
        <p:grpSp>
          <p:nvGrpSpPr>
            <p:cNvPr id="386" name=""/>
            <p:cNvGrpSpPr/>
            <p:nvPr/>
          </p:nvGrpSpPr>
          <p:grpSpPr>
            <a:xfrm>
              <a:off x="685440" y="990720"/>
              <a:ext cx="4953240" cy="3733560"/>
              <a:chOff x="685440" y="990720"/>
              <a:chExt cx="4953240" cy="373356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685440" y="2819520"/>
                <a:ext cx="3048480" cy="761760"/>
                <a:chOff x="685440" y="2819520"/>
                <a:chExt cx="3048480" cy="761760"/>
              </a:xfrm>
            </p:grpSpPr>
            <p:sp>
              <p:nvSpPr>
                <p:cNvPr id="388" name=""/>
                <p:cNvSpPr/>
                <p:nvPr/>
              </p:nvSpPr>
              <p:spPr>
                <a:xfrm flipH="1">
                  <a:off x="685440" y="34290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38280" y="3429000"/>
                  <a:ext cx="1295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1676520" y="2819520"/>
                  <a:ext cx="761760" cy="761760"/>
                  <a:chOff x="1676520" y="2819520"/>
                  <a:chExt cx="761760" cy="761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175248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752480" y="3276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752480" y="358128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438280" y="327672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676520" y="281952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"/>
              <p:cNvGrpSpPr/>
              <p:nvPr/>
            </p:nvGrpSpPr>
            <p:grpSpPr>
              <a:xfrm>
                <a:off x="4495680" y="990720"/>
                <a:ext cx="914400" cy="1752480"/>
                <a:chOff x="4495680" y="990720"/>
                <a:chExt cx="914400" cy="175248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4495680" y="1371240"/>
                  <a:ext cx="914400" cy="914760"/>
                  <a:chOff x="4495680" y="1371240"/>
                  <a:chExt cx="914400" cy="9147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4495680" y="1600200"/>
                    <a:ext cx="15264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572000" y="1600200"/>
                    <a:ext cx="304920" cy="45720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800600" y="1600200"/>
                    <a:ext cx="15228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5400000">
                    <a:off x="4610880" y="1637640"/>
                    <a:ext cx="914400" cy="382320"/>
                  </a:xfrm>
                  <a:custGeom>
                    <a:avLst/>
                    <a:gdLst>
                      <a:gd name="textAreaLeft" fmla="*/ 201960 w 914400"/>
                      <a:gd name="textAreaRight" fmla="*/ 712440 w 914400"/>
                      <a:gd name="textAreaTop" fmla="*/ 84240 h 382320"/>
                      <a:gd name="textAreaBottom" fmla="*/ 298080 h 382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163" y="21600"/>
                        </a:lnTo>
                        <a:lnTo>
                          <a:pt x="5437" y="2160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5105520" y="1371600"/>
                    <a:ext cx="304560" cy="914400"/>
                  </a:xfrm>
                  <a:prstGeom prst="ellipse">
                    <a:avLst/>
                  </a:prstGeom>
                  <a:solidFill>
                    <a:srgbClr val="33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V="1">
                    <a:off x="4876920" y="137124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76920" y="205740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572000" y="160020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572000" y="205740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4648320" y="144756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648320" y="205740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4495680" y="990720"/>
                  <a:ext cx="304920" cy="456840"/>
                  <a:chOff x="4495680" y="990720"/>
                  <a:chExt cx="304920" cy="45684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flipV="1">
                    <a:off x="4648320" y="129528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572000" y="114336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648320" y="106704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495680" y="990720"/>
                    <a:ext cx="304920" cy="304920"/>
                  </a:xfrm>
                  <a:prstGeom prst="ellipse">
                    <a:avLst/>
                  </a:prstGeom>
                  <a:noFill/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648320" y="22096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3733560" y="2743200"/>
                <a:ext cx="1905120" cy="1371240"/>
                <a:chOff x="3733560" y="2743200"/>
                <a:chExt cx="1905120" cy="1371240"/>
              </a:xfrm>
            </p:grpSpPr>
            <p:grpSp>
              <p:nvGrpSpPr>
                <p:cNvPr id="416" name=""/>
                <p:cNvGrpSpPr/>
                <p:nvPr/>
              </p:nvGrpSpPr>
              <p:grpSpPr>
                <a:xfrm>
                  <a:off x="3733560" y="2743200"/>
                  <a:ext cx="1219320" cy="1371240"/>
                  <a:chOff x="3733560" y="2743200"/>
                  <a:chExt cx="1219320" cy="137124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3936960" y="2923560"/>
                    <a:ext cx="1015920" cy="101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174200" y="3103920"/>
                    <a:ext cx="0" cy="68580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3733560" y="3429000"/>
                    <a:ext cx="4402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V="1">
                    <a:off x="4174200" y="2959560"/>
                    <a:ext cx="473760" cy="324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4174200" y="3537000"/>
                    <a:ext cx="473760" cy="360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4647960" y="2743200"/>
                    <a:ext cx="0" cy="216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4647960" y="3898080"/>
                    <a:ext cx="0" cy="216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" name=""/>
                <p:cNvSpPr/>
                <p:nvPr/>
              </p:nvSpPr>
              <p:spPr>
                <a:xfrm>
                  <a:off x="5029200" y="3200400"/>
                  <a:ext cx="609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4495680" y="4038480"/>
                <a:ext cx="304920" cy="685800"/>
                <a:chOff x="4495680" y="4038480"/>
                <a:chExt cx="304920" cy="6858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648320" y="4038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495680" y="47242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>
              <a:off x="533520" y="4724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04920" y="10666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étectio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85800" y="350496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3886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Vs = 5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3200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tur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19051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 courant circule dans l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85800" y="3429000"/>
            <a:ext cx="1066680" cy="0"/>
            <a:chOff x="685800" y="3429000"/>
            <a:chExt cx="1066680" cy="0"/>
          </a:xfrm>
        </p:grpSpPr>
        <p:sp>
          <p:nvSpPr>
            <p:cNvPr id="436" name=""/>
            <p:cNvSpPr/>
            <p:nvPr/>
          </p:nvSpPr>
          <p:spPr>
            <a:xfrm>
              <a:off x="1066680" y="3429000"/>
              <a:ext cx="76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342900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3000" y="342900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438280" y="3429000"/>
            <a:ext cx="1752840" cy="0"/>
            <a:chOff x="2438280" y="3429000"/>
            <a:chExt cx="1752840" cy="0"/>
          </a:xfrm>
        </p:grpSpPr>
        <p:sp>
          <p:nvSpPr>
            <p:cNvPr id="440" name=""/>
            <p:cNvSpPr/>
            <p:nvPr/>
          </p:nvSpPr>
          <p:spPr>
            <a:xfrm>
              <a:off x="2895480" y="3429000"/>
              <a:ext cx="15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438280" y="342900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8120" y="342900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4648320" y="129528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4648320" y="2057400"/>
            <a:ext cx="0" cy="914400"/>
            <a:chOff x="4648320" y="2057400"/>
            <a:chExt cx="0" cy="914400"/>
          </a:xfrm>
        </p:grpSpPr>
        <p:sp>
          <p:nvSpPr>
            <p:cNvPr id="445" name=""/>
            <p:cNvSpPr/>
            <p:nvPr/>
          </p:nvSpPr>
          <p:spPr>
            <a:xfrm>
              <a:off x="4648320" y="20574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48320" y="2590920"/>
              <a:ext cx="0" cy="75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8320" y="2666880"/>
              <a:ext cx="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648320" y="38862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76920" y="2362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28954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562720" y="1447560"/>
            <a:ext cx="3428640" cy="914760"/>
            <a:chOff x="5562720" y="1447560"/>
            <a:chExt cx="3428640" cy="914760"/>
          </a:xfrm>
        </p:grpSpPr>
        <p:grpSp>
          <p:nvGrpSpPr>
            <p:cNvPr id="452" name=""/>
            <p:cNvGrpSpPr/>
            <p:nvPr/>
          </p:nvGrpSpPr>
          <p:grpSpPr>
            <a:xfrm>
              <a:off x="8610480" y="1447560"/>
              <a:ext cx="380880" cy="914760"/>
              <a:chOff x="8610480" y="1447560"/>
              <a:chExt cx="380880" cy="91476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8610480" y="1447560"/>
                <a:ext cx="30492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686800" y="190512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610480" y="2209680"/>
                <a:ext cx="30492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562720" y="1447560"/>
              <a:ext cx="380880" cy="914760"/>
              <a:chOff x="5562720" y="1447560"/>
              <a:chExt cx="380880" cy="91476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5562720" y="1447560"/>
                <a:ext cx="30492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39040" y="190512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62720" y="2209680"/>
                <a:ext cx="30492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0" name=""/>
          <p:cNvSpPr/>
          <p:nvPr/>
        </p:nvSpPr>
        <p:spPr>
          <a:xfrm>
            <a:off x="304920" y="4815000"/>
            <a:ext cx="8458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transistor est satur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 circuit d’alimentation de la sirène est ferm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sirène est alimenté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62" name=""/>
          <p:cNvGrpSpPr/>
          <p:nvPr/>
        </p:nvGrpSpPr>
        <p:grpSpPr>
          <a:xfrm>
            <a:off x="7391520" y="1066680"/>
            <a:ext cx="1066680" cy="3657600"/>
            <a:chOff x="7391520" y="1066680"/>
            <a:chExt cx="1066680" cy="3657600"/>
          </a:xfrm>
        </p:grpSpPr>
        <p:sp>
          <p:nvSpPr>
            <p:cNvPr id="463" name=""/>
            <p:cNvSpPr/>
            <p:nvPr/>
          </p:nvSpPr>
          <p:spPr>
            <a:xfrm>
              <a:off x="7391520" y="2666880"/>
              <a:ext cx="304560" cy="1447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543800" y="1066680"/>
              <a:ext cx="914400" cy="3657600"/>
              <a:chOff x="7543800" y="1066680"/>
              <a:chExt cx="914400" cy="36576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7543800" y="4038480"/>
                <a:ext cx="304920" cy="685800"/>
                <a:chOff x="7543800" y="4038480"/>
                <a:chExt cx="304920" cy="68580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7696440" y="403848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543800" y="4724280"/>
                  <a:ext cx="304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7543800" y="1066680"/>
                <a:ext cx="914400" cy="1676520"/>
                <a:chOff x="7543800" y="1066680"/>
                <a:chExt cx="914400" cy="167652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7543800" y="1447560"/>
                  <a:ext cx="914400" cy="914760"/>
                  <a:chOff x="7543800" y="1447560"/>
                  <a:chExt cx="914400" cy="9147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7543800" y="1676520"/>
                    <a:ext cx="15264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620120" y="1676520"/>
                    <a:ext cx="304920" cy="457200"/>
                  </a:xfrm>
                  <a:prstGeom prst="rect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48720" y="1676520"/>
                    <a:ext cx="152280" cy="45720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 rot="5400000">
                    <a:off x="7659000" y="1713960"/>
                    <a:ext cx="914400" cy="382320"/>
                  </a:xfrm>
                  <a:custGeom>
                    <a:avLst/>
                    <a:gdLst>
                      <a:gd name="textAreaLeft" fmla="*/ 201960 w 914400"/>
                      <a:gd name="textAreaRight" fmla="*/ 712440 w 914400"/>
                      <a:gd name="textAreaTop" fmla="*/ 84240 h 382320"/>
                      <a:gd name="textAreaBottom" fmla="*/ 298080 h 3823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163" y="21600"/>
                        </a:lnTo>
                        <a:lnTo>
                          <a:pt x="5437" y="2160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8153640" y="1447920"/>
                    <a:ext cx="304560" cy="914400"/>
                  </a:xfrm>
                  <a:prstGeom prst="ellipse">
                    <a:avLst/>
                  </a:prstGeom>
                  <a:solidFill>
                    <a:srgbClr val="3333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>
                    <a:off x="7925040" y="144756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925040" y="2133720"/>
                    <a:ext cx="3808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620120" y="167652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620120" y="2133720"/>
                    <a:ext cx="304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V="1">
                    <a:off x="7696440" y="1523880"/>
                    <a:ext cx="0" cy="152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696440" y="213372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543800" y="1066680"/>
                  <a:ext cx="304920" cy="456840"/>
                  <a:chOff x="7543800" y="1066680"/>
                  <a:chExt cx="304920" cy="4568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V="1">
                    <a:off x="7696440" y="1371240"/>
                    <a:ext cx="0" cy="152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620120" y="1219320"/>
                    <a:ext cx="1522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696440" y="1143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543800" y="1066680"/>
                    <a:ext cx="304920" cy="304920"/>
                  </a:xfrm>
                  <a:prstGeom prst="ellipse">
                    <a:avLst/>
                  </a:prstGeom>
                  <a:noFill/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6" name=""/>
                <p:cNvSpPr/>
                <p:nvPr/>
              </p:nvSpPr>
              <p:spPr>
                <a:xfrm>
                  <a:off x="7696080" y="22096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7" name=""/>
            <p:cNvSpPr/>
            <p:nvPr/>
          </p:nvSpPr>
          <p:spPr>
            <a:xfrm>
              <a:off x="7620120" y="2743200"/>
              <a:ext cx="1522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391520" y="2286000"/>
            <a:ext cx="380880" cy="1828800"/>
            <a:chOff x="7391520" y="2286000"/>
            <a:chExt cx="380880" cy="1828800"/>
          </a:xfrm>
        </p:grpSpPr>
        <p:sp>
          <p:nvSpPr>
            <p:cNvPr id="489" name=""/>
            <p:cNvSpPr/>
            <p:nvPr/>
          </p:nvSpPr>
          <p:spPr>
            <a:xfrm>
              <a:off x="7391520" y="2666880"/>
              <a:ext cx="304560" cy="1447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620120" y="2286000"/>
              <a:ext cx="152280" cy="1828800"/>
              <a:chOff x="7620120" y="2286000"/>
              <a:chExt cx="152280" cy="1828800"/>
            </a:xfrm>
          </p:grpSpPr>
          <p:sp>
            <p:nvSpPr>
              <p:cNvPr id="491" name=""/>
              <p:cNvSpPr/>
              <p:nvPr/>
            </p:nvSpPr>
            <p:spPr>
              <a:xfrm>
                <a:off x="7620120" y="2666880"/>
                <a:ext cx="7596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620120" y="2743200"/>
                <a:ext cx="152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696080" y="2286000"/>
                <a:ext cx="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15:23:36Z</dcterms:created>
  <dc:creator>FIORUCCI</dc:creator>
  <dc:description/>
  <dc:language>en-US</dc:language>
  <cp:lastModifiedBy>FIORUCCI</cp:lastModifiedBy>
  <dcterms:modified xsi:type="dcterms:W3CDTF">2000-04-15T09:25:38Z</dcterms:modified>
  <cp:revision>24</cp:revision>
  <dc:subject/>
  <dc:title>LE TRANSISTOR EN COMMUTION</dc:title>
</cp:coreProperties>
</file>