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7e98b1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447920" y="1066680"/>
            <a:ext cx="65530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7c80"/>
                    </a:gs>
                    <a:gs pos="100000">
                      <a:srgbClr val="ffff99"/>
                    </a:gs>
                  </a:gsLst>
                  <a:lin ang="5400000"/>
                </a:gradFill>
                <a:latin typeface="Times New Roman"/>
              </a:rPr>
              <a:t>Les Microcontrôleur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7c80"/>
                  </a:gs>
                  <a:gs pos="100000">
                    <a:srgbClr val="ff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7c80"/>
                    </a:gs>
                    <a:gs pos="100000">
                      <a:srgbClr val="ffff99"/>
                    </a:gs>
                  </a:gsLst>
                  <a:lin ang="5400000"/>
                </a:gradFill>
                <a:latin typeface="Times New Roman"/>
              </a:rPr>
              <a:t>PIC 16Cx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7c80"/>
                  </a:gs>
                  <a:gs pos="100000">
                    <a:srgbClr val="ff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3505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P Electronique - Systèmes microprogramm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2590920" y="5545800"/>
            <a:ext cx="3962160" cy="931320"/>
            <a:chOff x="2590920" y="5545800"/>
            <a:chExt cx="3962160" cy="931320"/>
          </a:xfrm>
        </p:grpSpPr>
        <p:sp>
          <p:nvSpPr>
            <p:cNvPr id="42" name=""/>
            <p:cNvSpPr/>
            <p:nvPr/>
          </p:nvSpPr>
          <p:spPr>
            <a:xfrm>
              <a:off x="4213080" y="6019920"/>
              <a:ext cx="380520" cy="380880"/>
            </a:xfrm>
            <a:custGeom>
              <a:avLst/>
              <a:gdLst>
                <a:gd name="textAreaLeft" fmla="*/ 24480 w 380520"/>
                <a:gd name="textAreaRight" fmla="*/ 356040 w 38052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1600" h="21620">
                  <a:moveTo>
                    <a:pt x="0" y="0"/>
                  </a:moveTo>
                  <a:lnTo>
                    <a:pt x="21600" y="0"/>
                  </a:lnTo>
                  <a:lnTo>
                    <a:pt x="21600" y="21620"/>
                  </a:lnTo>
                  <a:lnTo>
                    <a:pt x="0" y="21620"/>
                  </a:lnTo>
                  <a:close/>
                </a:path>
                <a:path fill="lightenLess" w="21600" h="2162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0">
                  <a:moveTo>
                    <a:pt x="21600" y="0"/>
                  </a:moveTo>
                  <a:lnTo>
                    <a:pt x="21600" y="21620"/>
                  </a:lnTo>
                  <a:lnTo>
                    <a:pt x="20200" y="20220"/>
                  </a:lnTo>
                  <a:lnTo>
                    <a:pt x="20200" y="1400"/>
                  </a:lnTo>
                  <a:close/>
                </a:path>
                <a:path fill="darkenLess" w="21600" h="21620">
                  <a:moveTo>
                    <a:pt x="21600" y="21620"/>
                  </a:moveTo>
                  <a:lnTo>
                    <a:pt x="0" y="21620"/>
                  </a:lnTo>
                  <a:lnTo>
                    <a:pt x="1400" y="20220"/>
                  </a:lnTo>
                  <a:lnTo>
                    <a:pt x="20200" y="20220"/>
                  </a:lnTo>
                  <a:close/>
                </a:path>
                <a:path fill="lighten" w="21600" h="21620">
                  <a:moveTo>
                    <a:pt x="0" y="2162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0"/>
                  </a:lnTo>
                  <a:close/>
                </a:path>
                <a:path fill="darken" w="21600" h="21620">
                  <a:moveTo>
                    <a:pt x="10800" y="3847"/>
                  </a:moveTo>
                  <a:lnTo>
                    <a:pt x="13376" y="6458"/>
                  </a:lnTo>
                  <a:lnTo>
                    <a:pt x="13376" y="4718"/>
                  </a:lnTo>
                  <a:lnTo>
                    <a:pt x="15152" y="4718"/>
                  </a:lnTo>
                  <a:lnTo>
                    <a:pt x="15152" y="8234"/>
                  </a:lnTo>
                  <a:lnTo>
                    <a:pt x="17763" y="10810"/>
                  </a:lnTo>
                  <a:lnTo>
                    <a:pt x="16109" y="10810"/>
                  </a:lnTo>
                  <a:lnTo>
                    <a:pt x="16109" y="17999"/>
                  </a:lnTo>
                  <a:lnTo>
                    <a:pt x="5491" y="17999"/>
                  </a:lnTo>
                  <a:lnTo>
                    <a:pt x="5491" y="10810"/>
                  </a:lnTo>
                  <a:lnTo>
                    <a:pt x="3837" y="10810"/>
                  </a:lnTo>
                  <a:close/>
                </a:path>
                <a:path fill="darkenLess" w="21600" h="21620">
                  <a:moveTo>
                    <a:pt x="13376" y="6458"/>
                  </a:moveTo>
                  <a:lnTo>
                    <a:pt x="13376" y="4718"/>
                  </a:lnTo>
                  <a:lnTo>
                    <a:pt x="15152" y="4718"/>
                  </a:lnTo>
                  <a:lnTo>
                    <a:pt x="15152" y="8234"/>
                  </a:lnTo>
                  <a:close/>
                </a:path>
                <a:path fill="darkenLess" w="21600" h="21620">
                  <a:moveTo>
                    <a:pt x="9877" y="14309"/>
                  </a:moveTo>
                  <a:lnTo>
                    <a:pt x="11723" y="14309"/>
                  </a:lnTo>
                  <a:lnTo>
                    <a:pt x="11723" y="17999"/>
                  </a:lnTo>
                  <a:lnTo>
                    <a:pt x="16109" y="17999"/>
                  </a:lnTo>
                  <a:lnTo>
                    <a:pt x="16109" y="10810"/>
                  </a:lnTo>
                  <a:lnTo>
                    <a:pt x="5491" y="10810"/>
                  </a:lnTo>
                  <a:lnTo>
                    <a:pt x="5491" y="17999"/>
                  </a:lnTo>
                  <a:lnTo>
                    <a:pt x="9877" y="17999"/>
                  </a:lnTo>
                  <a:close/>
                </a:path>
              </a:pathLst>
            </a:custGeom>
            <a:gradFill rotWithShape="0">
              <a:gsLst>
                <a:gs pos="0">
                  <a:srgbClr val="ff9999"/>
                </a:gs>
                <a:gs pos="50000">
                  <a:srgbClr val="ffff99"/>
                </a:gs>
                <a:gs pos="100000">
                  <a:srgbClr val="ff9999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741560" y="601920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i="1" lang="en-US" sz="1800" spc="-1" strike="noStrike">
                  <a:solidFill>
                    <a:srgbClr val="ffff99"/>
                  </a:solidFill>
                  <a:latin typeface="Times New Roman"/>
                </a:rPr>
                <a:t>Somma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67320" y="5545800"/>
              <a:ext cx="353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Clic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imple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i="1" lang="en-US" sz="1800" spc="-1" strike="noStrike">
                  <a:solidFill>
                    <a:srgbClr val="ffff99"/>
                  </a:solidFill>
                  <a:latin typeface="Times New Roman"/>
                </a:rPr>
                <a:t>animation suiv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90920" y="5562720"/>
              <a:ext cx="3962160" cy="914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76120" y="6018840"/>
              <a:ext cx="107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Clic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ur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0480" y="649044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49521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Elaboration du travail suivie et validée par M. Patrick Ana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914400" y="152280"/>
            <a:ext cx="6629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Microcontrôleur ou Microprocesseur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12193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8077320" y="228600"/>
            <a:ext cx="838080" cy="826560"/>
            <a:chOff x="8077320" y="228600"/>
            <a:chExt cx="838080" cy="826560"/>
          </a:xfrm>
        </p:grpSpPr>
        <p:pic>
          <p:nvPicPr>
            <p:cNvPr id="157" name="CI" descr=""/>
            <p:cNvPicPr/>
            <p:nvPr/>
          </p:nvPicPr>
          <p:blipFill>
            <a:blip r:embed="rId1"/>
            <a:stretch/>
          </p:blipFill>
          <p:spPr>
            <a:xfrm>
              <a:off x="8077320" y="228600"/>
              <a:ext cx="83808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8121600" y="6562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80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353200" y="53244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icroprocess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29420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érons dans un premier temps le système  minimum à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croprocesseur 680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361240"/>
            <a:ext cx="373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ul, le 6809 ne peut fonctionner. Il requiert différentes ressources qui so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335160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émoire program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ROM, PROM, EPROM..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403776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émoire donné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RA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441864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terface d ’entrées / sort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PI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54694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ifférents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bu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d ’interconn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6200" y="5104440"/>
            <a:ext cx="27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décodeur d’ adress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343400" y="1981080"/>
            <a:ext cx="4267080" cy="3353400"/>
            <a:chOff x="4343400" y="1981080"/>
            <a:chExt cx="4267080" cy="3353400"/>
          </a:xfrm>
        </p:grpSpPr>
        <p:sp>
          <p:nvSpPr>
            <p:cNvPr id="168" name=""/>
            <p:cNvSpPr/>
            <p:nvPr/>
          </p:nvSpPr>
          <p:spPr>
            <a:xfrm>
              <a:off x="4343400" y="1981080"/>
              <a:ext cx="4267080" cy="335304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26640" y="4997160"/>
              <a:ext cx="225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Système minimum à 680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495320" y="2209680"/>
            <a:ext cx="916920" cy="2514600"/>
            <a:chOff x="4495320" y="2209680"/>
            <a:chExt cx="916920" cy="2514600"/>
          </a:xfrm>
        </p:grpSpPr>
        <p:sp>
          <p:nvSpPr>
            <p:cNvPr id="171" name=""/>
            <p:cNvSpPr/>
            <p:nvPr/>
          </p:nvSpPr>
          <p:spPr>
            <a:xfrm>
              <a:off x="4495680" y="2209680"/>
              <a:ext cx="914400" cy="2514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95320" y="2269080"/>
              <a:ext cx="916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micr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680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837400" y="2666160"/>
            <a:ext cx="759960" cy="991440"/>
            <a:chOff x="5837400" y="2666160"/>
            <a:chExt cx="759960" cy="991440"/>
          </a:xfrm>
        </p:grpSpPr>
        <p:sp>
          <p:nvSpPr>
            <p:cNvPr id="174" name=""/>
            <p:cNvSpPr/>
            <p:nvPr/>
          </p:nvSpPr>
          <p:spPr>
            <a:xfrm>
              <a:off x="5867280" y="2666880"/>
              <a:ext cx="685800" cy="99072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37400" y="2666160"/>
              <a:ext cx="75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751800" y="2666160"/>
            <a:ext cx="759960" cy="991440"/>
            <a:chOff x="6751800" y="2666160"/>
            <a:chExt cx="759960" cy="991440"/>
          </a:xfrm>
        </p:grpSpPr>
        <p:sp>
          <p:nvSpPr>
            <p:cNvPr id="177" name=""/>
            <p:cNvSpPr/>
            <p:nvPr/>
          </p:nvSpPr>
          <p:spPr>
            <a:xfrm>
              <a:off x="6781680" y="2666880"/>
              <a:ext cx="685800" cy="99072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51800" y="2666160"/>
              <a:ext cx="75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696080" y="2666160"/>
            <a:ext cx="685800" cy="991440"/>
            <a:chOff x="7696080" y="2666160"/>
            <a:chExt cx="685800" cy="991440"/>
          </a:xfrm>
        </p:grpSpPr>
        <p:sp>
          <p:nvSpPr>
            <p:cNvPr id="180" name=""/>
            <p:cNvSpPr/>
            <p:nvPr/>
          </p:nvSpPr>
          <p:spPr>
            <a:xfrm>
              <a:off x="7696080" y="2666880"/>
              <a:ext cx="685800" cy="99072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744680" y="266616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867280" y="4326480"/>
            <a:ext cx="2514600" cy="398880"/>
            <a:chOff x="5867280" y="4326480"/>
            <a:chExt cx="2514600" cy="398880"/>
          </a:xfrm>
        </p:grpSpPr>
        <p:sp>
          <p:nvSpPr>
            <p:cNvPr id="183" name=""/>
            <p:cNvSpPr/>
            <p:nvPr/>
          </p:nvSpPr>
          <p:spPr>
            <a:xfrm>
              <a:off x="5867280" y="4343400"/>
              <a:ext cx="2514600" cy="3808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47640" y="4326480"/>
              <a:ext cx="123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écodeu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410080" y="2362320"/>
            <a:ext cx="2971800" cy="304560"/>
            <a:chOff x="5410080" y="2362320"/>
            <a:chExt cx="2971800" cy="304560"/>
          </a:xfrm>
        </p:grpSpPr>
        <p:sp>
          <p:nvSpPr>
            <p:cNvPr id="186" name=""/>
            <p:cNvSpPr/>
            <p:nvPr/>
          </p:nvSpPr>
          <p:spPr>
            <a:xfrm>
              <a:off x="5410080" y="236232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7220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8660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0100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410080" y="3657600"/>
            <a:ext cx="2971800" cy="685800"/>
            <a:chOff x="5410080" y="3657600"/>
            <a:chExt cx="2971800" cy="685800"/>
          </a:xfrm>
        </p:grpSpPr>
        <p:sp>
          <p:nvSpPr>
            <p:cNvPr id="191" name=""/>
            <p:cNvSpPr/>
            <p:nvPr/>
          </p:nvSpPr>
          <p:spPr>
            <a:xfrm>
              <a:off x="5410080" y="4038480"/>
              <a:ext cx="2971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019920" y="36576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72200" y="40384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6934320" y="36576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7848720" y="36576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410080" y="3657240"/>
            <a:ext cx="2590920" cy="228960"/>
            <a:chOff x="5410080" y="3657240"/>
            <a:chExt cx="2590920" cy="228960"/>
          </a:xfrm>
        </p:grpSpPr>
        <p:sp>
          <p:nvSpPr>
            <p:cNvPr id="197" name=""/>
            <p:cNvSpPr/>
            <p:nvPr/>
          </p:nvSpPr>
          <p:spPr>
            <a:xfrm>
              <a:off x="5410080" y="3886200"/>
              <a:ext cx="2590920" cy="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172200" y="3657240"/>
              <a:ext cx="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7086600" y="3657240"/>
              <a:ext cx="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8001000" y="3657240"/>
              <a:ext cx="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400800" y="3657240"/>
            <a:ext cx="1752480" cy="685800"/>
            <a:chOff x="6400800" y="3657240"/>
            <a:chExt cx="1752480" cy="685800"/>
          </a:xfrm>
        </p:grpSpPr>
        <p:sp>
          <p:nvSpPr>
            <p:cNvPr id="202" name=""/>
            <p:cNvSpPr/>
            <p:nvPr/>
          </p:nvSpPr>
          <p:spPr>
            <a:xfrm flipV="1">
              <a:off x="6400800" y="3657240"/>
              <a:ext cx="0" cy="6858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315200" y="3657240"/>
              <a:ext cx="0" cy="6858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153280" y="3657240"/>
              <a:ext cx="0" cy="6858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152280"/>
            <a:ext cx="6629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Microcontrôleur ou Microprocesseur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12193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04320" y="53244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icrocontrôl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354320"/>
            <a:ext cx="3581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système à microprocesseur nécessite une grande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place matériell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(nombreux circuits) ainsi qu ’une bonne qualité de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connectiqu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microcontrôleurs permettent quant à eux de s ’affranchir de ces contraintes puisqu ’ils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intègren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en un seul circuit au moins toutes les ressources propres à un système minim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8077320" y="228600"/>
            <a:ext cx="838080" cy="855000"/>
            <a:chOff x="8077320" y="228600"/>
            <a:chExt cx="838080" cy="855000"/>
          </a:xfrm>
        </p:grpSpPr>
        <p:pic>
          <p:nvPicPr>
            <p:cNvPr id="210" name="CI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77320" y="228600"/>
              <a:ext cx="838080" cy="781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11" name=""/>
            <p:cNvSpPr/>
            <p:nvPr/>
          </p:nvSpPr>
          <p:spPr>
            <a:xfrm>
              <a:off x="8153280" y="6847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914400" y="152280"/>
            <a:ext cx="6629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Microcontrôleur ou Microprocesseur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12193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04320" y="53244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icrocontrôl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35468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nsi, les microcontrôleur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6Cx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osent des principales ressources internes suivant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8077320" y="228600"/>
            <a:ext cx="838080" cy="855000"/>
            <a:chOff x="8077320" y="228600"/>
            <a:chExt cx="838080" cy="855000"/>
          </a:xfrm>
        </p:grpSpPr>
        <p:pic>
          <p:nvPicPr>
            <p:cNvPr id="217" name="CI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77320" y="228600"/>
              <a:ext cx="838080" cy="781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18" name=""/>
            <p:cNvSpPr/>
            <p:nvPr/>
          </p:nvSpPr>
          <p:spPr>
            <a:xfrm>
              <a:off x="8153280" y="6847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80880" y="24217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émoire de program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352680" y="2514600"/>
            <a:ext cx="3581640" cy="4038480"/>
            <a:chOff x="3352680" y="2514600"/>
            <a:chExt cx="3581640" cy="4038480"/>
          </a:xfrm>
        </p:grpSpPr>
        <p:sp>
          <p:nvSpPr>
            <p:cNvPr id="221" name=""/>
            <p:cNvSpPr/>
            <p:nvPr/>
          </p:nvSpPr>
          <p:spPr>
            <a:xfrm>
              <a:off x="3352680" y="2514600"/>
              <a:ext cx="3581640" cy="4038480"/>
            </a:xfrm>
            <a:prstGeom prst="rect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99"/>
                </a:gs>
              </a:gsLst>
              <a:lin ang="108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29000" y="2649600"/>
              <a:ext cx="342900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Les PIC 16Cxx se déclinent selon 3 versions de mémoire de programm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fr-FR" sz="2000" spc="-1" strike="noStrike">
                  <a:solidFill>
                    <a:srgbClr val="000000"/>
                  </a:solidFill>
                  <a:latin typeface="Times New Roman"/>
                </a:rPr>
                <a:t>ROM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 (ou OTPROM), programmable une seule foi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Capacité: 512 à 2Kmot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fr-FR" sz="2000" spc="-1" strike="noStrike">
                  <a:solidFill>
                    <a:srgbClr val="000000"/>
                  </a:solidFill>
                  <a:latin typeface="Times New Roman"/>
                </a:rPr>
                <a:t>UVPROM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, effaçable par rayonnemant UV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Capacité: 512 à 4Kmot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fr-FR" sz="2000" spc="-1" strike="noStrike">
                  <a:solidFill>
                    <a:srgbClr val="000000"/>
                  </a:solidFill>
                  <a:latin typeface="Times New Roman"/>
                </a:rPr>
                <a:t>EEPROM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, effaçable électriquement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Capacité: 1Kmot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914400" y="152280"/>
            <a:ext cx="6629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Microcontrôleur ou Microprocesseur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12193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04320" y="53244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icrocontrôl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8077320" y="228600"/>
            <a:ext cx="838080" cy="855000"/>
            <a:chOff x="8077320" y="228600"/>
            <a:chExt cx="838080" cy="855000"/>
          </a:xfrm>
        </p:grpSpPr>
        <p:pic>
          <p:nvPicPr>
            <p:cNvPr id="227" name="CI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77320" y="228600"/>
              <a:ext cx="838080" cy="781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28" name=""/>
            <p:cNvSpPr/>
            <p:nvPr/>
          </p:nvSpPr>
          <p:spPr>
            <a:xfrm>
              <a:off x="8153280" y="6847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380880" y="28026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émoire de donné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352680" y="2514600"/>
            <a:ext cx="3581640" cy="4038480"/>
            <a:chOff x="3352680" y="2514600"/>
            <a:chExt cx="3581640" cy="4038480"/>
          </a:xfrm>
        </p:grpSpPr>
        <p:sp>
          <p:nvSpPr>
            <p:cNvPr id="231" name=""/>
            <p:cNvSpPr/>
            <p:nvPr/>
          </p:nvSpPr>
          <p:spPr>
            <a:xfrm>
              <a:off x="3352680" y="2514600"/>
              <a:ext cx="3581640" cy="4038480"/>
            </a:xfrm>
            <a:prstGeom prst="rect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99"/>
                </a:gs>
              </a:gsLst>
              <a:lin ang="108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29000" y="2665800"/>
              <a:ext cx="34290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s PIC 16Cxx disposent d ’une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mémoire de donnée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(RAM) de capacité 25 à 192 octet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80880" y="135468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nsi, les microcontrôleur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6Cx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osent des principales ressources internes suivant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24217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émoire de program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14400" y="152280"/>
            <a:ext cx="6629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Microcontrôleur ou Microprocesseur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12193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04320" y="53244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icrocontrôl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8077320" y="228600"/>
            <a:ext cx="838080" cy="855000"/>
            <a:chOff x="8077320" y="228600"/>
            <a:chExt cx="838080" cy="855000"/>
          </a:xfrm>
        </p:grpSpPr>
        <p:pic>
          <p:nvPicPr>
            <p:cNvPr id="239" name="CI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77320" y="228600"/>
              <a:ext cx="838080" cy="781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40" name=""/>
            <p:cNvSpPr/>
            <p:nvPr/>
          </p:nvSpPr>
          <p:spPr>
            <a:xfrm>
              <a:off x="8153280" y="6847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380880" y="28026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émoire de donné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352680" y="2514600"/>
            <a:ext cx="3581640" cy="4038480"/>
            <a:chOff x="3352680" y="2514600"/>
            <a:chExt cx="3581640" cy="4038480"/>
          </a:xfrm>
        </p:grpSpPr>
        <p:sp>
          <p:nvSpPr>
            <p:cNvPr id="243" name=""/>
            <p:cNvSpPr/>
            <p:nvPr/>
          </p:nvSpPr>
          <p:spPr>
            <a:xfrm>
              <a:off x="3352680" y="2514600"/>
              <a:ext cx="3581640" cy="4038480"/>
            </a:xfrm>
            <a:prstGeom prst="rect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99"/>
                </a:gs>
              </a:gsLst>
              <a:lin ang="108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9000" y="2742120"/>
              <a:ext cx="34290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s PIC 16Cxx proposent un certain nombre de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roches d ’entrées/sortie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(12 à 33) permettant l ’acquisition ou la transmission de signaux numériqu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80880" y="135468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nsi, les microcontrôleur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6Cx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osent des principales ressources internes suivant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24217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émoire de program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318348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trées/sort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914400" y="152280"/>
            <a:ext cx="6629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Microcontrôleur ou Microprocesseur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12193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04320" y="53244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icrocontrôl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77320" y="228600"/>
            <a:ext cx="838080" cy="855000"/>
            <a:chOff x="8077320" y="228600"/>
            <a:chExt cx="838080" cy="855000"/>
          </a:xfrm>
        </p:grpSpPr>
        <p:pic>
          <p:nvPicPr>
            <p:cNvPr id="252" name="CI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77320" y="228600"/>
              <a:ext cx="838080" cy="781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53" name=""/>
            <p:cNvSpPr/>
            <p:nvPr/>
          </p:nvSpPr>
          <p:spPr>
            <a:xfrm>
              <a:off x="8153280" y="6847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80880" y="28026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émoire de donné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352680" y="2514600"/>
            <a:ext cx="3581640" cy="4038480"/>
            <a:chOff x="3352680" y="2514600"/>
            <a:chExt cx="3581640" cy="4038480"/>
          </a:xfrm>
        </p:grpSpPr>
        <p:sp>
          <p:nvSpPr>
            <p:cNvPr id="256" name=""/>
            <p:cNvSpPr/>
            <p:nvPr/>
          </p:nvSpPr>
          <p:spPr>
            <a:xfrm>
              <a:off x="3352680" y="2514600"/>
              <a:ext cx="3581640" cy="4038480"/>
            </a:xfrm>
            <a:prstGeom prst="rect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99"/>
                </a:gs>
              </a:gsLst>
              <a:lin ang="108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29000" y="2742120"/>
              <a:ext cx="35053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ertains PIC 16Cxx possèdent 1 ou 2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ports séri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permettant la transmission série d ’informations numériqu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80880" y="135468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nsi, les microcontrôleur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6Cx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osent des principales ressources internes suivant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24217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émoire de program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318348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trées/sort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9080" y="3792960"/>
            <a:ext cx="209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 éventuell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ort séri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914400" y="152280"/>
            <a:ext cx="6629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Microcontrôleur ou Microprocesseur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12193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04320" y="53244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icrocontrôl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8077320" y="228600"/>
            <a:ext cx="838080" cy="855000"/>
            <a:chOff x="8077320" y="228600"/>
            <a:chExt cx="838080" cy="855000"/>
          </a:xfrm>
        </p:grpSpPr>
        <p:pic>
          <p:nvPicPr>
            <p:cNvPr id="266" name="CI" descr=""/>
            <p:cNvPicPr/>
            <p:nvPr/>
          </p:nvPicPr>
          <p:blipFill>
            <a:blip r:embed="rId1"/>
            <a:stretch/>
          </p:blipFill>
          <p:spPr>
            <a:xfrm>
              <a:off x="8077320" y="228600"/>
              <a:ext cx="838080" cy="781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67" name=""/>
            <p:cNvSpPr/>
            <p:nvPr/>
          </p:nvSpPr>
          <p:spPr>
            <a:xfrm>
              <a:off x="8153280" y="6847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80880" y="28026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émoire de donné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352680" y="2514600"/>
            <a:ext cx="3581640" cy="4038480"/>
            <a:chOff x="3352680" y="2514600"/>
            <a:chExt cx="3581640" cy="4038480"/>
          </a:xfrm>
        </p:grpSpPr>
        <p:sp>
          <p:nvSpPr>
            <p:cNvPr id="270" name=""/>
            <p:cNvSpPr/>
            <p:nvPr/>
          </p:nvSpPr>
          <p:spPr>
            <a:xfrm>
              <a:off x="3352680" y="2514600"/>
              <a:ext cx="3581640" cy="4038480"/>
            </a:xfrm>
            <a:prstGeom prst="rect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99"/>
                </a:gs>
              </a:gsLst>
              <a:lin ang="108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29000" y="2878560"/>
              <a:ext cx="35053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ertains PIC 16Cxx possèdent en ressource interne un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onvertisseur Analogique Numérique 8bit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permettant l ’acquisition de 4 à 8 signaux analogiques différent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80880" y="135468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nsi, les microcontrôleur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6Cx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osent des principales ressources internes suivant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24217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émoire de program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318348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trées/sort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9080" y="3792960"/>
            <a:ext cx="209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 éventuell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ort séri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4783680"/>
            <a:ext cx="36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isseu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914400" y="152280"/>
            <a:ext cx="6629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Microcontrôleur ou Microprocesseur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12193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04320" y="53244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icrocontrôl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8077320" y="228600"/>
            <a:ext cx="838080" cy="855000"/>
            <a:chOff x="8077320" y="228600"/>
            <a:chExt cx="838080" cy="855000"/>
          </a:xfrm>
        </p:grpSpPr>
        <p:pic>
          <p:nvPicPr>
            <p:cNvPr id="281" name="CI" descr=""/>
            <p:cNvPicPr/>
            <p:nvPr/>
          </p:nvPicPr>
          <p:blipFill>
            <a:blip r:embed="rId1"/>
            <a:stretch/>
          </p:blipFill>
          <p:spPr>
            <a:xfrm>
              <a:off x="8077320" y="228600"/>
              <a:ext cx="838080" cy="781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82" name=""/>
            <p:cNvSpPr/>
            <p:nvPr/>
          </p:nvSpPr>
          <p:spPr>
            <a:xfrm>
              <a:off x="8153280" y="6847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380880" y="1354320"/>
            <a:ext cx="3581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 microcontrôleurs PIC 16Cxx sont des circuits complets et performa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s s ’appliquent complètement dans la mise en œuvre de systèmes microprogrammés si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271000" y="611028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25040" y="649044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04920" y="12193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1432080"/>
            <a:ext cx="358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a majorité des structures microprogrammées utilisent une architecture classique appelé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Von Neuman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3886200"/>
            <a:ext cx="35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microcontrôleurs PIC ainsi que bien d ’autres structures sont construites autour d ’un autre type d ’architectur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Architecture Harvard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20840" y="1405080"/>
            <a:ext cx="4661280" cy="1406880"/>
          </a:xfrm>
          <a:prstGeom prst="leftArrow">
            <a:avLst>
              <a:gd name="adj1" fmla="val 50000"/>
              <a:gd name="adj2" fmla="val 82830"/>
            </a:avLst>
          </a:prstGeom>
          <a:gradFill rotWithShape="0">
            <a:gsLst>
              <a:gs pos="0">
                <a:srgbClr val="ff7c80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rchitectur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Von Neuman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C,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6809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, 68HC11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57560" y="3995640"/>
            <a:ext cx="4629240" cy="1406880"/>
          </a:xfrm>
          <a:prstGeom prst="leftArrow">
            <a:avLst>
              <a:gd name="adj1" fmla="val 50000"/>
              <a:gd name="adj2" fmla="val 82261"/>
            </a:avLst>
          </a:prstGeom>
          <a:gradFill rotWithShape="0">
            <a:gsLst>
              <a:gs pos="0">
                <a:srgbClr val="ff7c80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rchitectur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Harvar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IC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, DSP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90920" y="152280"/>
            <a:ext cx="4419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Architecture intern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76720" y="532440"/>
            <a:ext cx="36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Architecture 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Von Neu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1659240"/>
            <a:ext cx="3581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enons le cas du système minimum à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6809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  Son architecture est de type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Von Neuman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a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mémoire de programm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(EPROM) contient comme son nom l ’indique le programme à exécu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943600" y="1981080"/>
            <a:ext cx="3127320" cy="4038480"/>
            <a:chOff x="5943600" y="1981080"/>
            <a:chExt cx="3127320" cy="4038480"/>
          </a:xfrm>
        </p:grpSpPr>
        <p:sp>
          <p:nvSpPr>
            <p:cNvPr id="296" name=""/>
            <p:cNvSpPr/>
            <p:nvPr/>
          </p:nvSpPr>
          <p:spPr>
            <a:xfrm>
              <a:off x="5943600" y="2286000"/>
              <a:ext cx="1219320" cy="34290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943600" y="26668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43600" y="304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43600" y="3429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43600" y="38098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43600" y="4190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943600" y="4572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43600" y="49528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43600" y="5333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7162920" y="1981080"/>
              <a:ext cx="0" cy="4038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15200" y="2361960"/>
              <a:ext cx="228600" cy="3200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408800" y="3412080"/>
              <a:ext cx="16621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enu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 mémoi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 program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943600" y="1981080"/>
              <a:ext cx="0" cy="4038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 txBox="1"/>
          <p:nvPr/>
        </p:nvSpPr>
        <p:spPr>
          <a:xfrm>
            <a:off x="2590920" y="152280"/>
            <a:ext cx="4419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Architecture intern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8077320" y="228600"/>
            <a:ext cx="838080" cy="826560"/>
            <a:chOff x="8077320" y="228600"/>
            <a:chExt cx="838080" cy="826560"/>
          </a:xfrm>
        </p:grpSpPr>
        <p:pic>
          <p:nvPicPr>
            <p:cNvPr id="311" name="CI" descr=""/>
            <p:cNvPicPr/>
            <p:nvPr/>
          </p:nvPicPr>
          <p:blipFill>
            <a:blip r:embed="rId1"/>
            <a:stretch/>
          </p:blipFill>
          <p:spPr>
            <a:xfrm>
              <a:off x="8077320" y="228600"/>
              <a:ext cx="83808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8121600" y="6562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80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76520" y="304920"/>
            <a:ext cx="575604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microcontrôleurs PIC 16Cx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494000" y="2209680"/>
            <a:ext cx="49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contrôleur ou Microprocesseu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1360" y="2819520"/>
            <a:ext cx="62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rchitecture interne: Von Neumann ou Harv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440" y="3429000"/>
            <a:ext cx="28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s registres inte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12000" y="4648320"/>
            <a:ext cx="59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 jeu d’ instructions et les modes d’ adr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96520" y="40384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base de 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4240" y="52578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8040" y="68472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omm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CI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304920" cy="30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9" name="CI" descr=""/>
          <p:cNvPicPr/>
          <p:nvPr/>
        </p:nvPicPr>
        <p:blipFill>
          <a:blip r:embed="rId2"/>
          <a:stretch/>
        </p:blipFill>
        <p:spPr>
          <a:xfrm>
            <a:off x="1066680" y="2895480"/>
            <a:ext cx="304920" cy="30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0" name="CI" descr=""/>
          <p:cNvPicPr/>
          <p:nvPr/>
        </p:nvPicPr>
        <p:blipFill>
          <a:blip r:embed="rId3"/>
          <a:stretch/>
        </p:blipFill>
        <p:spPr>
          <a:xfrm>
            <a:off x="1066680" y="3505320"/>
            <a:ext cx="304920" cy="304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1" name="CI" descr=""/>
          <p:cNvPicPr/>
          <p:nvPr/>
        </p:nvPicPr>
        <p:blipFill>
          <a:blip r:embed="rId4"/>
          <a:stretch/>
        </p:blipFill>
        <p:spPr>
          <a:xfrm>
            <a:off x="1066680" y="4114800"/>
            <a:ext cx="304920" cy="30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2" name="CI" descr=""/>
          <p:cNvPicPr/>
          <p:nvPr/>
        </p:nvPicPr>
        <p:blipFill>
          <a:blip r:embed="rId5"/>
          <a:stretch/>
        </p:blipFill>
        <p:spPr>
          <a:xfrm>
            <a:off x="1066680" y="4724280"/>
            <a:ext cx="304920" cy="30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3" name="CI" descr=""/>
          <p:cNvPicPr/>
          <p:nvPr/>
        </p:nvPicPr>
        <p:blipFill>
          <a:blip r:embed="rId6"/>
          <a:stretch/>
        </p:blipFill>
        <p:spPr>
          <a:xfrm>
            <a:off x="1066680" y="5334120"/>
            <a:ext cx="304920" cy="304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64" name=""/>
          <p:cNvGrpSpPr/>
          <p:nvPr/>
        </p:nvGrpSpPr>
        <p:grpSpPr>
          <a:xfrm>
            <a:off x="2743200" y="5867280"/>
            <a:ext cx="3429000" cy="609840"/>
            <a:chOff x="2743200" y="5867280"/>
            <a:chExt cx="3429000" cy="609840"/>
          </a:xfrm>
        </p:grpSpPr>
        <p:sp>
          <p:nvSpPr>
            <p:cNvPr id="65" name=""/>
            <p:cNvSpPr/>
            <p:nvPr/>
          </p:nvSpPr>
          <p:spPr>
            <a:xfrm>
              <a:off x="3121560" y="594252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Choisir un menu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867280"/>
              <a:ext cx="3429000" cy="609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" name="CI" descr=""/>
            <p:cNvPicPr/>
            <p:nvPr/>
          </p:nvPicPr>
          <p:blipFill>
            <a:blip r:embed="rId7"/>
            <a:stretch/>
          </p:blipFill>
          <p:spPr>
            <a:xfrm>
              <a:off x="5257800" y="6019920"/>
              <a:ext cx="304920" cy="3045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  <p:sp>
        <p:nvSpPr>
          <p:cNvPr id="68" name=""/>
          <p:cNvSpPr/>
          <p:nvPr/>
        </p:nvSpPr>
        <p:spPr>
          <a:xfrm>
            <a:off x="1489320" y="1447920"/>
            <a:ext cx="57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ise en situation: - Evolution technologi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- Analyse fonctionn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I" descr=""/>
          <p:cNvPicPr/>
          <p:nvPr/>
        </p:nvPicPr>
        <p:blipFill>
          <a:blip r:embed="rId8"/>
          <a:stretch/>
        </p:blipFill>
        <p:spPr>
          <a:xfrm>
            <a:off x="1066680" y="1523880"/>
            <a:ext cx="304920" cy="30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76720" y="532440"/>
            <a:ext cx="36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Architecture 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Von Neu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419720" y="1215000"/>
            <a:ext cx="1530720" cy="5050440"/>
            <a:chOff x="4419720" y="1215000"/>
            <a:chExt cx="1530720" cy="5050440"/>
          </a:xfrm>
        </p:grpSpPr>
        <p:sp>
          <p:nvSpPr>
            <p:cNvPr id="316" name=""/>
            <p:cNvSpPr/>
            <p:nvPr/>
          </p:nvSpPr>
          <p:spPr>
            <a:xfrm>
              <a:off x="4593960" y="305028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2200" y="26694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73440" y="381240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D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08720" y="457416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W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57800" y="343116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#$0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57800" y="41932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#$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6200000">
              <a:off x="4356000" y="165816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tr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6200000">
              <a:off x="5022360" y="1761120"/>
              <a:ext cx="117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péra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19720" y="259380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724280" y="586656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99"/>
                  </a:solidFill>
                  <a:latin typeface="Times New Roman"/>
                </a:rPr>
                <a:t>sou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380880" y="2574000"/>
            <a:ext cx="35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rès assemblage, chaqu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t chaqu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éran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dée su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 oct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8 bits) est rangée dans une case de la mémo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943600" y="1984320"/>
            <a:ext cx="3127320" cy="4038480"/>
            <a:chOff x="5943600" y="1984320"/>
            <a:chExt cx="3127320" cy="4038480"/>
          </a:xfrm>
        </p:grpSpPr>
        <p:sp>
          <p:nvSpPr>
            <p:cNvPr id="328" name=""/>
            <p:cNvSpPr/>
            <p:nvPr/>
          </p:nvSpPr>
          <p:spPr>
            <a:xfrm>
              <a:off x="5943600" y="2289240"/>
              <a:ext cx="1219320" cy="34290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2670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051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432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3813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43600" y="4194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43600" y="457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943600" y="4956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943600" y="5337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7162920" y="1984320"/>
              <a:ext cx="0" cy="4038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2365200"/>
              <a:ext cx="228600" cy="3200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408800" y="3415320"/>
              <a:ext cx="16621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enu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 mémoi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 program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943600" y="1984320"/>
              <a:ext cx="0" cy="4038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6167880" y="2288160"/>
            <a:ext cx="689760" cy="3977280"/>
            <a:chOff x="6167880" y="2288160"/>
            <a:chExt cx="689760" cy="3977280"/>
          </a:xfrm>
        </p:grpSpPr>
        <p:sp>
          <p:nvSpPr>
            <p:cNvPr id="342" name=""/>
            <p:cNvSpPr/>
            <p:nvPr/>
          </p:nvSpPr>
          <p:spPr>
            <a:xfrm>
              <a:off x="6325200" y="26694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25200" y="3050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325200" y="34311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25920" y="381240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25200" y="4193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25560" y="457416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25560" y="228816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01880" y="495540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01880" y="533628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167880" y="58665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99"/>
                  </a:solidFill>
                  <a:latin typeface="Times New Roman"/>
                </a:rPr>
                <a:t>obj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380880" y="167544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érons l ’exemple du programme source suiv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0880" y="432648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mémoire contient donc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uccessiv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es instructions et les opérandes du programme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590920" y="152280"/>
            <a:ext cx="4419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Architecture intern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8077320" y="228600"/>
            <a:ext cx="838080" cy="826560"/>
            <a:chOff x="8077320" y="228600"/>
            <a:chExt cx="838080" cy="826560"/>
          </a:xfrm>
        </p:grpSpPr>
        <p:pic>
          <p:nvPicPr>
            <p:cNvPr id="356" name="CI" descr=""/>
            <p:cNvPicPr/>
            <p:nvPr/>
          </p:nvPicPr>
          <p:blipFill>
            <a:blip r:embed="rId1"/>
            <a:stretch/>
          </p:blipFill>
          <p:spPr>
            <a:xfrm>
              <a:off x="8077320" y="228600"/>
              <a:ext cx="83808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121600" y="6562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80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76720" y="532440"/>
            <a:ext cx="36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Architecture 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Von Neu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4495680" y="1523880"/>
            <a:ext cx="1219320" cy="4281120"/>
            <a:chOff x="4495680" y="1523880"/>
            <a:chExt cx="1219320" cy="4281120"/>
          </a:xfrm>
        </p:grpSpPr>
        <p:grpSp>
          <p:nvGrpSpPr>
            <p:cNvPr id="361" name=""/>
            <p:cNvGrpSpPr/>
            <p:nvPr/>
          </p:nvGrpSpPr>
          <p:grpSpPr>
            <a:xfrm>
              <a:off x="4495680" y="1523880"/>
              <a:ext cx="1219320" cy="4038480"/>
              <a:chOff x="4495680" y="1523880"/>
              <a:chExt cx="1219320" cy="4038480"/>
            </a:xfrm>
          </p:grpSpPr>
          <p:sp>
            <p:nvSpPr>
              <p:cNvPr id="362" name=""/>
              <p:cNvSpPr/>
              <p:nvPr/>
            </p:nvSpPr>
            <p:spPr>
              <a:xfrm>
                <a:off x="4495680" y="1828800"/>
                <a:ext cx="1219320" cy="342900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495680" y="220968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495680" y="259056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495680" y="297180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495680" y="335268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495680" y="373356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495680" y="411480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495680" y="449568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495680" y="487656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5715000" y="1523880"/>
                <a:ext cx="0" cy="40384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4495680" y="1523880"/>
                <a:ext cx="0" cy="40384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4719960" y="1827720"/>
              <a:ext cx="689760" cy="3977280"/>
              <a:chOff x="4719960" y="1827720"/>
              <a:chExt cx="689760" cy="3977280"/>
            </a:xfrm>
          </p:grpSpPr>
          <p:sp>
            <p:nvSpPr>
              <p:cNvPr id="374" name=""/>
              <p:cNvSpPr/>
              <p:nvPr/>
            </p:nvSpPr>
            <p:spPr>
              <a:xfrm>
                <a:off x="4877280" y="22089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877280" y="25898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877280" y="29707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0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878000" y="3351960"/>
                <a:ext cx="47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77280" y="37328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877640" y="4113720"/>
                <a:ext cx="45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77640" y="1827720"/>
                <a:ext cx="37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953960" y="4494960"/>
                <a:ext cx="37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953960" y="4875840"/>
                <a:ext cx="37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19960" y="5406120"/>
                <a:ext cx="689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ff99"/>
                    </a:solidFill>
                    <a:latin typeface="Times New Roman"/>
                  </a:rPr>
                  <a:t>obj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4" name=""/>
          <p:cNvSpPr/>
          <p:nvPr/>
        </p:nvSpPr>
        <p:spPr>
          <a:xfrm>
            <a:off x="441360" y="17827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0880" y="1599120"/>
            <a:ext cx="358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fin d ’exécuter le programme, le microprocesseur doit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lir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dans l’ ordr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le contenu de chacune des cases mémoir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55680" y="3091320"/>
            <a:ext cx="3682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ur cela, chacun des octets de la mémoire est acheminé vers le microprocesseur, via l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us de donné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30840" y="2165400"/>
            <a:ext cx="838080" cy="485640"/>
          </a:xfrm>
          <a:prstGeom prst="rightArrow">
            <a:avLst>
              <a:gd name="adj1" fmla="val 50000"/>
              <a:gd name="adj2" fmla="val 431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715000" y="2530440"/>
            <a:ext cx="838080" cy="485640"/>
          </a:xfrm>
          <a:prstGeom prst="rightArrow">
            <a:avLst>
              <a:gd name="adj1" fmla="val 50000"/>
              <a:gd name="adj2" fmla="val 431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15000" y="2895480"/>
            <a:ext cx="838080" cy="486000"/>
          </a:xfrm>
          <a:prstGeom prst="rightArrow">
            <a:avLst>
              <a:gd name="adj1" fmla="val 50000"/>
              <a:gd name="adj2" fmla="val 43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715000" y="3276720"/>
            <a:ext cx="838080" cy="485640"/>
          </a:xfrm>
          <a:prstGeom prst="rightArrow">
            <a:avLst>
              <a:gd name="adj1" fmla="val 50000"/>
              <a:gd name="adj2" fmla="val 431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15000" y="3657600"/>
            <a:ext cx="838080" cy="485640"/>
          </a:xfrm>
          <a:prstGeom prst="rightArrow">
            <a:avLst>
              <a:gd name="adj1" fmla="val 50000"/>
              <a:gd name="adj2" fmla="val 431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15000" y="4070520"/>
            <a:ext cx="838080" cy="485640"/>
          </a:xfrm>
          <a:prstGeom prst="rightArrow">
            <a:avLst>
              <a:gd name="adj1" fmla="val 50000"/>
              <a:gd name="adj2" fmla="val 431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7696080" y="2971800"/>
            <a:ext cx="1218960" cy="1042920"/>
            <a:chOff x="7696080" y="2971800"/>
            <a:chExt cx="1218960" cy="1042920"/>
          </a:xfrm>
        </p:grpSpPr>
        <p:sp>
          <p:nvSpPr>
            <p:cNvPr id="394" name=""/>
            <p:cNvSpPr/>
            <p:nvPr/>
          </p:nvSpPr>
          <p:spPr>
            <a:xfrm>
              <a:off x="7696080" y="2971800"/>
              <a:ext cx="1218960" cy="1042920"/>
            </a:xfrm>
            <a:prstGeom prst="bevel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848360" y="3275640"/>
              <a:ext cx="94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Micr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6477120" y="1371600"/>
            <a:ext cx="1218960" cy="4419720"/>
            <a:chOff x="6477120" y="1371600"/>
            <a:chExt cx="1218960" cy="4419720"/>
          </a:xfrm>
        </p:grpSpPr>
        <p:grpSp>
          <p:nvGrpSpPr>
            <p:cNvPr id="397" name=""/>
            <p:cNvGrpSpPr/>
            <p:nvPr/>
          </p:nvGrpSpPr>
          <p:grpSpPr>
            <a:xfrm>
              <a:off x="6477120" y="1371600"/>
              <a:ext cx="485640" cy="4419720"/>
              <a:chOff x="6477120" y="1371600"/>
              <a:chExt cx="485640" cy="4419720"/>
            </a:xfrm>
          </p:grpSpPr>
          <p:sp>
            <p:nvSpPr>
              <p:cNvPr id="398" name=""/>
              <p:cNvSpPr/>
              <p:nvPr/>
            </p:nvSpPr>
            <p:spPr>
              <a:xfrm>
                <a:off x="6477120" y="1371600"/>
                <a:ext cx="485640" cy="4419720"/>
              </a:xfrm>
              <a:prstGeom prst="upDownArrow">
                <a:avLst>
                  <a:gd name="adj1" fmla="val 56213"/>
                  <a:gd name="adj2" fmla="val 50349"/>
                </a:avLst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rot="5400000">
                <a:off x="5860440" y="3330720"/>
                <a:ext cx="178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us de donné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6858000" y="3276720"/>
              <a:ext cx="838080" cy="485640"/>
            </a:xfrm>
            <a:prstGeom prst="leftRightArrow">
              <a:avLst>
                <a:gd name="adj1" fmla="val 50000"/>
                <a:gd name="adj2" fmla="val 3435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 txBox="1"/>
          <p:nvPr/>
        </p:nvSpPr>
        <p:spPr>
          <a:xfrm>
            <a:off x="2590920" y="152280"/>
            <a:ext cx="4419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Architecture intern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8077320" y="228600"/>
            <a:ext cx="838080" cy="826560"/>
            <a:chOff x="8077320" y="228600"/>
            <a:chExt cx="838080" cy="826560"/>
          </a:xfrm>
        </p:grpSpPr>
        <p:pic>
          <p:nvPicPr>
            <p:cNvPr id="403" name="CI" descr=""/>
            <p:cNvPicPr/>
            <p:nvPr/>
          </p:nvPicPr>
          <p:blipFill>
            <a:blip r:embed="rId1"/>
            <a:stretch/>
          </p:blipFill>
          <p:spPr>
            <a:xfrm>
              <a:off x="8077320" y="228600"/>
              <a:ext cx="83808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8121600" y="6562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80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32440"/>
            <a:ext cx="36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Architecture 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Von Neu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495680" y="1523880"/>
            <a:ext cx="1219320" cy="4281120"/>
            <a:chOff x="4495680" y="1523880"/>
            <a:chExt cx="1219320" cy="4281120"/>
          </a:xfrm>
        </p:grpSpPr>
        <p:grpSp>
          <p:nvGrpSpPr>
            <p:cNvPr id="408" name=""/>
            <p:cNvGrpSpPr/>
            <p:nvPr/>
          </p:nvGrpSpPr>
          <p:grpSpPr>
            <a:xfrm>
              <a:off x="4495680" y="1523880"/>
              <a:ext cx="1219320" cy="4038480"/>
              <a:chOff x="4495680" y="1523880"/>
              <a:chExt cx="1219320" cy="4038480"/>
            </a:xfrm>
          </p:grpSpPr>
          <p:sp>
            <p:nvSpPr>
              <p:cNvPr id="409" name=""/>
              <p:cNvSpPr/>
              <p:nvPr/>
            </p:nvSpPr>
            <p:spPr>
              <a:xfrm>
                <a:off x="4495680" y="1828800"/>
                <a:ext cx="1219320" cy="342900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495680" y="220968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495680" y="259056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495680" y="297180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495680" y="335268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495680" y="373356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495680" y="411480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495680" y="449568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495680" y="487656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5715000" y="1523880"/>
                <a:ext cx="0" cy="40384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4495680" y="1523880"/>
                <a:ext cx="0" cy="40384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719960" y="1827720"/>
              <a:ext cx="689760" cy="3977280"/>
              <a:chOff x="4719960" y="1827720"/>
              <a:chExt cx="689760" cy="3977280"/>
            </a:xfrm>
          </p:grpSpPr>
          <p:sp>
            <p:nvSpPr>
              <p:cNvPr id="421" name=""/>
              <p:cNvSpPr/>
              <p:nvPr/>
            </p:nvSpPr>
            <p:spPr>
              <a:xfrm>
                <a:off x="4877280" y="22089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877280" y="25898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877280" y="29707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0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878000" y="3351960"/>
                <a:ext cx="47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877280" y="37328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877640" y="4113720"/>
                <a:ext cx="45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877640" y="1827720"/>
                <a:ext cx="37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953960" y="4494960"/>
                <a:ext cx="37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953960" y="4875840"/>
                <a:ext cx="37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19960" y="5406120"/>
                <a:ext cx="689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ff99"/>
                    </a:solidFill>
                    <a:latin typeface="Times New Roman"/>
                  </a:rPr>
                  <a:t>obj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1" name=""/>
          <p:cNvSpPr/>
          <p:nvPr/>
        </p:nvSpPr>
        <p:spPr>
          <a:xfrm>
            <a:off x="441360" y="17827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4070520"/>
            <a:ext cx="838080" cy="485640"/>
          </a:xfrm>
          <a:prstGeom prst="rightArrow">
            <a:avLst>
              <a:gd name="adj1" fmla="val 50000"/>
              <a:gd name="adj2" fmla="val 431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7696080" y="2971800"/>
            <a:ext cx="1218960" cy="1042920"/>
            <a:chOff x="7696080" y="2971800"/>
            <a:chExt cx="1218960" cy="1042920"/>
          </a:xfrm>
        </p:grpSpPr>
        <p:sp>
          <p:nvSpPr>
            <p:cNvPr id="434" name=""/>
            <p:cNvSpPr/>
            <p:nvPr/>
          </p:nvSpPr>
          <p:spPr>
            <a:xfrm>
              <a:off x="7696080" y="2971800"/>
              <a:ext cx="1218960" cy="1042920"/>
            </a:xfrm>
            <a:prstGeom prst="bevel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48360" y="3275640"/>
              <a:ext cx="94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Micr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6477120" y="1371600"/>
            <a:ext cx="1218960" cy="4419720"/>
            <a:chOff x="6477120" y="1371600"/>
            <a:chExt cx="1218960" cy="4419720"/>
          </a:xfrm>
        </p:grpSpPr>
        <p:grpSp>
          <p:nvGrpSpPr>
            <p:cNvPr id="437" name=""/>
            <p:cNvGrpSpPr/>
            <p:nvPr/>
          </p:nvGrpSpPr>
          <p:grpSpPr>
            <a:xfrm>
              <a:off x="6477120" y="1371600"/>
              <a:ext cx="485640" cy="4419720"/>
              <a:chOff x="6477120" y="1371600"/>
              <a:chExt cx="485640" cy="4419720"/>
            </a:xfrm>
          </p:grpSpPr>
          <p:sp>
            <p:nvSpPr>
              <p:cNvPr id="438" name=""/>
              <p:cNvSpPr/>
              <p:nvPr/>
            </p:nvSpPr>
            <p:spPr>
              <a:xfrm>
                <a:off x="6477120" y="1371600"/>
                <a:ext cx="485640" cy="4419720"/>
              </a:xfrm>
              <a:prstGeom prst="upDownArrow">
                <a:avLst>
                  <a:gd name="adj1" fmla="val 56213"/>
                  <a:gd name="adj2" fmla="val 50349"/>
                </a:avLst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 rot="5400000">
                <a:off x="5860440" y="3330720"/>
                <a:ext cx="178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us de donné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6858000" y="3276720"/>
              <a:ext cx="838080" cy="485640"/>
            </a:xfrm>
            <a:prstGeom prst="leftRightArrow">
              <a:avLst>
                <a:gd name="adj1" fmla="val 50000"/>
                <a:gd name="adj2" fmla="val 3435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380880" y="1582920"/>
            <a:ext cx="3581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ans le cas d’ une architecture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Von Neuman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, le traitement d ’une instruction et son opérande nécessite donc la lecture d ’au moins 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deux cases mémoir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(3 si l ’opérande est codée sur deux octet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ela correspond à une durée de 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2 ou 3 cycles mach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2590920" y="152280"/>
            <a:ext cx="4419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Architecture intern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8077320" y="228600"/>
            <a:ext cx="838080" cy="826560"/>
            <a:chOff x="8077320" y="228600"/>
            <a:chExt cx="838080" cy="826560"/>
          </a:xfrm>
        </p:grpSpPr>
        <p:pic>
          <p:nvPicPr>
            <p:cNvPr id="444" name="CI" descr=""/>
            <p:cNvPicPr/>
            <p:nvPr/>
          </p:nvPicPr>
          <p:blipFill>
            <a:blip r:embed="rId1"/>
            <a:stretch/>
          </p:blipFill>
          <p:spPr>
            <a:xfrm>
              <a:off x="8077320" y="228600"/>
              <a:ext cx="83808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8121600" y="6562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80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943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007880" y="53244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Architecture 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Harv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658880"/>
            <a:ext cx="3581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microcontrôleurs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PIC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ont eux une architecture appelée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Harvard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qui présente de nombreux avant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différences avec les architectures Von Neumann résident essentiellement da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mémoire de progra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bu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8077320" y="228600"/>
            <a:ext cx="838080" cy="855000"/>
            <a:chOff x="8077320" y="228600"/>
            <a:chExt cx="838080" cy="855000"/>
          </a:xfrm>
        </p:grpSpPr>
        <p:pic>
          <p:nvPicPr>
            <p:cNvPr id="451" name="CI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77320" y="228600"/>
              <a:ext cx="838080" cy="781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452" name=""/>
            <p:cNvSpPr/>
            <p:nvPr/>
          </p:nvSpPr>
          <p:spPr>
            <a:xfrm>
              <a:off x="8153280" y="6847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 txBox="1"/>
          <p:nvPr/>
        </p:nvSpPr>
        <p:spPr>
          <a:xfrm>
            <a:off x="2590920" y="152280"/>
            <a:ext cx="4419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Architecture intern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07880" y="53244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Architecture 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Harv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5867280" y="1600200"/>
            <a:ext cx="3127320" cy="4038480"/>
            <a:chOff x="5867280" y="1600200"/>
            <a:chExt cx="3127320" cy="4038480"/>
          </a:xfrm>
        </p:grpSpPr>
        <p:sp>
          <p:nvSpPr>
            <p:cNvPr id="457" name=""/>
            <p:cNvSpPr/>
            <p:nvPr/>
          </p:nvSpPr>
          <p:spPr>
            <a:xfrm>
              <a:off x="5867280" y="1905120"/>
              <a:ext cx="1219320" cy="34290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672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867280" y="26668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67280" y="3048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67280" y="3429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67280" y="38098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67280" y="4191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867280" y="4572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67280" y="49528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7086600" y="1600200"/>
              <a:ext cx="0" cy="4038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238880" y="1981080"/>
              <a:ext cx="228600" cy="3200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332480" y="3031200"/>
              <a:ext cx="16621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enu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 mémoi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 program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5867280" y="1600200"/>
              <a:ext cx="0" cy="4038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8077320" y="228600"/>
            <a:ext cx="838080" cy="855000"/>
            <a:chOff x="8077320" y="228600"/>
            <a:chExt cx="838080" cy="855000"/>
          </a:xfrm>
        </p:grpSpPr>
        <p:pic>
          <p:nvPicPr>
            <p:cNvPr id="471" name="CI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77320" y="228600"/>
              <a:ext cx="838080" cy="781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472" name=""/>
            <p:cNvSpPr/>
            <p:nvPr/>
          </p:nvSpPr>
          <p:spPr>
            <a:xfrm>
              <a:off x="8153280" y="6847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1089000" y="26589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7680" y="18590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93640" y="19350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0880" y="3123000"/>
            <a:ext cx="3657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 précédemment, ce programme est composé d’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et d’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opérand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ependant, une case mémoire peut ici contenir à la fois une instruction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son opéra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7600" y="1667520"/>
            <a:ext cx="354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émoire de program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tient bien entendu le programme à exécu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2590920" y="152280"/>
            <a:ext cx="4419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Architecture intern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007880" y="53244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Architecture 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Harv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5867280" y="1600200"/>
            <a:ext cx="3127320" cy="4038480"/>
            <a:chOff x="5867280" y="1600200"/>
            <a:chExt cx="3127320" cy="4038480"/>
          </a:xfrm>
        </p:grpSpPr>
        <p:sp>
          <p:nvSpPr>
            <p:cNvPr id="482" name=""/>
            <p:cNvSpPr/>
            <p:nvPr/>
          </p:nvSpPr>
          <p:spPr>
            <a:xfrm>
              <a:off x="5867280" y="1905120"/>
              <a:ext cx="1219320" cy="34290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672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67280" y="26668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867280" y="3048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867280" y="3429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867280" y="38098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67280" y="4191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867280" y="4572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867280" y="49528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7086600" y="1600200"/>
              <a:ext cx="0" cy="4038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238880" y="1981080"/>
              <a:ext cx="228600" cy="3200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32480" y="3031200"/>
              <a:ext cx="16621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enu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 mémoi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 program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5867280" y="1600200"/>
              <a:ext cx="0" cy="4038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8077320" y="228600"/>
            <a:ext cx="838080" cy="855000"/>
            <a:chOff x="8077320" y="228600"/>
            <a:chExt cx="838080" cy="855000"/>
          </a:xfrm>
        </p:grpSpPr>
        <p:pic>
          <p:nvPicPr>
            <p:cNvPr id="496" name="CI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77320" y="228600"/>
              <a:ext cx="838080" cy="781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497" name=""/>
            <p:cNvSpPr/>
            <p:nvPr/>
          </p:nvSpPr>
          <p:spPr>
            <a:xfrm>
              <a:off x="8153280" y="6847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089000" y="26589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7680" y="18590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93640" y="19350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266720" y="1210320"/>
            <a:ext cx="1618200" cy="4734360"/>
            <a:chOff x="4266720" y="1210320"/>
            <a:chExt cx="1618200" cy="4734360"/>
          </a:xfrm>
        </p:grpSpPr>
        <p:sp>
          <p:nvSpPr>
            <p:cNvPr id="502" name=""/>
            <p:cNvSpPr/>
            <p:nvPr/>
          </p:nvSpPr>
          <p:spPr>
            <a:xfrm>
              <a:off x="4267080" y="3050280"/>
              <a:ext cx="16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OVLW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321080" y="266616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LR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285440" y="3427920"/>
              <a:ext cx="150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DDLW  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66720" y="3809160"/>
              <a:ext cx="148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OVWF 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16200000">
              <a:off x="4203720" y="165348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tr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16200000">
              <a:off x="4980960" y="1729440"/>
              <a:ext cx="117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péra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267080" y="1905120"/>
              <a:ext cx="0" cy="35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49680" y="554580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99"/>
                  </a:solidFill>
                  <a:latin typeface="Times New Roman"/>
                </a:rPr>
                <a:t>sou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380880" y="167544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sidérons l’ exemple du programme source suiv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41360" y="30780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0880" y="2543760"/>
            <a:ext cx="35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rès assemblage, chaqu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t s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éran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nt codées su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 mot binai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12 ou 14 bits) puis rangées dans une case mémo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0880" y="4326480"/>
            <a:ext cx="35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haque cas de la mémoire contient don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à exécu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 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opérand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associée (non obligatoir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5867280" y="1904040"/>
            <a:ext cx="1219320" cy="4056480"/>
            <a:chOff x="5867280" y="1904040"/>
            <a:chExt cx="1219320" cy="4056480"/>
          </a:xfrm>
        </p:grpSpPr>
        <p:grpSp>
          <p:nvGrpSpPr>
            <p:cNvPr id="515" name=""/>
            <p:cNvGrpSpPr/>
            <p:nvPr/>
          </p:nvGrpSpPr>
          <p:grpSpPr>
            <a:xfrm>
              <a:off x="5867280" y="2666160"/>
              <a:ext cx="1219320" cy="3294360"/>
              <a:chOff x="5867280" y="2666160"/>
              <a:chExt cx="1219320" cy="3294360"/>
            </a:xfrm>
          </p:grpSpPr>
          <p:sp>
            <p:nvSpPr>
              <p:cNvPr id="516" name=""/>
              <p:cNvSpPr/>
              <p:nvPr/>
            </p:nvSpPr>
            <p:spPr>
              <a:xfrm>
                <a:off x="5943600" y="3657600"/>
                <a:ext cx="914400" cy="609480"/>
              </a:xfrm>
              <a:prstGeom prst="wedgeRoundRectCallout">
                <a:avLst>
                  <a:gd name="adj1" fmla="val -43518"/>
                  <a:gd name="adj2" fmla="val 70050"/>
                  <a:gd name="adj3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867280" y="2666160"/>
                <a:ext cx="11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1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867280" y="307728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F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67280" y="3427920"/>
                <a:ext cx="11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E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0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867280" y="381708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08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167880" y="5561640"/>
                <a:ext cx="689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ff99"/>
                    </a:solidFill>
                    <a:latin typeface="Times New Roman"/>
                  </a:rPr>
                  <a:t>obj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6249240" y="419004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249240" y="457092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49240" y="495216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249240" y="228492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49240" y="190404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 txBox="1"/>
          <p:nvPr/>
        </p:nvSpPr>
        <p:spPr>
          <a:xfrm>
            <a:off x="2590920" y="152280"/>
            <a:ext cx="4419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Architecture intern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007880" y="53244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Architecture 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Harv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8077320" y="228600"/>
            <a:ext cx="838080" cy="855000"/>
            <a:chOff x="8077320" y="228600"/>
            <a:chExt cx="838080" cy="855000"/>
          </a:xfrm>
        </p:grpSpPr>
        <p:pic>
          <p:nvPicPr>
            <p:cNvPr id="531" name="CI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77320" y="228600"/>
              <a:ext cx="838080" cy="781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532" name=""/>
            <p:cNvSpPr/>
            <p:nvPr/>
          </p:nvSpPr>
          <p:spPr>
            <a:xfrm>
              <a:off x="8153280" y="6847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089000" y="26589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7680" y="18590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3640" y="19350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1360" y="30780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41360" y="17827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7696080" y="3147840"/>
            <a:ext cx="1218960" cy="1042920"/>
            <a:chOff x="7696080" y="3147840"/>
            <a:chExt cx="1218960" cy="1042920"/>
          </a:xfrm>
        </p:grpSpPr>
        <p:sp>
          <p:nvSpPr>
            <p:cNvPr id="539" name=""/>
            <p:cNvSpPr/>
            <p:nvPr/>
          </p:nvSpPr>
          <p:spPr>
            <a:xfrm>
              <a:off x="7696080" y="3147840"/>
              <a:ext cx="1218960" cy="1042920"/>
            </a:xfrm>
            <a:prstGeom prst="bevel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89040" y="3360600"/>
              <a:ext cx="874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nité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u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4267080" y="1523520"/>
            <a:ext cx="1219320" cy="4360680"/>
            <a:chOff x="4267080" y="1523520"/>
            <a:chExt cx="1219320" cy="4360680"/>
          </a:xfrm>
        </p:grpSpPr>
        <p:sp>
          <p:nvSpPr>
            <p:cNvPr id="542" name=""/>
            <p:cNvSpPr/>
            <p:nvPr/>
          </p:nvSpPr>
          <p:spPr>
            <a:xfrm>
              <a:off x="4267080" y="1828800"/>
              <a:ext cx="1219320" cy="34290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67080" y="2209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67080" y="25909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6708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67080" y="3352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67080" y="37339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67080" y="4114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67080" y="4495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67080" y="48769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486400" y="1523520"/>
              <a:ext cx="0" cy="4038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4267080" y="1523520"/>
              <a:ext cx="0" cy="4038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08440" y="3979800"/>
              <a:ext cx="184320" cy="422280"/>
            </a:xfrm>
            <a:prstGeom prst="wedgeRoundRectCallout">
              <a:avLst>
                <a:gd name="adj1" fmla="val -43967"/>
                <a:gd name="adj2" fmla="val 69925"/>
                <a:gd name="adj3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267080" y="2954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67080" y="33361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267080" y="37170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E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67080" y="40978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08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567680" y="54853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99"/>
                  </a:solidFill>
                  <a:latin typeface="Times New Roman"/>
                </a:rPr>
                <a:t>obj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649040" y="220896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49040" y="258984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649040" y="479952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649040" y="441864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649040" y="182772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380880" y="1587960"/>
            <a:ext cx="358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fin d’ exécuter le programme, l ’unité de calcul doit ensuite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lir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le contenu de chacune des cases de la mémo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0880" y="3047040"/>
            <a:ext cx="358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que mot binaire contenu dans la mémoire de programme est alors acheminé vers u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écodeur d ’instru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5400000">
            <a:off x="5900040" y="3401280"/>
            <a:ext cx="160812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écod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’ instr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0880" y="4631400"/>
            <a:ext cx="358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rôle de ce décodeur est d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épar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ur chacun des mots binaires, l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’instr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t l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onné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pérand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86400" y="3048120"/>
            <a:ext cx="914400" cy="228600"/>
          </a:xfrm>
          <a:prstGeom prst="rightArrow">
            <a:avLst>
              <a:gd name="adj1" fmla="val 60417"/>
              <a:gd name="adj2" fmla="val 71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6705720" y="2376000"/>
            <a:ext cx="836640" cy="503640"/>
            <a:chOff x="6705720" y="2376000"/>
            <a:chExt cx="836640" cy="503640"/>
          </a:xfrm>
        </p:grpSpPr>
        <p:sp>
          <p:nvSpPr>
            <p:cNvPr id="570" name=""/>
            <p:cNvSpPr/>
            <p:nvPr/>
          </p:nvSpPr>
          <p:spPr>
            <a:xfrm>
              <a:off x="6773400" y="2376000"/>
              <a:ext cx="76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onné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705720" y="24987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6705720" y="4495680"/>
            <a:ext cx="1140120" cy="443520"/>
            <a:chOff x="6705720" y="4495680"/>
            <a:chExt cx="1140120" cy="443520"/>
          </a:xfrm>
        </p:grpSpPr>
        <p:sp>
          <p:nvSpPr>
            <p:cNvPr id="573" name=""/>
            <p:cNvSpPr/>
            <p:nvPr/>
          </p:nvSpPr>
          <p:spPr>
            <a:xfrm>
              <a:off x="6782760" y="4601880"/>
              <a:ext cx="106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nstr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705720" y="4495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 txBox="1"/>
          <p:nvPr/>
        </p:nvSpPr>
        <p:spPr>
          <a:xfrm>
            <a:off x="2590920" y="152280"/>
            <a:ext cx="4419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Architecture intern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6705720" y="4495680"/>
            <a:ext cx="1140120" cy="443520"/>
            <a:chOff x="6705720" y="4495680"/>
            <a:chExt cx="1140120" cy="443520"/>
          </a:xfrm>
        </p:grpSpPr>
        <p:sp>
          <p:nvSpPr>
            <p:cNvPr id="577" name=""/>
            <p:cNvSpPr/>
            <p:nvPr/>
          </p:nvSpPr>
          <p:spPr>
            <a:xfrm>
              <a:off x="6782760" y="4601880"/>
              <a:ext cx="106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nstr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05720" y="4495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6705720" y="2376000"/>
            <a:ext cx="836640" cy="503640"/>
            <a:chOff x="6705720" y="2376000"/>
            <a:chExt cx="836640" cy="503640"/>
          </a:xfrm>
        </p:grpSpPr>
        <p:sp>
          <p:nvSpPr>
            <p:cNvPr id="580" name=""/>
            <p:cNvSpPr/>
            <p:nvPr/>
          </p:nvSpPr>
          <p:spPr>
            <a:xfrm>
              <a:off x="6773400" y="2376000"/>
              <a:ext cx="76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onné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6705720" y="24987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007880" y="53244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Architecture 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Harv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8077320" y="228600"/>
            <a:ext cx="838080" cy="855000"/>
            <a:chOff x="8077320" y="228600"/>
            <a:chExt cx="838080" cy="855000"/>
          </a:xfrm>
        </p:grpSpPr>
        <p:pic>
          <p:nvPicPr>
            <p:cNvPr id="585" name="CI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77320" y="228600"/>
              <a:ext cx="838080" cy="781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586" name=""/>
            <p:cNvSpPr/>
            <p:nvPr/>
          </p:nvSpPr>
          <p:spPr>
            <a:xfrm>
              <a:off x="8153280" y="6847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1089000" y="26589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80880" y="2163600"/>
            <a:ext cx="3657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93640" y="19350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41360" y="30780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41360" y="17827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7696080" y="3147840"/>
            <a:ext cx="1218960" cy="1042920"/>
            <a:chOff x="7696080" y="3147840"/>
            <a:chExt cx="1218960" cy="1042920"/>
          </a:xfrm>
        </p:grpSpPr>
        <p:sp>
          <p:nvSpPr>
            <p:cNvPr id="593" name=""/>
            <p:cNvSpPr/>
            <p:nvPr/>
          </p:nvSpPr>
          <p:spPr>
            <a:xfrm>
              <a:off x="7696080" y="3147840"/>
              <a:ext cx="1218960" cy="1042920"/>
            </a:xfrm>
            <a:prstGeom prst="bevel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889040" y="3360600"/>
              <a:ext cx="874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nité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u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267080" y="1523520"/>
            <a:ext cx="1219320" cy="4360680"/>
            <a:chOff x="4267080" y="1523520"/>
            <a:chExt cx="1219320" cy="4360680"/>
          </a:xfrm>
        </p:grpSpPr>
        <p:sp>
          <p:nvSpPr>
            <p:cNvPr id="596" name=""/>
            <p:cNvSpPr/>
            <p:nvPr/>
          </p:nvSpPr>
          <p:spPr>
            <a:xfrm>
              <a:off x="4267080" y="1828800"/>
              <a:ext cx="1219320" cy="34290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67080" y="2209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267080" y="25909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26708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267080" y="3352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267080" y="37339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67080" y="4114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267080" y="4495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267080" y="48769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5486400" y="1523520"/>
              <a:ext cx="0" cy="4038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4267080" y="1523520"/>
              <a:ext cx="0" cy="4038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708440" y="3979800"/>
              <a:ext cx="184320" cy="422280"/>
            </a:xfrm>
            <a:prstGeom prst="wedgeRoundRectCallout">
              <a:avLst>
                <a:gd name="adj1" fmla="val -43967"/>
                <a:gd name="adj2" fmla="val 69925"/>
                <a:gd name="adj3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267080" y="2954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267080" y="33361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267080" y="37170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E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267080" y="40978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08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567680" y="54853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99"/>
                  </a:solidFill>
                  <a:latin typeface="Times New Roman"/>
                </a:rPr>
                <a:t>obj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49040" y="220896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49040" y="258984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49040" y="479952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49040" y="441864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649040" y="182772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 rot="5400000">
            <a:off x="5900040" y="3401280"/>
            <a:ext cx="160812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écod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’ instr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486400" y="3048120"/>
            <a:ext cx="914400" cy="228600"/>
          </a:xfrm>
          <a:prstGeom prst="rightArrow">
            <a:avLst>
              <a:gd name="adj1" fmla="val 60417"/>
              <a:gd name="adj2" fmla="val 71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6553080" y="4494960"/>
            <a:ext cx="304920" cy="747720"/>
          </a:xfrm>
          <a:prstGeom prst="upArrow">
            <a:avLst>
              <a:gd name="adj1" fmla="val 50000"/>
              <a:gd name="adj2" fmla="val 613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553080" y="2147760"/>
            <a:ext cx="304920" cy="747720"/>
          </a:xfrm>
          <a:prstGeom prst="upArrow">
            <a:avLst>
              <a:gd name="adj1" fmla="val 50000"/>
              <a:gd name="adj2" fmla="val 613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41360" y="19350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80880" y="1583280"/>
            <a:ext cx="35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t le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nt ensuite acheminée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imultané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ers l ’unité de calcul par l ’intermédiaire de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ux bus différ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5880" y="1604880"/>
            <a:ext cx="2816280" cy="781200"/>
          </a:xfrm>
          <a:prstGeom prst="leftRightArrow">
            <a:avLst>
              <a:gd name="adj1" fmla="val 43139"/>
              <a:gd name="adj2" fmla="val 283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 d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NN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019920" y="5005080"/>
            <a:ext cx="2895480" cy="781560"/>
          </a:xfrm>
          <a:prstGeom prst="leftRightArrow">
            <a:avLst>
              <a:gd name="adj1" fmla="val 43139"/>
              <a:gd name="adj2" fmla="val 290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Bus d’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8229600" y="2147760"/>
            <a:ext cx="228600" cy="976320"/>
          </a:xfrm>
          <a:prstGeom prst="upArrow">
            <a:avLst>
              <a:gd name="adj1" fmla="val 50000"/>
              <a:gd name="adj2" fmla="val 1067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229600" y="4191120"/>
            <a:ext cx="228600" cy="1052280"/>
          </a:xfrm>
          <a:prstGeom prst="upArrow">
            <a:avLst>
              <a:gd name="adj1" fmla="val 50000"/>
              <a:gd name="adj2" fmla="val 1150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590920" y="152280"/>
            <a:ext cx="4419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Architecture intern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"/>
          <p:cNvGrpSpPr/>
          <p:nvPr/>
        </p:nvGrpSpPr>
        <p:grpSpPr>
          <a:xfrm>
            <a:off x="6705720" y="4495680"/>
            <a:ext cx="1140120" cy="443520"/>
            <a:chOff x="6705720" y="4495680"/>
            <a:chExt cx="1140120" cy="443520"/>
          </a:xfrm>
        </p:grpSpPr>
        <p:sp>
          <p:nvSpPr>
            <p:cNvPr id="630" name=""/>
            <p:cNvSpPr/>
            <p:nvPr/>
          </p:nvSpPr>
          <p:spPr>
            <a:xfrm>
              <a:off x="6782760" y="4601880"/>
              <a:ext cx="106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nstr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705720" y="4495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705720" y="2376000"/>
            <a:ext cx="836640" cy="503640"/>
            <a:chOff x="6705720" y="2376000"/>
            <a:chExt cx="836640" cy="503640"/>
          </a:xfrm>
        </p:grpSpPr>
        <p:sp>
          <p:nvSpPr>
            <p:cNvPr id="633" name=""/>
            <p:cNvSpPr/>
            <p:nvPr/>
          </p:nvSpPr>
          <p:spPr>
            <a:xfrm>
              <a:off x="6773400" y="2376000"/>
              <a:ext cx="76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onné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6705720" y="24987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007880" y="53244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Architecture 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Harv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8077320" y="228600"/>
            <a:ext cx="838080" cy="855000"/>
            <a:chOff x="8077320" y="228600"/>
            <a:chExt cx="838080" cy="855000"/>
          </a:xfrm>
        </p:grpSpPr>
        <p:pic>
          <p:nvPicPr>
            <p:cNvPr id="638" name="CI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77320" y="228600"/>
              <a:ext cx="838080" cy="781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639" name=""/>
            <p:cNvSpPr/>
            <p:nvPr/>
          </p:nvSpPr>
          <p:spPr>
            <a:xfrm>
              <a:off x="8153280" y="6847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1089000" y="26589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0880" y="2163600"/>
            <a:ext cx="3657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93640" y="19350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41360" y="30780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41360" y="17827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696080" y="3147840"/>
            <a:ext cx="1218960" cy="1042920"/>
            <a:chOff x="7696080" y="3147840"/>
            <a:chExt cx="1218960" cy="1042920"/>
          </a:xfrm>
        </p:grpSpPr>
        <p:sp>
          <p:nvSpPr>
            <p:cNvPr id="646" name=""/>
            <p:cNvSpPr/>
            <p:nvPr/>
          </p:nvSpPr>
          <p:spPr>
            <a:xfrm>
              <a:off x="7696080" y="3147840"/>
              <a:ext cx="1218960" cy="1042920"/>
            </a:xfrm>
            <a:prstGeom prst="bevel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889040" y="3360600"/>
              <a:ext cx="874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nité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u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4267080" y="1523520"/>
            <a:ext cx="1219320" cy="4360680"/>
            <a:chOff x="4267080" y="1523520"/>
            <a:chExt cx="1219320" cy="4360680"/>
          </a:xfrm>
        </p:grpSpPr>
        <p:sp>
          <p:nvSpPr>
            <p:cNvPr id="649" name=""/>
            <p:cNvSpPr/>
            <p:nvPr/>
          </p:nvSpPr>
          <p:spPr>
            <a:xfrm>
              <a:off x="4267080" y="1828800"/>
              <a:ext cx="1219320" cy="34290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267080" y="2209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267080" y="25909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26708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267080" y="3352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67080" y="37339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267080" y="4114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67080" y="4495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267080" y="48769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5486400" y="1523520"/>
              <a:ext cx="0" cy="4038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4267080" y="1523520"/>
              <a:ext cx="0" cy="4038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708440" y="3979800"/>
              <a:ext cx="184320" cy="422280"/>
            </a:xfrm>
            <a:prstGeom prst="wedgeRoundRectCallout">
              <a:avLst>
                <a:gd name="adj1" fmla="val -43967"/>
                <a:gd name="adj2" fmla="val 69925"/>
                <a:gd name="adj3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267080" y="2954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267080" y="33361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267080" y="37170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E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267080" y="40978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08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67680" y="54853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99"/>
                  </a:solidFill>
                  <a:latin typeface="Times New Roman"/>
                </a:rPr>
                <a:t>obj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649040" y="220896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49040" y="258984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649040" y="479952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649040" y="441864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649040" y="182772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 rot="5400000">
            <a:off x="5900040" y="3401280"/>
            <a:ext cx="160812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écod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’ instr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86400" y="3048120"/>
            <a:ext cx="914400" cy="228600"/>
          </a:xfrm>
          <a:prstGeom prst="rightArrow">
            <a:avLst>
              <a:gd name="adj1" fmla="val 60417"/>
              <a:gd name="adj2" fmla="val 71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6553080" y="4494960"/>
            <a:ext cx="304920" cy="747720"/>
          </a:xfrm>
          <a:prstGeom prst="upArrow">
            <a:avLst>
              <a:gd name="adj1" fmla="val 50000"/>
              <a:gd name="adj2" fmla="val 613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553080" y="2147760"/>
            <a:ext cx="304920" cy="747720"/>
          </a:xfrm>
          <a:prstGeom prst="upArrow">
            <a:avLst>
              <a:gd name="adj1" fmla="val 50000"/>
              <a:gd name="adj2" fmla="val 613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1360" y="19350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95880" y="1604880"/>
            <a:ext cx="2816280" cy="781200"/>
          </a:xfrm>
          <a:prstGeom prst="leftRightArrow">
            <a:avLst>
              <a:gd name="adj1" fmla="val 43139"/>
              <a:gd name="adj2" fmla="val 283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 d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NN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19920" y="5005080"/>
            <a:ext cx="2895480" cy="781560"/>
          </a:xfrm>
          <a:prstGeom prst="leftRightArrow">
            <a:avLst>
              <a:gd name="adj1" fmla="val 43139"/>
              <a:gd name="adj2" fmla="val 290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Bus d’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8229600" y="2147760"/>
            <a:ext cx="228600" cy="976320"/>
          </a:xfrm>
          <a:prstGeom prst="upArrow">
            <a:avLst>
              <a:gd name="adj1" fmla="val 50000"/>
              <a:gd name="adj2" fmla="val 1067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8229600" y="4191120"/>
            <a:ext cx="228600" cy="1052280"/>
          </a:xfrm>
          <a:prstGeom prst="upArrow">
            <a:avLst>
              <a:gd name="adj1" fmla="val 50000"/>
              <a:gd name="adj2" fmla="val 1150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0880" y="1582920"/>
            <a:ext cx="358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ans le cas de l’ architecture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Harvard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que possèdent les PIC,  la lecture d ’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une seule case mémoir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permet le traitement entier d ’une instruction et de son opéran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Un seul cycle machin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est donc nécessa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2590920" y="152280"/>
            <a:ext cx="4419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Architecture intern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682" name=""/>
          <p:cNvSpPr/>
          <p:nvPr/>
        </p:nvSpPr>
        <p:spPr>
          <a:xfrm>
            <a:off x="8271000" y="611028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925040" y="649044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2590920" y="152280"/>
            <a:ext cx="43434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registres intern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686" name=""/>
          <p:cNvSpPr/>
          <p:nvPr/>
        </p:nvSpPr>
        <p:spPr>
          <a:xfrm>
            <a:off x="380880" y="1506960"/>
            <a:ext cx="3581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on la version d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IC 16Cx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tilisée, le nombre d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gistres inter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 circuit est diffé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nsi, les registres présentés ci-après sont les plus couramment utilisé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847040" y="2818440"/>
            <a:ext cx="26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es d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’E/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648320" y="295596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860000" y="3898080"/>
            <a:ext cx="28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e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 ’ét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648320" y="402264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852080" y="3367800"/>
            <a:ext cx="31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es d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ir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648320" y="348948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57840" y="4402800"/>
            <a:ext cx="38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Compteur Program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648320" y="452448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867200" y="2240640"/>
            <a:ext cx="24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e d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trav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648320" y="23623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12193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360" y="15541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294200"/>
            <a:ext cx="35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 ’évolution des produits domestiques (ou industriels) rend compte d ’un phénomène directement lié à l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’évolution des technolog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00400" y="152280"/>
            <a:ext cx="30481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Mise en situ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74" name=""/>
          <p:cNvSpPr/>
          <p:nvPr/>
        </p:nvSpPr>
        <p:spPr>
          <a:xfrm>
            <a:off x="3195720" y="608400"/>
            <a:ext cx="31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volution technol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2590920" y="152280"/>
            <a:ext cx="43434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registres intern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699" name=""/>
          <p:cNvSpPr/>
          <p:nvPr/>
        </p:nvSpPr>
        <p:spPr>
          <a:xfrm>
            <a:off x="4114800" y="532440"/>
            <a:ext cx="29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gistre de travail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80880" y="1599120"/>
            <a:ext cx="358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registre de travai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st u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gistre 8 bit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iné à la manipulation générale des donné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419720" y="1675800"/>
            <a:ext cx="3657600" cy="915120"/>
            <a:chOff x="4419720" y="1675800"/>
            <a:chExt cx="3657600" cy="915120"/>
          </a:xfrm>
        </p:grpSpPr>
        <p:grpSp>
          <p:nvGrpSpPr>
            <p:cNvPr id="702" name=""/>
            <p:cNvGrpSpPr/>
            <p:nvPr/>
          </p:nvGrpSpPr>
          <p:grpSpPr>
            <a:xfrm>
              <a:off x="4419720" y="2210040"/>
              <a:ext cx="3657600" cy="380880"/>
              <a:chOff x="4419720" y="2210040"/>
              <a:chExt cx="3657600" cy="380880"/>
            </a:xfrm>
          </p:grpSpPr>
          <p:sp>
            <p:nvSpPr>
              <p:cNvPr id="703" name=""/>
              <p:cNvSpPr/>
              <p:nvPr/>
            </p:nvSpPr>
            <p:spPr>
              <a:xfrm>
                <a:off x="4419720" y="2210040"/>
                <a:ext cx="365760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334120" y="22100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791320" y="22100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876920" y="22100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248520" y="22100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705720" y="22100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162920" y="22100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620120" y="22100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5945040" y="167580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4472280" y="2188080"/>
            <a:ext cx="3573000" cy="440640"/>
            <a:chOff x="4472280" y="2188080"/>
            <a:chExt cx="3573000" cy="440640"/>
          </a:xfrm>
        </p:grpSpPr>
        <p:sp>
          <p:nvSpPr>
            <p:cNvPr id="713" name=""/>
            <p:cNvSpPr/>
            <p:nvPr/>
          </p:nvSpPr>
          <p:spPr>
            <a:xfrm>
              <a:off x="4472280" y="218808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29480" y="218808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81640" y="2188080"/>
              <a:ext cx="393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828040" y="218808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285240" y="218808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742440" y="218808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99640" y="218808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651800" y="2188080"/>
              <a:ext cx="393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361800" y="3412080"/>
            <a:ext cx="36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peut donc contenir une donnée de 8 bits que l ’on appelle ici u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ittér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344840" y="34279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4419720" y="3474360"/>
            <a:ext cx="3657600" cy="915120"/>
            <a:chOff x="4419720" y="3474360"/>
            <a:chExt cx="3657600" cy="915120"/>
          </a:xfrm>
        </p:grpSpPr>
        <p:grpSp>
          <p:nvGrpSpPr>
            <p:cNvPr id="724" name=""/>
            <p:cNvGrpSpPr/>
            <p:nvPr/>
          </p:nvGrpSpPr>
          <p:grpSpPr>
            <a:xfrm>
              <a:off x="4419720" y="4008600"/>
              <a:ext cx="3657600" cy="380880"/>
              <a:chOff x="4419720" y="4008600"/>
              <a:chExt cx="3657600" cy="380880"/>
            </a:xfrm>
          </p:grpSpPr>
          <p:sp>
            <p:nvSpPr>
              <p:cNvPr id="725" name=""/>
              <p:cNvSpPr/>
              <p:nvPr/>
            </p:nvSpPr>
            <p:spPr>
              <a:xfrm>
                <a:off x="4419720" y="4008600"/>
                <a:ext cx="365760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334120" y="40086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791320" y="40086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876920" y="40086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248520" y="40086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705720" y="40086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162920" y="40086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20120" y="40086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3" name=""/>
            <p:cNvSpPr/>
            <p:nvPr/>
          </p:nvSpPr>
          <p:spPr>
            <a:xfrm>
              <a:off x="5945040" y="347436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4496760" y="4007520"/>
            <a:ext cx="3535560" cy="398880"/>
            <a:chOff x="4496760" y="4007520"/>
            <a:chExt cx="3535560" cy="398880"/>
          </a:xfrm>
        </p:grpSpPr>
        <p:sp>
          <p:nvSpPr>
            <p:cNvPr id="735" name=""/>
            <p:cNvSpPr/>
            <p:nvPr/>
          </p:nvSpPr>
          <p:spPr>
            <a:xfrm>
              <a:off x="4496760" y="4007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3960" y="4007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368680" y="4007520"/>
              <a:ext cx="39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852520" y="4007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09720" y="4007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766920" y="4007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224120" y="4007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638840" y="4007520"/>
              <a:ext cx="39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4343400" y="4448520"/>
            <a:ext cx="373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ittér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gé dans le registre de travail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pour valeur hexadécimale B2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20760" y="5028120"/>
            <a:ext cx="364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registre W peut être comparé aux registres A ou B du 680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30592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7301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5456" y="3804"/>
                </a:lnTo>
                <a:lnTo>
                  <a:pt x="5456" y="17817"/>
                </a:lnTo>
                <a:lnTo>
                  <a:pt x="3794" y="17817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9999"/>
              </a:gs>
              <a:gs pos="100000">
                <a:srgbClr val="ffff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787520" y="6490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Retour me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2590920" y="152280"/>
            <a:ext cx="43434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registres intern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749" name=""/>
          <p:cNvSpPr/>
          <p:nvPr/>
        </p:nvSpPr>
        <p:spPr>
          <a:xfrm>
            <a:off x="3733920" y="53244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gistres d ’E/S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0880" y="1583280"/>
            <a:ext cx="3581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 microcontrôleur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euven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cevoir ou transmett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s informations avec de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ériphériques extérieu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 l ’intermédiaire de leur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orts d ’E/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4800600" y="1981080"/>
            <a:ext cx="1066680" cy="3429000"/>
            <a:chOff x="4800600" y="1981080"/>
            <a:chExt cx="1066680" cy="3429000"/>
          </a:xfrm>
        </p:grpSpPr>
        <p:sp>
          <p:nvSpPr>
            <p:cNvPr id="752" name=""/>
            <p:cNvSpPr/>
            <p:nvPr/>
          </p:nvSpPr>
          <p:spPr>
            <a:xfrm>
              <a:off x="4800600" y="1981080"/>
              <a:ext cx="1066680" cy="3429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20040" y="1996560"/>
              <a:ext cx="1041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icro P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6858000" y="1905120"/>
            <a:ext cx="1828800" cy="3504960"/>
            <a:chOff x="6858000" y="1905120"/>
            <a:chExt cx="1828800" cy="3504960"/>
          </a:xfrm>
        </p:grpSpPr>
        <p:sp>
          <p:nvSpPr>
            <p:cNvPr id="755" name=""/>
            <p:cNvSpPr/>
            <p:nvPr/>
          </p:nvSpPr>
          <p:spPr>
            <a:xfrm>
              <a:off x="6858000" y="1905120"/>
              <a:ext cx="1828800" cy="35049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946200" y="3474000"/>
              <a:ext cx="159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périphériq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5867280" y="3429000"/>
            <a:ext cx="990720" cy="485640"/>
          </a:xfrm>
          <a:prstGeom prst="leftRightArrow">
            <a:avLst>
              <a:gd name="adj1" fmla="val 50000"/>
              <a:gd name="adj2" fmla="val 406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rot="16200000">
            <a:off x="5118480" y="353952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ts d ’E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2590920" y="152280"/>
            <a:ext cx="43434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registres intern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761" name=""/>
          <p:cNvSpPr/>
          <p:nvPr/>
        </p:nvSpPr>
        <p:spPr>
          <a:xfrm>
            <a:off x="3733920" y="53244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gistres d ’E/S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80880" y="159912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ivant la version utilisée, les circuits proposen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 ou 3 ports d ’E/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ffér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4800600" y="1981080"/>
            <a:ext cx="1066680" cy="3429000"/>
            <a:chOff x="4800600" y="1981080"/>
            <a:chExt cx="1066680" cy="3429000"/>
          </a:xfrm>
        </p:grpSpPr>
        <p:sp>
          <p:nvSpPr>
            <p:cNvPr id="764" name=""/>
            <p:cNvSpPr/>
            <p:nvPr/>
          </p:nvSpPr>
          <p:spPr>
            <a:xfrm>
              <a:off x="4800600" y="1981080"/>
              <a:ext cx="1066680" cy="3429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820040" y="1996560"/>
              <a:ext cx="1041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icro P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5867280" y="4495680"/>
            <a:ext cx="1447920" cy="333360"/>
          </a:xfrm>
          <a:prstGeom prst="leftArrow">
            <a:avLst>
              <a:gd name="adj1" fmla="val 49528"/>
              <a:gd name="adj2" fmla="val 795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5867280" y="2590920"/>
            <a:ext cx="1447920" cy="333360"/>
          </a:xfrm>
          <a:prstGeom prst="leftArrow">
            <a:avLst>
              <a:gd name="adj1" fmla="val 49528"/>
              <a:gd name="adj2" fmla="val 795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5867280" y="3048120"/>
            <a:ext cx="1981440" cy="685800"/>
            <a:chOff x="5867280" y="3048120"/>
            <a:chExt cx="1981440" cy="685800"/>
          </a:xfrm>
        </p:grpSpPr>
        <p:sp>
          <p:nvSpPr>
            <p:cNvPr id="769" name=""/>
            <p:cNvSpPr/>
            <p:nvPr/>
          </p:nvSpPr>
          <p:spPr>
            <a:xfrm>
              <a:off x="7543800" y="3048120"/>
              <a:ext cx="304920" cy="533160"/>
            </a:xfrm>
            <a:prstGeom prst="upArrow">
              <a:avLst>
                <a:gd name="adj1" fmla="val 50000"/>
                <a:gd name="adj2" fmla="val 4371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867280" y="3581280"/>
              <a:ext cx="190512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620120" y="3505320"/>
              <a:ext cx="152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6201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6858000" y="1905120"/>
            <a:ext cx="1828800" cy="3537360"/>
            <a:chOff x="6858000" y="1905120"/>
            <a:chExt cx="1828800" cy="3537360"/>
          </a:xfrm>
        </p:grpSpPr>
        <p:sp>
          <p:nvSpPr>
            <p:cNvPr id="774" name=""/>
            <p:cNvSpPr/>
            <p:nvPr/>
          </p:nvSpPr>
          <p:spPr>
            <a:xfrm>
              <a:off x="6858000" y="1905120"/>
              <a:ext cx="1828800" cy="35049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241040" y="5105160"/>
              <a:ext cx="131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périphériq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7318800" y="2133720"/>
            <a:ext cx="968760" cy="914400"/>
            <a:chOff x="7318800" y="2133720"/>
            <a:chExt cx="968760" cy="914400"/>
          </a:xfrm>
        </p:grpSpPr>
        <p:sp>
          <p:nvSpPr>
            <p:cNvPr id="777" name=""/>
            <p:cNvSpPr/>
            <p:nvPr/>
          </p:nvSpPr>
          <p:spPr>
            <a:xfrm>
              <a:off x="7326360" y="2133720"/>
              <a:ext cx="914400" cy="914400"/>
            </a:xfrm>
            <a:prstGeom prst="roundRect">
              <a:avLst>
                <a:gd name="adj" fmla="val 16667"/>
              </a:avLst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318800" y="2395080"/>
              <a:ext cx="96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fficheu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7315200" y="4114800"/>
            <a:ext cx="914400" cy="914400"/>
            <a:chOff x="7315200" y="4114800"/>
            <a:chExt cx="914400" cy="914400"/>
          </a:xfrm>
        </p:grpSpPr>
        <p:sp>
          <p:nvSpPr>
            <p:cNvPr id="780" name=""/>
            <p:cNvSpPr/>
            <p:nvPr/>
          </p:nvSpPr>
          <p:spPr>
            <a:xfrm>
              <a:off x="7315200" y="4114800"/>
              <a:ext cx="914400" cy="9144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395120" y="440640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v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5562360" y="2440800"/>
            <a:ext cx="337320" cy="2585880"/>
            <a:chOff x="5562360" y="2440800"/>
            <a:chExt cx="337320" cy="2585880"/>
          </a:xfrm>
        </p:grpSpPr>
        <p:sp>
          <p:nvSpPr>
            <p:cNvPr id="783" name=""/>
            <p:cNvSpPr/>
            <p:nvPr/>
          </p:nvSpPr>
          <p:spPr>
            <a:xfrm rot="16200000">
              <a:off x="5373000" y="2629800"/>
              <a:ext cx="71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rt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6200000">
              <a:off x="5378400" y="351468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rt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16200000">
              <a:off x="5378400" y="450540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rt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380880" y="2619720"/>
            <a:ext cx="358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ans l ’exemple suivant, le portC est utilisé pour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recevoi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des informations provenant d ’un clavi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80880" y="402156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 ports A et B sont eux utilisés pou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ransmett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es données à affic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2590920" y="152280"/>
            <a:ext cx="43434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registres intern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790" name=""/>
          <p:cNvSpPr/>
          <p:nvPr/>
        </p:nvSpPr>
        <p:spPr>
          <a:xfrm>
            <a:off x="3733920" y="53244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gistres d ’E/S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0880" y="158328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 ’utilisation des registres est ainsi la suivant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0880" y="2421360"/>
            <a:ext cx="358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u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ransmettre une donné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r un port, il fau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CRI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 donnée dans l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gistre P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rrespond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80880" y="4097880"/>
            <a:ext cx="358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u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cevoir une donné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r un port, il fau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I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 donnée dans l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gistre P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rrespond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4418640" y="1659600"/>
            <a:ext cx="2997000" cy="2415240"/>
            <a:chOff x="4418640" y="1659600"/>
            <a:chExt cx="2997000" cy="2415240"/>
          </a:xfrm>
        </p:grpSpPr>
        <p:sp>
          <p:nvSpPr>
            <p:cNvPr id="795" name=""/>
            <p:cNvSpPr/>
            <p:nvPr/>
          </p:nvSpPr>
          <p:spPr>
            <a:xfrm>
              <a:off x="5209200" y="2511360"/>
              <a:ext cx="916920" cy="797040"/>
            </a:xfrm>
            <a:prstGeom prst="rightArrow">
              <a:avLst>
                <a:gd name="adj1" fmla="val 50000"/>
                <a:gd name="adj2" fmla="val 28760"/>
              </a:avLst>
            </a:prstGeom>
            <a:gradFill rotWithShape="0">
              <a:gsLst>
                <a:gs pos="0">
                  <a:srgbClr val="ff7c80"/>
                </a:gs>
                <a:gs pos="100000">
                  <a:srgbClr val="ffff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cri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6" name=""/>
            <p:cNvGrpSpPr/>
            <p:nvPr/>
          </p:nvGrpSpPr>
          <p:grpSpPr>
            <a:xfrm>
              <a:off x="6782400" y="1659600"/>
              <a:ext cx="633240" cy="2302920"/>
              <a:chOff x="6782400" y="1659600"/>
              <a:chExt cx="633240" cy="2302920"/>
            </a:xfrm>
          </p:grpSpPr>
          <p:grpSp>
            <p:nvGrpSpPr>
              <p:cNvPr id="797" name=""/>
              <p:cNvGrpSpPr/>
              <p:nvPr/>
            </p:nvGrpSpPr>
            <p:grpSpPr>
              <a:xfrm>
                <a:off x="6934320" y="2057400"/>
                <a:ext cx="304560" cy="1905120"/>
                <a:chOff x="6934320" y="2057400"/>
                <a:chExt cx="304560" cy="190512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6934320" y="2057400"/>
                  <a:ext cx="304560" cy="1905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6934320" y="22953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6934320" y="253332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6934320" y="277164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6934320" y="300960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6934320" y="324792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6934320" y="348624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6934320" y="372420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6" name=""/>
              <p:cNvSpPr/>
              <p:nvPr/>
            </p:nvSpPr>
            <p:spPr>
              <a:xfrm>
                <a:off x="6782400" y="1659600"/>
                <a:ext cx="63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or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7" name=""/>
            <p:cNvSpPr/>
            <p:nvPr/>
          </p:nvSpPr>
          <p:spPr>
            <a:xfrm rot="16200000">
              <a:off x="3416040" y="2673360"/>
              <a:ext cx="240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onnée à transmett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4418640" y="4097880"/>
            <a:ext cx="2997000" cy="2302920"/>
            <a:chOff x="4418640" y="4097880"/>
            <a:chExt cx="2997000" cy="2302920"/>
          </a:xfrm>
        </p:grpSpPr>
        <p:sp>
          <p:nvSpPr>
            <p:cNvPr id="809" name=""/>
            <p:cNvSpPr/>
            <p:nvPr/>
          </p:nvSpPr>
          <p:spPr>
            <a:xfrm>
              <a:off x="5257800" y="4910040"/>
              <a:ext cx="914400" cy="797040"/>
            </a:xfrm>
            <a:prstGeom prst="leftArrow">
              <a:avLst>
                <a:gd name="adj1" fmla="val 50000"/>
                <a:gd name="adj2" fmla="val 28681"/>
              </a:avLst>
            </a:prstGeom>
            <a:gradFill rotWithShape="0">
              <a:gsLst>
                <a:gs pos="0">
                  <a:srgbClr val="ff7c80"/>
                </a:gs>
                <a:gs pos="100000">
                  <a:srgbClr val="ffff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6782400" y="4097880"/>
              <a:ext cx="633240" cy="2302920"/>
              <a:chOff x="6782400" y="4097880"/>
              <a:chExt cx="633240" cy="2302920"/>
            </a:xfrm>
          </p:grpSpPr>
          <p:grpSp>
            <p:nvGrpSpPr>
              <p:cNvPr id="811" name=""/>
              <p:cNvGrpSpPr/>
              <p:nvPr/>
            </p:nvGrpSpPr>
            <p:grpSpPr>
              <a:xfrm>
                <a:off x="6934320" y="4495680"/>
                <a:ext cx="304560" cy="1905120"/>
                <a:chOff x="6934320" y="4495680"/>
                <a:chExt cx="304560" cy="1905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6934320" y="4495680"/>
                  <a:ext cx="304560" cy="1905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6934320" y="473364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934320" y="497160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934320" y="520992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6934320" y="544788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6934320" y="568620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6934320" y="592452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6934320" y="616248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0" name=""/>
              <p:cNvSpPr/>
              <p:nvPr/>
            </p:nvSpPr>
            <p:spPr>
              <a:xfrm>
                <a:off x="6782400" y="4097880"/>
                <a:ext cx="63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or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1" name=""/>
            <p:cNvSpPr/>
            <p:nvPr/>
          </p:nvSpPr>
          <p:spPr>
            <a:xfrm rot="16200000">
              <a:off x="3816000" y="5172840"/>
              <a:ext cx="160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onnée reç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2590920" y="152280"/>
            <a:ext cx="43434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registres intern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824" name=""/>
          <p:cNvSpPr/>
          <p:nvPr/>
        </p:nvSpPr>
        <p:spPr>
          <a:xfrm>
            <a:off x="3733920" y="53244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gistres d ’E/S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80880" y="1583280"/>
            <a:ext cx="35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marque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 registres PORTA, PORTB et PORTC sont analogues aux registre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RA et ORB du 682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2590920" y="152280"/>
            <a:ext cx="43434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registres intern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828" name=""/>
          <p:cNvSpPr/>
          <p:nvPr/>
        </p:nvSpPr>
        <p:spPr>
          <a:xfrm>
            <a:off x="3733920" y="53244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gistres d ’E/S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80880" y="1577880"/>
            <a:ext cx="358164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marque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 les PIC 16Cxx, l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ort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u circuit ne présente en fait qu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4 broches d ’E/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Le registre correspondant (8 bits) n ’a donc d ’actifs que les bit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à b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4800600" y="3885120"/>
            <a:ext cx="3657600" cy="1486440"/>
            <a:chOff x="4800600" y="3885120"/>
            <a:chExt cx="3657600" cy="1486440"/>
          </a:xfrm>
        </p:grpSpPr>
        <p:grpSp>
          <p:nvGrpSpPr>
            <p:cNvPr id="831" name=""/>
            <p:cNvGrpSpPr/>
            <p:nvPr/>
          </p:nvGrpSpPr>
          <p:grpSpPr>
            <a:xfrm>
              <a:off x="4800600" y="3885120"/>
              <a:ext cx="3657600" cy="784800"/>
              <a:chOff x="4800600" y="3885120"/>
              <a:chExt cx="3657600" cy="784800"/>
            </a:xfrm>
          </p:grpSpPr>
          <p:sp>
            <p:nvSpPr>
              <p:cNvPr id="832" name=""/>
              <p:cNvSpPr/>
              <p:nvPr/>
            </p:nvSpPr>
            <p:spPr>
              <a:xfrm>
                <a:off x="6021720" y="3885120"/>
                <a:ext cx="1014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ORT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3" name=""/>
              <p:cNvGrpSpPr/>
              <p:nvPr/>
            </p:nvGrpSpPr>
            <p:grpSpPr>
              <a:xfrm>
                <a:off x="4800600" y="4229280"/>
                <a:ext cx="3657600" cy="440640"/>
                <a:chOff x="4800600" y="4229280"/>
                <a:chExt cx="3657600" cy="440640"/>
              </a:xfrm>
            </p:grpSpPr>
            <p:grpSp>
              <p:nvGrpSpPr>
                <p:cNvPr id="834" name=""/>
                <p:cNvGrpSpPr/>
                <p:nvPr/>
              </p:nvGrpSpPr>
              <p:grpSpPr>
                <a:xfrm>
                  <a:off x="4800600" y="4251240"/>
                  <a:ext cx="3657600" cy="380880"/>
                  <a:chOff x="4800600" y="4251240"/>
                  <a:chExt cx="3657600" cy="380880"/>
                </a:xfrm>
              </p:grpSpPr>
              <p:sp>
                <p:nvSpPr>
                  <p:cNvPr id="835" name=""/>
                  <p:cNvSpPr/>
                  <p:nvPr/>
                </p:nvSpPr>
                <p:spPr>
                  <a:xfrm>
                    <a:off x="4800600" y="4251240"/>
                    <a:ext cx="3657600" cy="3808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5715000" y="4251240"/>
                    <a:ext cx="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6172200" y="4251240"/>
                    <a:ext cx="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5257800" y="4251240"/>
                    <a:ext cx="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6629400" y="4251240"/>
                    <a:ext cx="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7086600" y="4251240"/>
                    <a:ext cx="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7543800" y="4251240"/>
                    <a:ext cx="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8001000" y="4251240"/>
                    <a:ext cx="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3" name=""/>
                <p:cNvGrpSpPr/>
                <p:nvPr/>
              </p:nvGrpSpPr>
              <p:grpSpPr>
                <a:xfrm>
                  <a:off x="4881600" y="4229280"/>
                  <a:ext cx="3573000" cy="440640"/>
                  <a:chOff x="4881600" y="4229280"/>
                  <a:chExt cx="3573000" cy="44064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>
                    <a:off x="4881600" y="4229280"/>
                    <a:ext cx="38340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5338800" y="4229280"/>
                    <a:ext cx="38340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5790960" y="4229280"/>
                    <a:ext cx="39384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6237360" y="4229280"/>
                    <a:ext cx="38340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6694560" y="4229280"/>
                    <a:ext cx="38340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7151760" y="4229280"/>
                    <a:ext cx="38340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7608960" y="4229280"/>
                    <a:ext cx="38340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8061120" y="4229280"/>
                    <a:ext cx="39348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52" name=""/>
            <p:cNvGrpSpPr/>
            <p:nvPr/>
          </p:nvGrpSpPr>
          <p:grpSpPr>
            <a:xfrm>
              <a:off x="4800600" y="4631400"/>
              <a:ext cx="3657600" cy="740160"/>
              <a:chOff x="4800600" y="4631400"/>
              <a:chExt cx="3657600" cy="740160"/>
            </a:xfrm>
          </p:grpSpPr>
          <p:sp>
            <p:nvSpPr>
              <p:cNvPr id="853" name=""/>
              <p:cNvSpPr/>
              <p:nvPr/>
            </p:nvSpPr>
            <p:spPr>
              <a:xfrm>
                <a:off x="6023520" y="4631400"/>
                <a:ext cx="1014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ORT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4" name=""/>
              <p:cNvGrpSpPr/>
              <p:nvPr/>
            </p:nvGrpSpPr>
            <p:grpSpPr>
              <a:xfrm>
                <a:off x="4800600" y="4930920"/>
                <a:ext cx="3657600" cy="440640"/>
                <a:chOff x="4800600" y="4930920"/>
                <a:chExt cx="3657600" cy="440640"/>
              </a:xfrm>
            </p:grpSpPr>
            <p:grpSp>
              <p:nvGrpSpPr>
                <p:cNvPr id="855" name=""/>
                <p:cNvGrpSpPr/>
                <p:nvPr/>
              </p:nvGrpSpPr>
              <p:grpSpPr>
                <a:xfrm>
                  <a:off x="4800600" y="4984560"/>
                  <a:ext cx="3657600" cy="380880"/>
                  <a:chOff x="4800600" y="4984560"/>
                  <a:chExt cx="3657600" cy="38088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>
                    <a:off x="4800600" y="4984560"/>
                    <a:ext cx="3657600" cy="3808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5715000" y="4984560"/>
                    <a:ext cx="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6172200" y="4984560"/>
                    <a:ext cx="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5257800" y="4984560"/>
                    <a:ext cx="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6629400" y="4984560"/>
                    <a:ext cx="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7086600" y="4984560"/>
                    <a:ext cx="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7543800" y="4984560"/>
                    <a:ext cx="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8001000" y="4984560"/>
                    <a:ext cx="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4" name=""/>
                <p:cNvGrpSpPr/>
                <p:nvPr/>
              </p:nvGrpSpPr>
              <p:grpSpPr>
                <a:xfrm>
                  <a:off x="4881600" y="4930920"/>
                  <a:ext cx="3573000" cy="440640"/>
                  <a:chOff x="4881600" y="4930920"/>
                  <a:chExt cx="3573000" cy="440640"/>
                </a:xfrm>
              </p:grpSpPr>
              <p:sp>
                <p:nvSpPr>
                  <p:cNvPr id="865" name=""/>
                  <p:cNvSpPr/>
                  <p:nvPr/>
                </p:nvSpPr>
                <p:spPr>
                  <a:xfrm>
                    <a:off x="4881600" y="4930920"/>
                    <a:ext cx="38340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5338800" y="4930920"/>
                    <a:ext cx="38340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5790960" y="4930920"/>
                    <a:ext cx="39384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6237360" y="4930920"/>
                    <a:ext cx="38340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6694560" y="4930920"/>
                    <a:ext cx="38340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7151760" y="4930920"/>
                    <a:ext cx="38340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7608960" y="4930920"/>
                    <a:ext cx="38340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8061120" y="4930920"/>
                    <a:ext cx="39348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873" name=""/>
          <p:cNvGrpSpPr/>
          <p:nvPr/>
        </p:nvGrpSpPr>
        <p:grpSpPr>
          <a:xfrm>
            <a:off x="4800600" y="2284920"/>
            <a:ext cx="3657600" cy="801000"/>
            <a:chOff x="4800600" y="2284920"/>
            <a:chExt cx="3657600" cy="801000"/>
          </a:xfrm>
        </p:grpSpPr>
        <p:sp>
          <p:nvSpPr>
            <p:cNvPr id="874" name=""/>
            <p:cNvSpPr/>
            <p:nvPr/>
          </p:nvSpPr>
          <p:spPr>
            <a:xfrm>
              <a:off x="6021720" y="2284920"/>
              <a:ext cx="101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POR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4800600" y="2645280"/>
              <a:ext cx="3657600" cy="440640"/>
              <a:chOff x="4800600" y="2645280"/>
              <a:chExt cx="3657600" cy="440640"/>
            </a:xfrm>
          </p:grpSpPr>
          <p:grpSp>
            <p:nvGrpSpPr>
              <p:cNvPr id="876" name=""/>
              <p:cNvGrpSpPr/>
              <p:nvPr/>
            </p:nvGrpSpPr>
            <p:grpSpPr>
              <a:xfrm>
                <a:off x="4800600" y="2666880"/>
                <a:ext cx="3657600" cy="380880"/>
                <a:chOff x="4800600" y="2666880"/>
                <a:chExt cx="3657600" cy="38088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4800600" y="2666880"/>
                  <a:ext cx="3657600" cy="380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5715000" y="26668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172200" y="26668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5257800" y="26668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6629400" y="26668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086600" y="26668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7543800" y="26668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8001000" y="26668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5" name=""/>
              <p:cNvGrpSpPr/>
              <p:nvPr/>
            </p:nvGrpSpPr>
            <p:grpSpPr>
              <a:xfrm>
                <a:off x="6666120" y="2645280"/>
                <a:ext cx="1760040" cy="440640"/>
                <a:chOff x="6666120" y="2645280"/>
                <a:chExt cx="1760040" cy="440640"/>
              </a:xfrm>
            </p:grpSpPr>
            <p:sp>
              <p:nvSpPr>
                <p:cNvPr id="886" name=""/>
                <p:cNvSpPr/>
                <p:nvPr/>
              </p:nvSpPr>
              <p:spPr>
                <a:xfrm>
                  <a:off x="6666120" y="2645280"/>
                  <a:ext cx="3834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7123320" y="2645280"/>
                  <a:ext cx="3834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580520" y="2645280"/>
                  <a:ext cx="3834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8032680" y="2645280"/>
                  <a:ext cx="393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0" name=""/>
              <p:cNvSpPr/>
              <p:nvPr/>
            </p:nvSpPr>
            <p:spPr>
              <a:xfrm flipH="1">
                <a:off x="6172200" y="2666880"/>
                <a:ext cx="45720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H="1">
                <a:off x="5715000" y="2666880"/>
                <a:ext cx="45720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H="1">
                <a:off x="5257800" y="2666880"/>
                <a:ext cx="45720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4800600" y="2666880"/>
                <a:ext cx="45720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172200" y="2666880"/>
                <a:ext cx="45720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715000" y="2666880"/>
                <a:ext cx="45720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257800" y="2666880"/>
                <a:ext cx="45720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800600" y="2666880"/>
                <a:ext cx="45720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8" name=""/>
          <p:cNvSpPr/>
          <p:nvPr/>
        </p:nvSpPr>
        <p:spPr>
          <a:xfrm>
            <a:off x="380880" y="4174200"/>
            <a:ext cx="358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 port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 et 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ssèdent eux bie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8 lignes d ’E/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Les registres correspondant ont donc le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8 bits actif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830592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7301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5456" y="3804"/>
                </a:lnTo>
                <a:lnTo>
                  <a:pt x="5456" y="17817"/>
                </a:lnTo>
                <a:lnTo>
                  <a:pt x="3794" y="17817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9999"/>
              </a:gs>
              <a:gs pos="100000">
                <a:srgbClr val="ffff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787520" y="6490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Retour me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2590920" y="152280"/>
            <a:ext cx="43434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registres intern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903" name=""/>
          <p:cNvSpPr/>
          <p:nvPr/>
        </p:nvSpPr>
        <p:spPr>
          <a:xfrm>
            <a:off x="3124080" y="53244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gistres de direction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0880" y="1582560"/>
            <a:ext cx="3581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 registres de directi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R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8 bi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sont directement liés aux registres P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rôle des registre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R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st de programmer chacune de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ig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s ports soit e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tré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oit e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orti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 différentes broches (lignes) d ’un même port peuvent donc avoir un rôle différ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ransmett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u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cevoi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e valeur logique (« 0 » ou  «1 »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2590920" y="152280"/>
            <a:ext cx="43434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registres intern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53244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gistres de direction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80880" y="167544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programmation des registre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R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st la suiv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4648320" y="2056320"/>
            <a:ext cx="3657600" cy="1051920"/>
            <a:chOff x="4648320" y="2056320"/>
            <a:chExt cx="3657600" cy="1051920"/>
          </a:xfrm>
        </p:grpSpPr>
        <p:sp>
          <p:nvSpPr>
            <p:cNvPr id="910" name=""/>
            <p:cNvSpPr/>
            <p:nvPr/>
          </p:nvSpPr>
          <p:spPr>
            <a:xfrm>
              <a:off x="6005520" y="2056320"/>
              <a:ext cx="74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TR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4648320" y="2727360"/>
              <a:ext cx="3657600" cy="380880"/>
              <a:chOff x="4648320" y="2727360"/>
              <a:chExt cx="3657600" cy="380880"/>
            </a:xfrm>
          </p:grpSpPr>
          <p:sp>
            <p:nvSpPr>
              <p:cNvPr id="912" name=""/>
              <p:cNvSpPr/>
              <p:nvPr/>
            </p:nvSpPr>
            <p:spPr>
              <a:xfrm>
                <a:off x="4648320" y="2727360"/>
                <a:ext cx="365760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562720" y="27273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6019920" y="27273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105520" y="27273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477120" y="27273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934320" y="27273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391520" y="27273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848720" y="27273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4729320" y="2340360"/>
              <a:ext cx="3573000" cy="440640"/>
              <a:chOff x="4729320" y="2340360"/>
              <a:chExt cx="3573000" cy="440640"/>
            </a:xfrm>
          </p:grpSpPr>
          <p:sp>
            <p:nvSpPr>
              <p:cNvPr id="921" name=""/>
              <p:cNvSpPr/>
              <p:nvPr/>
            </p:nvSpPr>
            <p:spPr>
              <a:xfrm>
                <a:off x="4729320" y="2340360"/>
                <a:ext cx="383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186520" y="2340360"/>
                <a:ext cx="383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638680" y="2340360"/>
                <a:ext cx="3938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085080" y="2340360"/>
                <a:ext cx="383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542280" y="2340360"/>
                <a:ext cx="383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6999480" y="2340360"/>
                <a:ext cx="383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456680" y="2340360"/>
                <a:ext cx="383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908840" y="2340360"/>
                <a:ext cx="393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9" name=""/>
          <p:cNvSpPr/>
          <p:nvPr/>
        </p:nvSpPr>
        <p:spPr>
          <a:xfrm>
            <a:off x="7468560" y="2742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82560" y="2742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2012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33412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010280" y="3787920"/>
            <a:ext cx="10922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gne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sor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800600" y="3635640"/>
            <a:ext cx="11066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gne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ent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80880" y="388512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mise à «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» du bit programme la ligne correspondante e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tré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80880" y="265788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mise à «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» du bit programme la ligne correspondant e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orti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2590920" y="152280"/>
            <a:ext cx="43434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registres intern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53244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gistres de direction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80880" y="1506960"/>
            <a:ext cx="3581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emp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ons l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ort A en entré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t l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ort B en sorti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mar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le port A ne possède que 4 lignes d ’E/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4267080" y="1904040"/>
            <a:ext cx="4724640" cy="1296360"/>
            <a:chOff x="4267080" y="1904040"/>
            <a:chExt cx="4724640" cy="1296360"/>
          </a:xfrm>
        </p:grpSpPr>
        <p:sp>
          <p:nvSpPr>
            <p:cNvPr id="942" name=""/>
            <p:cNvSpPr/>
            <p:nvPr/>
          </p:nvSpPr>
          <p:spPr>
            <a:xfrm>
              <a:off x="4267080" y="1905120"/>
              <a:ext cx="4724640" cy="12189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3" name=""/>
            <p:cNvGrpSpPr/>
            <p:nvPr/>
          </p:nvGrpSpPr>
          <p:grpSpPr>
            <a:xfrm>
              <a:off x="4559040" y="2671920"/>
              <a:ext cx="1372680" cy="526680"/>
              <a:chOff x="4559040" y="2671920"/>
              <a:chExt cx="1372680" cy="526680"/>
            </a:xfrm>
          </p:grpSpPr>
          <p:sp>
            <p:nvSpPr>
              <p:cNvPr id="944" name=""/>
              <p:cNvSpPr/>
              <p:nvPr/>
            </p:nvSpPr>
            <p:spPr>
              <a:xfrm rot="5400000">
                <a:off x="4483440" y="2752200"/>
                <a:ext cx="5220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A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5400000">
                <a:off x="4827960" y="2747520"/>
                <a:ext cx="5220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A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5400000">
                <a:off x="5485320" y="2748960"/>
                <a:ext cx="5220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A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5400000">
                <a:off x="5164560" y="2748960"/>
                <a:ext cx="5220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A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6351480" y="2673000"/>
              <a:ext cx="2536200" cy="527400"/>
              <a:chOff x="6351480" y="2673000"/>
              <a:chExt cx="2536200" cy="527400"/>
            </a:xfrm>
          </p:grpSpPr>
          <p:sp>
            <p:nvSpPr>
              <p:cNvPr id="949" name=""/>
              <p:cNvSpPr/>
              <p:nvPr/>
            </p:nvSpPr>
            <p:spPr>
              <a:xfrm rot="5400000">
                <a:off x="6280920" y="2743200"/>
                <a:ext cx="511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5400000">
                <a:off x="7195320" y="2752920"/>
                <a:ext cx="511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5400000">
                <a:off x="6890400" y="2743200"/>
                <a:ext cx="511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5400000">
                <a:off x="6585480" y="2752920"/>
                <a:ext cx="511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5400000">
                <a:off x="8446320" y="2743200"/>
                <a:ext cx="511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5400000">
                <a:off x="8109720" y="2759040"/>
                <a:ext cx="511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5400000">
                <a:off x="7804800" y="2743200"/>
                <a:ext cx="511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5400000">
                <a:off x="7499880" y="2743200"/>
                <a:ext cx="511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7" name=""/>
            <p:cNvSpPr/>
            <p:nvPr/>
          </p:nvSpPr>
          <p:spPr>
            <a:xfrm>
              <a:off x="7080840" y="2345400"/>
              <a:ext cx="8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ort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785120" y="2361240"/>
              <a:ext cx="8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ort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383680" y="1904040"/>
              <a:ext cx="60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4589640" y="3124080"/>
            <a:ext cx="4252680" cy="826200"/>
            <a:chOff x="4589640" y="3124080"/>
            <a:chExt cx="4252680" cy="826200"/>
          </a:xfrm>
        </p:grpSpPr>
        <p:sp>
          <p:nvSpPr>
            <p:cNvPr id="961" name=""/>
            <p:cNvSpPr/>
            <p:nvPr/>
          </p:nvSpPr>
          <p:spPr>
            <a:xfrm flipV="1">
              <a:off x="5730840" y="3124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5410080" y="3124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5073480" y="3124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4724280" y="3124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477120" y="3124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813720" y="3124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30880" y="3124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35800" y="3124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728120" y="3124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045280" y="3124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8366040" y="3124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686800" y="3124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596200" y="361296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360" y="361296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938840" y="361296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589640" y="360972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326280" y="359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678720" y="359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991560" y="359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309080" y="3593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613640" y="359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918560" y="359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223480" y="359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548920" y="359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4190760" y="4190040"/>
            <a:ext cx="4367520" cy="766440"/>
            <a:chOff x="4190760" y="4190040"/>
            <a:chExt cx="4367520" cy="766440"/>
          </a:xfrm>
        </p:grpSpPr>
        <p:grpSp>
          <p:nvGrpSpPr>
            <p:cNvPr id="986" name=""/>
            <p:cNvGrpSpPr/>
            <p:nvPr/>
          </p:nvGrpSpPr>
          <p:grpSpPr>
            <a:xfrm>
              <a:off x="4190760" y="4190040"/>
              <a:ext cx="1981440" cy="762840"/>
              <a:chOff x="4190760" y="4190040"/>
              <a:chExt cx="1981440" cy="762840"/>
            </a:xfrm>
          </p:grpSpPr>
          <p:sp>
            <p:nvSpPr>
              <p:cNvPr id="987" name=""/>
              <p:cNvSpPr/>
              <p:nvPr/>
            </p:nvSpPr>
            <p:spPr>
              <a:xfrm>
                <a:off x="4726440" y="4190040"/>
                <a:ext cx="91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TRIS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8" name=""/>
              <p:cNvGrpSpPr/>
              <p:nvPr/>
            </p:nvGrpSpPr>
            <p:grpSpPr>
              <a:xfrm>
                <a:off x="4190760" y="4572000"/>
                <a:ext cx="1981440" cy="380880"/>
                <a:chOff x="4190760" y="4572000"/>
                <a:chExt cx="1981440" cy="380880"/>
              </a:xfrm>
            </p:grpSpPr>
            <p:grpSp>
              <p:nvGrpSpPr>
                <p:cNvPr id="989" name=""/>
                <p:cNvGrpSpPr/>
                <p:nvPr/>
              </p:nvGrpSpPr>
              <p:grpSpPr>
                <a:xfrm>
                  <a:off x="4191120" y="4572000"/>
                  <a:ext cx="1981080" cy="380880"/>
                  <a:chOff x="4191120" y="4572000"/>
                  <a:chExt cx="1981080" cy="380880"/>
                </a:xfrm>
              </p:grpSpPr>
              <p:sp>
                <p:nvSpPr>
                  <p:cNvPr id="990" name=""/>
                  <p:cNvSpPr/>
                  <p:nvPr/>
                </p:nvSpPr>
                <p:spPr>
                  <a:xfrm>
                    <a:off x="4191120" y="4572000"/>
                    <a:ext cx="1981080" cy="3808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4686120" y="4572000"/>
                    <a:ext cx="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4933800" y="4572000"/>
                    <a:ext cx="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4438440" y="4572000"/>
                    <a:ext cx="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5181480" y="4572000"/>
                    <a:ext cx="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5429160" y="4572000"/>
                    <a:ext cx="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5676840" y="4572000"/>
                    <a:ext cx="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5924520" y="4572000"/>
                    <a:ext cx="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98" name=""/>
                <p:cNvSpPr/>
                <p:nvPr/>
              </p:nvSpPr>
              <p:spPr>
                <a:xfrm flipH="1">
                  <a:off x="4933440" y="4572000"/>
                  <a:ext cx="247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flipH="1">
                  <a:off x="4685760" y="4572000"/>
                  <a:ext cx="247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H="1">
                  <a:off x="4438080" y="4572000"/>
                  <a:ext cx="247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 flipH="1">
                  <a:off x="4190760" y="4572000"/>
                  <a:ext cx="247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4933800" y="4572000"/>
                  <a:ext cx="247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4686120" y="4572000"/>
                  <a:ext cx="247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4438440" y="4572000"/>
                  <a:ext cx="247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4191120" y="4572000"/>
                  <a:ext cx="247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06" name=""/>
            <p:cNvGrpSpPr/>
            <p:nvPr/>
          </p:nvGrpSpPr>
          <p:grpSpPr>
            <a:xfrm>
              <a:off x="6553080" y="4190040"/>
              <a:ext cx="1981440" cy="762840"/>
              <a:chOff x="6553080" y="4190040"/>
              <a:chExt cx="1981440" cy="762840"/>
            </a:xfrm>
          </p:grpSpPr>
          <p:sp>
            <p:nvSpPr>
              <p:cNvPr id="1007" name=""/>
              <p:cNvSpPr/>
              <p:nvPr/>
            </p:nvSpPr>
            <p:spPr>
              <a:xfrm>
                <a:off x="7083720" y="4190040"/>
                <a:ext cx="91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TRIS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6553080" y="4572000"/>
                <a:ext cx="1981440" cy="380880"/>
                <a:chOff x="6553080" y="4572000"/>
                <a:chExt cx="1981440" cy="38088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6553080" y="4572000"/>
                  <a:ext cx="1981440" cy="380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7048440" y="4572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7296120" y="4572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6800760" y="4572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7543800" y="4572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791480" y="4572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8039160" y="4572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8286840" y="4572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7" name=""/>
            <p:cNvGrpSpPr/>
            <p:nvPr/>
          </p:nvGrpSpPr>
          <p:grpSpPr>
            <a:xfrm>
              <a:off x="6554520" y="4609800"/>
              <a:ext cx="2003760" cy="346680"/>
              <a:chOff x="6554520" y="4609800"/>
              <a:chExt cx="2003760" cy="346680"/>
            </a:xfrm>
          </p:grpSpPr>
          <p:sp>
            <p:nvSpPr>
              <p:cNvPr id="1018" name=""/>
              <p:cNvSpPr/>
              <p:nvPr/>
            </p:nvSpPr>
            <p:spPr>
              <a:xfrm>
                <a:off x="8275320" y="461592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046720" y="461304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792920" y="461592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529400" y="461592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272000" y="460980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027560" y="461916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6783120" y="461592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554520" y="461592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5182920" y="4615920"/>
              <a:ext cx="1032120" cy="340560"/>
              <a:chOff x="5182920" y="4615920"/>
              <a:chExt cx="1032120" cy="340560"/>
            </a:xfrm>
          </p:grpSpPr>
          <p:sp>
            <p:nvSpPr>
              <p:cNvPr id="1027" name=""/>
              <p:cNvSpPr/>
              <p:nvPr/>
            </p:nvSpPr>
            <p:spPr>
              <a:xfrm>
                <a:off x="5932080" y="461592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87640" y="461592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443200" y="461592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182920" y="461916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1" name=""/>
          <p:cNvSpPr/>
          <p:nvPr/>
        </p:nvSpPr>
        <p:spPr>
          <a:xfrm>
            <a:off x="4438080" y="5240880"/>
            <a:ext cx="15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« 0 » = sor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« 1 » = ent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80880" y="371700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conséquence, les registre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R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 programment avec les valeu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80880" y="478368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SA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SB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30592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7301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5456" y="3804"/>
                </a:lnTo>
                <a:lnTo>
                  <a:pt x="5456" y="17817"/>
                </a:lnTo>
                <a:lnTo>
                  <a:pt x="3794" y="17817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9999"/>
              </a:gs>
              <a:gs pos="100000">
                <a:srgbClr val="ffff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787520" y="6490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Retour me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2590920" y="152280"/>
            <a:ext cx="43434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registres intern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038" name=""/>
          <p:cNvSpPr/>
          <p:nvPr/>
        </p:nvSpPr>
        <p:spPr>
          <a:xfrm>
            <a:off x="3276720" y="53244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Registre d’ état 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80880" y="1582920"/>
            <a:ext cx="3581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registre d ’éta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st un registr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8 bi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rôle de ce registre est de donner diverses informations à l ’utilisateur su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 ’ét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 fonctionnement ou sur le résultat d ’ une opé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80880" y="417420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s ’intéressera en fait à seulement 2 bits du registre d ’éta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5410080" y="1294200"/>
            <a:ext cx="3657600" cy="1166040"/>
            <a:chOff x="5410080" y="1294200"/>
            <a:chExt cx="3657600" cy="1166040"/>
          </a:xfrm>
        </p:grpSpPr>
        <p:sp>
          <p:nvSpPr>
            <p:cNvPr id="1042" name=""/>
            <p:cNvSpPr/>
            <p:nvPr/>
          </p:nvSpPr>
          <p:spPr>
            <a:xfrm>
              <a:off x="6575040" y="1294200"/>
              <a:ext cx="11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STAT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"/>
            <p:cNvGrpSpPr/>
            <p:nvPr/>
          </p:nvGrpSpPr>
          <p:grpSpPr>
            <a:xfrm>
              <a:off x="5410080" y="1660320"/>
              <a:ext cx="3657600" cy="380880"/>
              <a:chOff x="5410080" y="1660320"/>
              <a:chExt cx="3657600" cy="380880"/>
            </a:xfrm>
          </p:grpSpPr>
          <p:sp>
            <p:nvSpPr>
              <p:cNvPr id="1044" name=""/>
              <p:cNvSpPr/>
              <p:nvPr/>
            </p:nvSpPr>
            <p:spPr>
              <a:xfrm>
                <a:off x="5410080" y="1660320"/>
                <a:ext cx="365760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324480" y="1660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781680" y="1660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867280" y="1660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238880" y="1660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696080" y="1660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153280" y="1660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610480" y="1660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5491440" y="2019600"/>
              <a:ext cx="3573000" cy="440640"/>
              <a:chOff x="5491440" y="2019600"/>
              <a:chExt cx="3573000" cy="440640"/>
            </a:xfrm>
          </p:grpSpPr>
          <p:sp>
            <p:nvSpPr>
              <p:cNvPr id="1053" name=""/>
              <p:cNvSpPr/>
              <p:nvPr/>
            </p:nvSpPr>
            <p:spPr>
              <a:xfrm>
                <a:off x="5491440" y="2019600"/>
                <a:ext cx="383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948640" y="2019600"/>
                <a:ext cx="383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400800" y="2019600"/>
                <a:ext cx="3938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847200" y="2019600"/>
                <a:ext cx="383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304400" y="2019600"/>
                <a:ext cx="383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761600" y="2019600"/>
                <a:ext cx="383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218800" y="2019600"/>
                <a:ext cx="383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670960" y="2019600"/>
                <a:ext cx="393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12193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360" y="15541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200400" y="152280"/>
            <a:ext cx="30481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Mise en situ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78" name="startac_big_trans" descr=""/>
          <p:cNvPicPr/>
          <p:nvPr/>
        </p:nvPicPr>
        <p:blipFill>
          <a:blip r:embed="rId1"/>
          <a:stretch/>
        </p:blipFill>
        <p:spPr>
          <a:xfrm>
            <a:off x="4343400" y="1219320"/>
            <a:ext cx="833400" cy="2361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257800" y="1947600"/>
            <a:ext cx="3124080" cy="730800"/>
          </a:xfrm>
          <a:prstGeom prst="leftArrow">
            <a:avLst>
              <a:gd name="adj1" fmla="val 54546"/>
              <a:gd name="adj2" fmla="val 62500"/>
            </a:avLst>
          </a:prstGeom>
          <a:gradFill rotWithShape="0">
            <a:gsLst>
              <a:gs pos="0">
                <a:srgbClr val="ff7c80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niatur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4538520"/>
            <a:ext cx="3124080" cy="730800"/>
          </a:xfrm>
          <a:prstGeom prst="leftArrow">
            <a:avLst>
              <a:gd name="adj1" fmla="val 54546"/>
              <a:gd name="adj2" fmla="val 62500"/>
            </a:avLst>
          </a:prstGeom>
          <a:gradFill rotWithShape="0">
            <a:gsLst>
              <a:gs pos="0">
                <a:srgbClr val="ff7c80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té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rcRect l="0" t="3127" r="0" b="0"/>
          <a:stretch/>
        </p:blipFill>
        <p:spPr>
          <a:xfrm>
            <a:off x="4267080" y="4038480"/>
            <a:ext cx="946440" cy="1676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1370520"/>
            <a:ext cx="350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ès de la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niaturis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 téléphones portables en sont un exemple très actu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69280"/>
            <a:ext cx="3505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ès de l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’intég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nombre de structures intégrées à un seul composant est de plus en plus import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nombre de circuits utilisés est ainsi rédu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266580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s cette miniaturisation ne peut se faire sans un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évolution de la technologi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tilisé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95720" y="608400"/>
            <a:ext cx="31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volution technol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2590920" y="152280"/>
            <a:ext cx="43434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registres intern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063" name=""/>
          <p:cNvSpPr/>
          <p:nvPr/>
        </p:nvSpPr>
        <p:spPr>
          <a:xfrm>
            <a:off x="3276720" y="53244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Registre d’ état 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5410080" y="1294200"/>
            <a:ext cx="3657600" cy="1166040"/>
            <a:chOff x="5410080" y="1294200"/>
            <a:chExt cx="3657600" cy="1166040"/>
          </a:xfrm>
        </p:grpSpPr>
        <p:sp>
          <p:nvSpPr>
            <p:cNvPr id="1065" name=""/>
            <p:cNvSpPr/>
            <p:nvPr/>
          </p:nvSpPr>
          <p:spPr>
            <a:xfrm>
              <a:off x="6575040" y="1294200"/>
              <a:ext cx="11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STAT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6" name=""/>
            <p:cNvGrpSpPr/>
            <p:nvPr/>
          </p:nvGrpSpPr>
          <p:grpSpPr>
            <a:xfrm>
              <a:off x="5410080" y="1660320"/>
              <a:ext cx="3657600" cy="380880"/>
              <a:chOff x="5410080" y="1660320"/>
              <a:chExt cx="3657600" cy="380880"/>
            </a:xfrm>
          </p:grpSpPr>
          <p:sp>
            <p:nvSpPr>
              <p:cNvPr id="1067" name=""/>
              <p:cNvSpPr/>
              <p:nvPr/>
            </p:nvSpPr>
            <p:spPr>
              <a:xfrm>
                <a:off x="5410080" y="1660320"/>
                <a:ext cx="365760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324480" y="1660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781680" y="1660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867280" y="1660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238880" y="1660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696080" y="1660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8153280" y="1660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610480" y="1660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5491440" y="2019600"/>
              <a:ext cx="3573000" cy="440640"/>
              <a:chOff x="5491440" y="2019600"/>
              <a:chExt cx="3573000" cy="440640"/>
            </a:xfrm>
          </p:grpSpPr>
          <p:sp>
            <p:nvSpPr>
              <p:cNvPr id="1076" name=""/>
              <p:cNvSpPr/>
              <p:nvPr/>
            </p:nvSpPr>
            <p:spPr>
              <a:xfrm>
                <a:off x="5491440" y="2019600"/>
                <a:ext cx="383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948640" y="2019600"/>
                <a:ext cx="383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400800" y="2019600"/>
                <a:ext cx="3938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847200" y="2019600"/>
                <a:ext cx="383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304400" y="2019600"/>
                <a:ext cx="383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761600" y="2019600"/>
                <a:ext cx="383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8218800" y="2019600"/>
                <a:ext cx="383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8670960" y="2019600"/>
                <a:ext cx="393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4" name=""/>
          <p:cNvSpPr/>
          <p:nvPr/>
        </p:nvSpPr>
        <p:spPr>
          <a:xfrm>
            <a:off x="7774200" y="1643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80880" y="1501920"/>
            <a:ext cx="358164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Le bit b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 (Zé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orsqu ’une opération arithmétique ou logique est réalisée, le bit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est mis à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si le résultat est nul et à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dans le cas contra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4115160" y="3275640"/>
            <a:ext cx="4495320" cy="1166040"/>
            <a:chOff x="4115160" y="3275640"/>
            <a:chExt cx="4495320" cy="1166040"/>
          </a:xfrm>
        </p:grpSpPr>
        <p:sp>
          <p:nvSpPr>
            <p:cNvPr id="1087" name=""/>
            <p:cNvSpPr/>
            <p:nvPr/>
          </p:nvSpPr>
          <p:spPr>
            <a:xfrm>
              <a:off x="4115160" y="358056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x1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8" name=""/>
            <p:cNvGrpSpPr/>
            <p:nvPr/>
          </p:nvGrpSpPr>
          <p:grpSpPr>
            <a:xfrm>
              <a:off x="4952880" y="3275640"/>
              <a:ext cx="3657600" cy="1166040"/>
              <a:chOff x="4952880" y="3275640"/>
              <a:chExt cx="3657600" cy="1166040"/>
            </a:xfrm>
          </p:grpSpPr>
          <p:sp>
            <p:nvSpPr>
              <p:cNvPr id="1089" name=""/>
              <p:cNvSpPr/>
              <p:nvPr/>
            </p:nvSpPr>
            <p:spPr>
              <a:xfrm>
                <a:off x="6117840" y="3275640"/>
                <a:ext cx="1128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STAT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0" name=""/>
              <p:cNvGrpSpPr/>
              <p:nvPr/>
            </p:nvGrpSpPr>
            <p:grpSpPr>
              <a:xfrm>
                <a:off x="4952880" y="3641760"/>
                <a:ext cx="3657600" cy="380880"/>
                <a:chOff x="4952880" y="3641760"/>
                <a:chExt cx="3657600" cy="380880"/>
              </a:xfrm>
            </p:grpSpPr>
            <p:sp>
              <p:nvSpPr>
                <p:cNvPr id="1091" name=""/>
                <p:cNvSpPr/>
                <p:nvPr/>
              </p:nvSpPr>
              <p:spPr>
                <a:xfrm>
                  <a:off x="4952880" y="3641760"/>
                  <a:ext cx="3657600" cy="380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5867280" y="36417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6324480" y="36417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5410080" y="36417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6781680" y="36417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7238880" y="36417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7696080" y="36417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8153280" y="36417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9" name=""/>
              <p:cNvGrpSpPr/>
              <p:nvPr/>
            </p:nvGrpSpPr>
            <p:grpSpPr>
              <a:xfrm>
                <a:off x="5034240" y="4001040"/>
                <a:ext cx="3573000" cy="440640"/>
                <a:chOff x="5034240" y="4001040"/>
                <a:chExt cx="3573000" cy="44064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5034240" y="4001040"/>
                  <a:ext cx="3834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5491440" y="4001040"/>
                  <a:ext cx="3834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5943600" y="4001040"/>
                  <a:ext cx="3938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6390000" y="4001040"/>
                  <a:ext cx="3834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6847200" y="4001040"/>
                  <a:ext cx="3834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7304400" y="4001040"/>
                  <a:ext cx="3834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7761600" y="4001040"/>
                  <a:ext cx="3834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8213760" y="4001040"/>
                  <a:ext cx="393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08" name=""/>
          <p:cNvGrpSpPr/>
          <p:nvPr/>
        </p:nvGrpSpPr>
        <p:grpSpPr>
          <a:xfrm>
            <a:off x="4115160" y="4647240"/>
            <a:ext cx="4495320" cy="1166040"/>
            <a:chOff x="4115160" y="4647240"/>
            <a:chExt cx="4495320" cy="1166040"/>
          </a:xfrm>
        </p:grpSpPr>
        <p:grpSp>
          <p:nvGrpSpPr>
            <p:cNvPr id="1109" name=""/>
            <p:cNvGrpSpPr/>
            <p:nvPr/>
          </p:nvGrpSpPr>
          <p:grpSpPr>
            <a:xfrm>
              <a:off x="4952880" y="4647240"/>
              <a:ext cx="3657600" cy="1166040"/>
              <a:chOff x="4952880" y="4647240"/>
              <a:chExt cx="3657600" cy="1166040"/>
            </a:xfrm>
          </p:grpSpPr>
          <p:sp>
            <p:nvSpPr>
              <p:cNvPr id="1110" name=""/>
              <p:cNvSpPr/>
              <p:nvPr/>
            </p:nvSpPr>
            <p:spPr>
              <a:xfrm>
                <a:off x="6117840" y="4647240"/>
                <a:ext cx="1128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STAT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1" name=""/>
              <p:cNvGrpSpPr/>
              <p:nvPr/>
            </p:nvGrpSpPr>
            <p:grpSpPr>
              <a:xfrm>
                <a:off x="4952880" y="5013360"/>
                <a:ext cx="3657600" cy="380880"/>
                <a:chOff x="4952880" y="5013360"/>
                <a:chExt cx="3657600" cy="38088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4952880" y="5013360"/>
                  <a:ext cx="3657600" cy="380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5867280" y="50133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6324480" y="50133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5410080" y="50133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6781680" y="50133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7238880" y="50133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7696080" y="50133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8153280" y="50133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5034240" y="5372640"/>
                <a:ext cx="3573000" cy="440640"/>
                <a:chOff x="5034240" y="5372640"/>
                <a:chExt cx="3573000" cy="440640"/>
              </a:xfrm>
            </p:grpSpPr>
            <p:sp>
              <p:nvSpPr>
                <p:cNvPr id="1121" name=""/>
                <p:cNvSpPr/>
                <p:nvPr/>
              </p:nvSpPr>
              <p:spPr>
                <a:xfrm>
                  <a:off x="5034240" y="5372640"/>
                  <a:ext cx="3834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5491440" y="5372640"/>
                  <a:ext cx="3834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5943600" y="5372640"/>
                  <a:ext cx="3938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390000" y="5372640"/>
                  <a:ext cx="3834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6847200" y="5372640"/>
                  <a:ext cx="3834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7304400" y="5372640"/>
                  <a:ext cx="3834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761600" y="5372640"/>
                  <a:ext cx="3834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8213760" y="5372640"/>
                  <a:ext cx="393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9" name=""/>
            <p:cNvSpPr/>
            <p:nvPr/>
          </p:nvSpPr>
          <p:spPr>
            <a:xfrm>
              <a:off x="4115160" y="495216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x2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380880" y="356436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1: L ’unité centrale effectue l ’opération 7-6=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80880" y="495180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2: L ’unité centrale effectue l ’opération 7-7=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316280" y="3624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316280" y="5012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80880" y="419004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80880" y="563796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2590920" y="152280"/>
            <a:ext cx="43434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registres intern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38" name=""/>
          <p:cNvSpPr/>
          <p:nvPr/>
        </p:nvSpPr>
        <p:spPr>
          <a:xfrm>
            <a:off x="3276720" y="53244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Registre d’ état 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5410080" y="1294200"/>
            <a:ext cx="3657600" cy="1166040"/>
            <a:chOff x="5410080" y="1294200"/>
            <a:chExt cx="3657600" cy="1166040"/>
          </a:xfrm>
        </p:grpSpPr>
        <p:sp>
          <p:nvSpPr>
            <p:cNvPr id="1140" name=""/>
            <p:cNvSpPr/>
            <p:nvPr/>
          </p:nvSpPr>
          <p:spPr>
            <a:xfrm>
              <a:off x="6575040" y="1294200"/>
              <a:ext cx="11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STAT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1" name=""/>
            <p:cNvGrpSpPr/>
            <p:nvPr/>
          </p:nvGrpSpPr>
          <p:grpSpPr>
            <a:xfrm>
              <a:off x="5410080" y="1660320"/>
              <a:ext cx="3657600" cy="380880"/>
              <a:chOff x="5410080" y="1660320"/>
              <a:chExt cx="3657600" cy="380880"/>
            </a:xfrm>
          </p:grpSpPr>
          <p:sp>
            <p:nvSpPr>
              <p:cNvPr id="1142" name=""/>
              <p:cNvSpPr/>
              <p:nvPr/>
            </p:nvSpPr>
            <p:spPr>
              <a:xfrm>
                <a:off x="5410080" y="1660320"/>
                <a:ext cx="365760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324480" y="1660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781680" y="1660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867280" y="1660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238880" y="1660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696080" y="1660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8153280" y="1660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8610480" y="1660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5491440" y="2019600"/>
              <a:ext cx="3573000" cy="440640"/>
              <a:chOff x="5491440" y="2019600"/>
              <a:chExt cx="3573000" cy="440640"/>
            </a:xfrm>
          </p:grpSpPr>
          <p:sp>
            <p:nvSpPr>
              <p:cNvPr id="1151" name=""/>
              <p:cNvSpPr/>
              <p:nvPr/>
            </p:nvSpPr>
            <p:spPr>
              <a:xfrm>
                <a:off x="5491440" y="2019600"/>
                <a:ext cx="383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948640" y="2019600"/>
                <a:ext cx="383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400800" y="2019600"/>
                <a:ext cx="3938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847200" y="2019600"/>
                <a:ext cx="383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304400" y="2019600"/>
                <a:ext cx="383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761600" y="2019600"/>
                <a:ext cx="383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8218800" y="2019600"/>
                <a:ext cx="383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8670960" y="2019600"/>
                <a:ext cx="393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9" name=""/>
          <p:cNvGrpSpPr/>
          <p:nvPr/>
        </p:nvGrpSpPr>
        <p:grpSpPr>
          <a:xfrm>
            <a:off x="4115160" y="3275640"/>
            <a:ext cx="4495320" cy="1166040"/>
            <a:chOff x="4115160" y="3275640"/>
            <a:chExt cx="4495320" cy="1166040"/>
          </a:xfrm>
        </p:grpSpPr>
        <p:sp>
          <p:nvSpPr>
            <p:cNvPr id="1160" name=""/>
            <p:cNvSpPr/>
            <p:nvPr/>
          </p:nvSpPr>
          <p:spPr>
            <a:xfrm>
              <a:off x="4115160" y="358056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x1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1" name=""/>
            <p:cNvGrpSpPr/>
            <p:nvPr/>
          </p:nvGrpSpPr>
          <p:grpSpPr>
            <a:xfrm>
              <a:off x="4952880" y="3275640"/>
              <a:ext cx="3657600" cy="1166040"/>
              <a:chOff x="4952880" y="3275640"/>
              <a:chExt cx="3657600" cy="1166040"/>
            </a:xfrm>
          </p:grpSpPr>
          <p:sp>
            <p:nvSpPr>
              <p:cNvPr id="1162" name=""/>
              <p:cNvSpPr/>
              <p:nvPr/>
            </p:nvSpPr>
            <p:spPr>
              <a:xfrm>
                <a:off x="6117840" y="3275640"/>
                <a:ext cx="1128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STAT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3" name=""/>
              <p:cNvGrpSpPr/>
              <p:nvPr/>
            </p:nvGrpSpPr>
            <p:grpSpPr>
              <a:xfrm>
                <a:off x="4952880" y="3641760"/>
                <a:ext cx="3657600" cy="380880"/>
                <a:chOff x="4952880" y="3641760"/>
                <a:chExt cx="3657600" cy="38088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4952880" y="3641760"/>
                  <a:ext cx="3657600" cy="380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5867280" y="36417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6324480" y="36417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5410080" y="36417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6781680" y="36417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7238880" y="36417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7696080" y="36417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8153280" y="36417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5034240" y="4001040"/>
                <a:ext cx="3573000" cy="440640"/>
                <a:chOff x="5034240" y="4001040"/>
                <a:chExt cx="3573000" cy="44064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5034240" y="4001040"/>
                  <a:ext cx="3834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5491440" y="4001040"/>
                  <a:ext cx="3834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5943600" y="4001040"/>
                  <a:ext cx="3938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6390000" y="4001040"/>
                  <a:ext cx="3834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6847200" y="4001040"/>
                  <a:ext cx="3834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7304400" y="4001040"/>
                  <a:ext cx="3834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7761600" y="4001040"/>
                  <a:ext cx="3834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8213760" y="4001040"/>
                  <a:ext cx="393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81" name=""/>
          <p:cNvGrpSpPr/>
          <p:nvPr/>
        </p:nvGrpSpPr>
        <p:grpSpPr>
          <a:xfrm>
            <a:off x="4115160" y="4647240"/>
            <a:ext cx="4495320" cy="1166040"/>
            <a:chOff x="4115160" y="4647240"/>
            <a:chExt cx="4495320" cy="1166040"/>
          </a:xfrm>
        </p:grpSpPr>
        <p:grpSp>
          <p:nvGrpSpPr>
            <p:cNvPr id="1182" name=""/>
            <p:cNvGrpSpPr/>
            <p:nvPr/>
          </p:nvGrpSpPr>
          <p:grpSpPr>
            <a:xfrm>
              <a:off x="4952880" y="4647240"/>
              <a:ext cx="3657600" cy="1166040"/>
              <a:chOff x="4952880" y="4647240"/>
              <a:chExt cx="3657600" cy="1166040"/>
            </a:xfrm>
          </p:grpSpPr>
          <p:sp>
            <p:nvSpPr>
              <p:cNvPr id="1183" name=""/>
              <p:cNvSpPr/>
              <p:nvPr/>
            </p:nvSpPr>
            <p:spPr>
              <a:xfrm>
                <a:off x="6117840" y="4647240"/>
                <a:ext cx="1128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STAT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4" name=""/>
              <p:cNvGrpSpPr/>
              <p:nvPr/>
            </p:nvGrpSpPr>
            <p:grpSpPr>
              <a:xfrm>
                <a:off x="4952880" y="5013360"/>
                <a:ext cx="3657600" cy="380880"/>
                <a:chOff x="4952880" y="5013360"/>
                <a:chExt cx="3657600" cy="380880"/>
              </a:xfrm>
            </p:grpSpPr>
            <p:sp>
              <p:nvSpPr>
                <p:cNvPr id="1185" name=""/>
                <p:cNvSpPr/>
                <p:nvPr/>
              </p:nvSpPr>
              <p:spPr>
                <a:xfrm>
                  <a:off x="4952880" y="5013360"/>
                  <a:ext cx="3657600" cy="380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5867280" y="50133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6324480" y="50133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5410080" y="50133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6781680" y="50133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7238880" y="50133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7696080" y="50133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8153280" y="50133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3" name=""/>
              <p:cNvGrpSpPr/>
              <p:nvPr/>
            </p:nvGrpSpPr>
            <p:grpSpPr>
              <a:xfrm>
                <a:off x="5034240" y="5372640"/>
                <a:ext cx="3573000" cy="440640"/>
                <a:chOff x="5034240" y="5372640"/>
                <a:chExt cx="3573000" cy="44064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5034240" y="5372640"/>
                  <a:ext cx="3834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5491440" y="5372640"/>
                  <a:ext cx="3834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5943600" y="5372640"/>
                  <a:ext cx="3938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6390000" y="5372640"/>
                  <a:ext cx="3834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6847200" y="5372640"/>
                  <a:ext cx="3834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7304400" y="5372640"/>
                  <a:ext cx="3834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7761600" y="5372640"/>
                  <a:ext cx="3834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8213760" y="5372640"/>
                  <a:ext cx="393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02" name=""/>
            <p:cNvSpPr/>
            <p:nvPr/>
          </p:nvSpPr>
          <p:spPr>
            <a:xfrm>
              <a:off x="4115160" y="495216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x2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3" name=""/>
          <p:cNvSpPr/>
          <p:nvPr/>
        </p:nvSpPr>
        <p:spPr>
          <a:xfrm>
            <a:off x="380880" y="341208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1: L ’unité centrale effectue l ’opération sur 8 bi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+01=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80880" y="479952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2: L ’unité centrale effectue l ’opération hexadécima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F+1=00 (et une reten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8224200" y="3624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8224200" y="5012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80880" y="419004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80880" y="569808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80880" y="1501920"/>
            <a:ext cx="35816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 bit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Carry = reten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 bit est positionné à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 une addition ou une soustraction génèr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e reten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puis le bit de poids 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8640720" y="1643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830592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7301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5456" y="3804"/>
                </a:lnTo>
                <a:lnTo>
                  <a:pt x="5456" y="17817"/>
                </a:lnTo>
                <a:lnTo>
                  <a:pt x="3794" y="17817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9999"/>
              </a:gs>
              <a:gs pos="100000">
                <a:srgbClr val="ffff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787520" y="6490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Retour me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2590920" y="152280"/>
            <a:ext cx="43434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registres intern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215" name=""/>
          <p:cNvSpPr/>
          <p:nvPr/>
        </p:nvSpPr>
        <p:spPr>
          <a:xfrm>
            <a:off x="3581280" y="53244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mpteur programm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80880" y="159120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registr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st un registre spécifiqu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9 ou 11 bi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ivant le modèle de P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7" name=""/>
          <p:cNvGrpSpPr/>
          <p:nvPr/>
        </p:nvGrpSpPr>
        <p:grpSpPr>
          <a:xfrm>
            <a:off x="4495680" y="1294200"/>
            <a:ext cx="4262040" cy="1181880"/>
            <a:chOff x="4495680" y="1294200"/>
            <a:chExt cx="4262040" cy="1181880"/>
          </a:xfrm>
        </p:grpSpPr>
        <p:sp>
          <p:nvSpPr>
            <p:cNvPr id="1218" name=""/>
            <p:cNvSpPr/>
            <p:nvPr/>
          </p:nvSpPr>
          <p:spPr>
            <a:xfrm>
              <a:off x="5257800" y="1692000"/>
              <a:ext cx="34290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30592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92468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54380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16292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78168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40080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01992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63868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876920" y="1692000"/>
              <a:ext cx="380880" cy="38088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495680" y="1692000"/>
              <a:ext cx="381240" cy="38088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8374320" y="203544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961760" y="201960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543800" y="2003400"/>
              <a:ext cx="393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162920" y="1974960"/>
              <a:ext cx="393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78672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40584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2496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64372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26284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876920" y="2006640"/>
              <a:ext cx="393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495680" y="1974960"/>
              <a:ext cx="476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426720" y="129420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" name=""/>
          <p:cNvSpPr/>
          <p:nvPr/>
        </p:nvSpPr>
        <p:spPr>
          <a:xfrm>
            <a:off x="380880" y="2726280"/>
            <a:ext cx="358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 ’est en fait u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mpteur ord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i contient l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’adres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n mémoire de l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ochaine instr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à exécu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5257800" y="3429000"/>
            <a:ext cx="838080" cy="2590200"/>
            <a:chOff x="5257800" y="3429000"/>
            <a:chExt cx="838080" cy="2590200"/>
          </a:xfrm>
        </p:grpSpPr>
        <p:sp>
          <p:nvSpPr>
            <p:cNvPr id="1244" name=""/>
            <p:cNvSpPr/>
            <p:nvPr/>
          </p:nvSpPr>
          <p:spPr>
            <a:xfrm>
              <a:off x="5257800" y="3429000"/>
              <a:ext cx="838080" cy="22860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257800" y="3809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257800" y="41907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257800" y="4572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25780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257800" y="53337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5257800" y="5486040"/>
              <a:ext cx="0" cy="53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V="1">
              <a:off x="6095880" y="5486040"/>
              <a:ext cx="0" cy="53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4495680" y="1294200"/>
            <a:ext cx="4262040" cy="1181880"/>
            <a:chOff x="4495680" y="1294200"/>
            <a:chExt cx="4262040" cy="1181880"/>
          </a:xfrm>
        </p:grpSpPr>
        <p:sp>
          <p:nvSpPr>
            <p:cNvPr id="1253" name=""/>
            <p:cNvSpPr/>
            <p:nvPr/>
          </p:nvSpPr>
          <p:spPr>
            <a:xfrm>
              <a:off x="5257800" y="1692000"/>
              <a:ext cx="34290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30592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92468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54380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16292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78168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40080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01992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63868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876920" y="1692000"/>
              <a:ext cx="380880" cy="38088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495680" y="1692000"/>
              <a:ext cx="381240" cy="38088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374320" y="203544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961760" y="201960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543800" y="2003400"/>
              <a:ext cx="393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162920" y="1974960"/>
              <a:ext cx="393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78672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40584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02496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64372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26284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876920" y="2006640"/>
              <a:ext cx="393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495680" y="1974960"/>
              <a:ext cx="476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426720" y="129420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6" name=""/>
          <p:cNvSpPr txBox="1"/>
          <p:nvPr/>
        </p:nvSpPr>
        <p:spPr>
          <a:xfrm>
            <a:off x="2590920" y="152280"/>
            <a:ext cx="43434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registres intern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277" name=""/>
          <p:cNvSpPr/>
          <p:nvPr/>
        </p:nvSpPr>
        <p:spPr>
          <a:xfrm>
            <a:off x="3581280" y="53244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mpteur programm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0880" y="1506960"/>
            <a:ext cx="358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nons l ’exemple d ’u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ogram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t stocké e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émoire de program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à partir de l ’adress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5333760" y="3062520"/>
            <a:ext cx="720720" cy="2669400"/>
            <a:chOff x="5333760" y="3062520"/>
            <a:chExt cx="720720" cy="2669400"/>
          </a:xfrm>
        </p:grpSpPr>
        <p:sp>
          <p:nvSpPr>
            <p:cNvPr id="1280" name=""/>
            <p:cNvSpPr/>
            <p:nvPr/>
          </p:nvSpPr>
          <p:spPr>
            <a:xfrm>
              <a:off x="5333760" y="34279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334120" y="380916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334120" y="419004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E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333760" y="45709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08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487480" y="495216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487480" y="533304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44920" y="3062520"/>
              <a:ext cx="66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Prog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3873600" y="3047400"/>
            <a:ext cx="1536480" cy="2684520"/>
            <a:chOff x="3873600" y="3047400"/>
            <a:chExt cx="1536480" cy="2684520"/>
          </a:xfrm>
        </p:grpSpPr>
        <p:sp>
          <p:nvSpPr>
            <p:cNvPr id="1288" name=""/>
            <p:cNvSpPr/>
            <p:nvPr/>
          </p:nvSpPr>
          <p:spPr>
            <a:xfrm>
              <a:off x="3873600" y="3047400"/>
              <a:ext cx="15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99"/>
                  </a:solidFill>
                  <a:latin typeface="Times New Roman"/>
                </a:rPr>
                <a:t>Adr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495680" y="342792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495680" y="3809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495680" y="41900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495680" y="45550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95680" y="493632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495680" y="53330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6" name=""/>
          <p:cNvGrpSpPr/>
          <p:nvPr/>
        </p:nvGrpSpPr>
        <p:grpSpPr>
          <a:xfrm>
            <a:off x="4495680" y="1294200"/>
            <a:ext cx="4262040" cy="1181880"/>
            <a:chOff x="4495680" y="1294200"/>
            <a:chExt cx="4262040" cy="1181880"/>
          </a:xfrm>
        </p:grpSpPr>
        <p:sp>
          <p:nvSpPr>
            <p:cNvPr id="1297" name=""/>
            <p:cNvSpPr/>
            <p:nvPr/>
          </p:nvSpPr>
          <p:spPr>
            <a:xfrm>
              <a:off x="5257800" y="1692000"/>
              <a:ext cx="34290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830592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92468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54380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16292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78168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40080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01992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63868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876920" y="1692000"/>
              <a:ext cx="380880" cy="38088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495680" y="1692000"/>
              <a:ext cx="381240" cy="38088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374320" y="203544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961760" y="201960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543800" y="2003400"/>
              <a:ext cx="393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162920" y="1974960"/>
              <a:ext cx="393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78672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40584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02496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64372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26284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876920" y="2006640"/>
              <a:ext cx="393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495680" y="1974960"/>
              <a:ext cx="476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426720" y="129420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0" name=""/>
          <p:cNvSpPr txBox="1"/>
          <p:nvPr/>
        </p:nvSpPr>
        <p:spPr>
          <a:xfrm>
            <a:off x="2590920" y="152280"/>
            <a:ext cx="43434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registres intern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321" name=""/>
          <p:cNvSpPr/>
          <p:nvPr/>
        </p:nvSpPr>
        <p:spPr>
          <a:xfrm>
            <a:off x="3581280" y="53244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mpteur programm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80880" y="1506960"/>
            <a:ext cx="3581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i="1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er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cycle mach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registre PC est chargé avec l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’adres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 la première instruction du program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5335200" y="1675440"/>
            <a:ext cx="3356640" cy="398880"/>
            <a:chOff x="5335200" y="1675440"/>
            <a:chExt cx="3356640" cy="398880"/>
          </a:xfrm>
        </p:grpSpPr>
        <p:sp>
          <p:nvSpPr>
            <p:cNvPr id="1324" name=""/>
            <p:cNvSpPr/>
            <p:nvPr/>
          </p:nvSpPr>
          <p:spPr>
            <a:xfrm>
              <a:off x="838296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00208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33520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23996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47820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71608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09696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85908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62120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3" name=""/>
          <p:cNvGrpSpPr/>
          <p:nvPr/>
        </p:nvGrpSpPr>
        <p:grpSpPr>
          <a:xfrm>
            <a:off x="5257800" y="3429000"/>
            <a:ext cx="838080" cy="2590200"/>
            <a:chOff x="5257800" y="3429000"/>
            <a:chExt cx="838080" cy="2590200"/>
          </a:xfrm>
        </p:grpSpPr>
        <p:sp>
          <p:nvSpPr>
            <p:cNvPr id="1334" name=""/>
            <p:cNvSpPr/>
            <p:nvPr/>
          </p:nvSpPr>
          <p:spPr>
            <a:xfrm>
              <a:off x="5257800" y="3429000"/>
              <a:ext cx="838080" cy="22860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257800" y="3809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257800" y="41907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257800" y="4572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25780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257800" y="53337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V="1">
              <a:off x="5257800" y="5486040"/>
              <a:ext cx="0" cy="53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6095880" y="5486040"/>
              <a:ext cx="0" cy="53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5333760" y="3062520"/>
            <a:ext cx="720720" cy="2669400"/>
            <a:chOff x="5333760" y="3062520"/>
            <a:chExt cx="720720" cy="2669400"/>
          </a:xfrm>
        </p:grpSpPr>
        <p:sp>
          <p:nvSpPr>
            <p:cNvPr id="1343" name=""/>
            <p:cNvSpPr/>
            <p:nvPr/>
          </p:nvSpPr>
          <p:spPr>
            <a:xfrm>
              <a:off x="5333760" y="34279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34120" y="380916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334120" y="419004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E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33760" y="45709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08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487480" y="495216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487480" y="533304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344920" y="3062520"/>
              <a:ext cx="66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Prog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0" name=""/>
          <p:cNvGrpSpPr/>
          <p:nvPr/>
        </p:nvGrpSpPr>
        <p:grpSpPr>
          <a:xfrm>
            <a:off x="3873600" y="3047400"/>
            <a:ext cx="1536480" cy="2684520"/>
            <a:chOff x="3873600" y="3047400"/>
            <a:chExt cx="1536480" cy="2684520"/>
          </a:xfrm>
        </p:grpSpPr>
        <p:sp>
          <p:nvSpPr>
            <p:cNvPr id="1351" name=""/>
            <p:cNvSpPr/>
            <p:nvPr/>
          </p:nvSpPr>
          <p:spPr>
            <a:xfrm>
              <a:off x="3873600" y="3047400"/>
              <a:ext cx="15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99"/>
                  </a:solidFill>
                  <a:latin typeface="Times New Roman"/>
                </a:rPr>
                <a:t>Adr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495680" y="342792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495680" y="3809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495680" y="41900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495680" y="45550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495680" y="493632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495680" y="53330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4495680" y="1294200"/>
            <a:ext cx="4262040" cy="1181880"/>
            <a:chOff x="4495680" y="1294200"/>
            <a:chExt cx="4262040" cy="1181880"/>
          </a:xfrm>
        </p:grpSpPr>
        <p:sp>
          <p:nvSpPr>
            <p:cNvPr id="1360" name=""/>
            <p:cNvSpPr/>
            <p:nvPr/>
          </p:nvSpPr>
          <p:spPr>
            <a:xfrm>
              <a:off x="5257800" y="1692000"/>
              <a:ext cx="34290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30592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92468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54380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16292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78168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40080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01992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63868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876920" y="1692000"/>
              <a:ext cx="380880" cy="38088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495680" y="1692000"/>
              <a:ext cx="381240" cy="38088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374320" y="203544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961760" y="201960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543800" y="2003400"/>
              <a:ext cx="393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162920" y="1974960"/>
              <a:ext cx="393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78672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40584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02496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64372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26284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876920" y="2006640"/>
              <a:ext cx="393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495680" y="1974960"/>
              <a:ext cx="476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426720" y="129420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3" name=""/>
          <p:cNvSpPr txBox="1"/>
          <p:nvPr/>
        </p:nvSpPr>
        <p:spPr>
          <a:xfrm>
            <a:off x="2590920" y="152280"/>
            <a:ext cx="43434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registres intern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384" name=""/>
          <p:cNvSpPr/>
          <p:nvPr/>
        </p:nvSpPr>
        <p:spPr>
          <a:xfrm>
            <a:off x="3581280" y="53244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mpteur programm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80880" y="1506600"/>
            <a:ext cx="3581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fr-FR" sz="2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ème</a:t>
            </a:r>
            <a:r>
              <a:rPr b="0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 cycle machin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 façon simultané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 registre PC s 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’incrément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a donnée précédemment pointée par le registre PC est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exécuté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6" name=""/>
          <p:cNvGrpSpPr/>
          <p:nvPr/>
        </p:nvGrpSpPr>
        <p:grpSpPr>
          <a:xfrm>
            <a:off x="5335200" y="1675440"/>
            <a:ext cx="3356640" cy="398880"/>
            <a:chOff x="5335200" y="1675440"/>
            <a:chExt cx="3356640" cy="398880"/>
          </a:xfrm>
        </p:grpSpPr>
        <p:sp>
          <p:nvSpPr>
            <p:cNvPr id="1387" name=""/>
            <p:cNvSpPr/>
            <p:nvPr/>
          </p:nvSpPr>
          <p:spPr>
            <a:xfrm>
              <a:off x="838296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00208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33520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23996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47820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608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09696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85908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62120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 flipH="1">
            <a:off x="7085880" y="3432960"/>
            <a:ext cx="1981080" cy="186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é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 l ’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95880" y="347328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772400" y="43423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5335200" y="1675440"/>
            <a:ext cx="3356640" cy="398880"/>
            <a:chOff x="5335200" y="1675440"/>
            <a:chExt cx="3356640" cy="398880"/>
          </a:xfrm>
        </p:grpSpPr>
        <p:sp>
          <p:nvSpPr>
            <p:cNvPr id="1400" name=""/>
            <p:cNvSpPr/>
            <p:nvPr/>
          </p:nvSpPr>
          <p:spPr>
            <a:xfrm>
              <a:off x="838296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800208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33520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23996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47820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71608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09696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85908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62120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5257800" y="3429000"/>
            <a:ext cx="838080" cy="2590200"/>
            <a:chOff x="5257800" y="3429000"/>
            <a:chExt cx="838080" cy="2590200"/>
          </a:xfrm>
        </p:grpSpPr>
        <p:sp>
          <p:nvSpPr>
            <p:cNvPr id="1410" name=""/>
            <p:cNvSpPr/>
            <p:nvPr/>
          </p:nvSpPr>
          <p:spPr>
            <a:xfrm>
              <a:off x="5257800" y="3429000"/>
              <a:ext cx="838080" cy="22860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257800" y="3809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257800" y="41907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257800" y="4572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25780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257800" y="53337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V="1">
              <a:off x="5257800" y="5486040"/>
              <a:ext cx="0" cy="53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6095880" y="5486040"/>
              <a:ext cx="0" cy="53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8" name=""/>
          <p:cNvGrpSpPr/>
          <p:nvPr/>
        </p:nvGrpSpPr>
        <p:grpSpPr>
          <a:xfrm>
            <a:off x="5333760" y="3062520"/>
            <a:ext cx="720720" cy="2669400"/>
            <a:chOff x="5333760" y="3062520"/>
            <a:chExt cx="720720" cy="2669400"/>
          </a:xfrm>
        </p:grpSpPr>
        <p:sp>
          <p:nvSpPr>
            <p:cNvPr id="1419" name=""/>
            <p:cNvSpPr/>
            <p:nvPr/>
          </p:nvSpPr>
          <p:spPr>
            <a:xfrm>
              <a:off x="5333760" y="34279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334120" y="380916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334120" y="419004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E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333760" y="45709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08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487480" y="495216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487480" y="533304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344920" y="3062520"/>
              <a:ext cx="66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Prog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6" name=""/>
          <p:cNvGrpSpPr/>
          <p:nvPr/>
        </p:nvGrpSpPr>
        <p:grpSpPr>
          <a:xfrm>
            <a:off x="3873600" y="3047400"/>
            <a:ext cx="1536480" cy="2684520"/>
            <a:chOff x="3873600" y="3047400"/>
            <a:chExt cx="1536480" cy="2684520"/>
          </a:xfrm>
        </p:grpSpPr>
        <p:sp>
          <p:nvSpPr>
            <p:cNvPr id="1427" name=""/>
            <p:cNvSpPr/>
            <p:nvPr/>
          </p:nvSpPr>
          <p:spPr>
            <a:xfrm>
              <a:off x="3873600" y="3047400"/>
              <a:ext cx="15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99"/>
                  </a:solidFill>
                  <a:latin typeface="Times New Roman"/>
                </a:rPr>
                <a:t>Adr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495680" y="342792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95680" y="3809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495680" y="41900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495680" y="45550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495680" y="493632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495680" y="53330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5" name=""/>
          <p:cNvGrpSpPr/>
          <p:nvPr/>
        </p:nvGrpSpPr>
        <p:grpSpPr>
          <a:xfrm>
            <a:off x="4495680" y="1294200"/>
            <a:ext cx="4262040" cy="1181880"/>
            <a:chOff x="4495680" y="1294200"/>
            <a:chExt cx="4262040" cy="1181880"/>
          </a:xfrm>
        </p:grpSpPr>
        <p:sp>
          <p:nvSpPr>
            <p:cNvPr id="1436" name=""/>
            <p:cNvSpPr/>
            <p:nvPr/>
          </p:nvSpPr>
          <p:spPr>
            <a:xfrm>
              <a:off x="5257800" y="1692000"/>
              <a:ext cx="34290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830592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92468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54380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16292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78168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40080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01992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63868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876920" y="1692000"/>
              <a:ext cx="380880" cy="38088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495680" y="1692000"/>
              <a:ext cx="381240" cy="38088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8374320" y="203544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961760" y="201960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543800" y="2003400"/>
              <a:ext cx="393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162920" y="1974960"/>
              <a:ext cx="393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78672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40584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02496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64372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26284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876920" y="2006640"/>
              <a:ext cx="393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495680" y="1974960"/>
              <a:ext cx="476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426720" y="129420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9" name=""/>
          <p:cNvSpPr txBox="1"/>
          <p:nvPr/>
        </p:nvSpPr>
        <p:spPr>
          <a:xfrm>
            <a:off x="2590920" y="152280"/>
            <a:ext cx="43434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registres intern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460" name=""/>
          <p:cNvSpPr/>
          <p:nvPr/>
        </p:nvSpPr>
        <p:spPr>
          <a:xfrm>
            <a:off x="3581280" y="53244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mpteur programm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80880" y="1506600"/>
            <a:ext cx="3581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fr-FR" sz="2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ème</a:t>
            </a:r>
            <a:r>
              <a:rPr b="0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 cycle machin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 façon simultané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 registre PC s 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’incrément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a donnée précédemment pointée par le registre PC est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exécuté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H="1">
            <a:off x="7085880" y="3432960"/>
            <a:ext cx="1981080" cy="186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é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 l ’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5335200" y="1675440"/>
            <a:ext cx="3356640" cy="398880"/>
            <a:chOff x="5335200" y="1675440"/>
            <a:chExt cx="3356640" cy="398880"/>
          </a:xfrm>
        </p:grpSpPr>
        <p:sp>
          <p:nvSpPr>
            <p:cNvPr id="1464" name=""/>
            <p:cNvSpPr/>
            <p:nvPr/>
          </p:nvSpPr>
          <p:spPr>
            <a:xfrm>
              <a:off x="838296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00208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33520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23996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47820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71608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09696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85908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62120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3" name=""/>
          <p:cNvSpPr/>
          <p:nvPr/>
        </p:nvSpPr>
        <p:spPr>
          <a:xfrm>
            <a:off x="6095880" y="3841920"/>
            <a:ext cx="976320" cy="304560"/>
          </a:xfrm>
          <a:prstGeom prst="rightArrow">
            <a:avLst>
              <a:gd name="adj1" fmla="val 50000"/>
              <a:gd name="adj2" fmla="val 801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5335200" y="1675440"/>
            <a:ext cx="3356640" cy="398880"/>
            <a:chOff x="5335200" y="1675440"/>
            <a:chExt cx="3356640" cy="398880"/>
          </a:xfrm>
        </p:grpSpPr>
        <p:sp>
          <p:nvSpPr>
            <p:cNvPr id="1475" name=""/>
            <p:cNvSpPr/>
            <p:nvPr/>
          </p:nvSpPr>
          <p:spPr>
            <a:xfrm>
              <a:off x="838296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800208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33520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23996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7820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71608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09696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85908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62120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4" name=""/>
          <p:cNvSpPr/>
          <p:nvPr/>
        </p:nvSpPr>
        <p:spPr>
          <a:xfrm>
            <a:off x="7772400" y="434232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5" name=""/>
          <p:cNvGrpSpPr/>
          <p:nvPr/>
        </p:nvGrpSpPr>
        <p:grpSpPr>
          <a:xfrm>
            <a:off x="5257800" y="3429000"/>
            <a:ext cx="838080" cy="2590200"/>
            <a:chOff x="5257800" y="3429000"/>
            <a:chExt cx="838080" cy="2590200"/>
          </a:xfrm>
        </p:grpSpPr>
        <p:sp>
          <p:nvSpPr>
            <p:cNvPr id="1486" name=""/>
            <p:cNvSpPr/>
            <p:nvPr/>
          </p:nvSpPr>
          <p:spPr>
            <a:xfrm>
              <a:off x="5257800" y="3429000"/>
              <a:ext cx="838080" cy="22860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257800" y="3809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257800" y="41907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257800" y="4572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25780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257800" y="53337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5257800" y="5486040"/>
              <a:ext cx="0" cy="53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V="1">
              <a:off x="6095880" y="5486040"/>
              <a:ext cx="0" cy="53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5333760" y="3062520"/>
            <a:ext cx="720720" cy="2669400"/>
            <a:chOff x="5333760" y="3062520"/>
            <a:chExt cx="720720" cy="2669400"/>
          </a:xfrm>
        </p:grpSpPr>
        <p:sp>
          <p:nvSpPr>
            <p:cNvPr id="1495" name=""/>
            <p:cNvSpPr/>
            <p:nvPr/>
          </p:nvSpPr>
          <p:spPr>
            <a:xfrm>
              <a:off x="5333760" y="34279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334120" y="380916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334120" y="419004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E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333760" y="45709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08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487480" y="495216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487480" y="533304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344920" y="3062520"/>
              <a:ext cx="66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Prog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2" name=""/>
          <p:cNvGrpSpPr/>
          <p:nvPr/>
        </p:nvGrpSpPr>
        <p:grpSpPr>
          <a:xfrm>
            <a:off x="3873600" y="3047400"/>
            <a:ext cx="1536480" cy="2684520"/>
            <a:chOff x="3873600" y="3047400"/>
            <a:chExt cx="1536480" cy="2684520"/>
          </a:xfrm>
        </p:grpSpPr>
        <p:sp>
          <p:nvSpPr>
            <p:cNvPr id="1503" name=""/>
            <p:cNvSpPr/>
            <p:nvPr/>
          </p:nvSpPr>
          <p:spPr>
            <a:xfrm>
              <a:off x="3873600" y="3047400"/>
              <a:ext cx="15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99"/>
                  </a:solidFill>
                  <a:latin typeface="Times New Roman"/>
                </a:rPr>
                <a:t>Adr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495680" y="342792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95680" y="3809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495680" y="41900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495680" y="45550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495680" y="493632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495680" y="53330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4495680" y="1294200"/>
            <a:ext cx="4262040" cy="1181880"/>
            <a:chOff x="4495680" y="1294200"/>
            <a:chExt cx="4262040" cy="1181880"/>
          </a:xfrm>
        </p:grpSpPr>
        <p:sp>
          <p:nvSpPr>
            <p:cNvPr id="1512" name=""/>
            <p:cNvSpPr/>
            <p:nvPr/>
          </p:nvSpPr>
          <p:spPr>
            <a:xfrm>
              <a:off x="5257800" y="1692000"/>
              <a:ext cx="34290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30592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92468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54380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16292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78168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40080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01992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63868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876920" y="1692000"/>
              <a:ext cx="380880" cy="38088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495680" y="1692000"/>
              <a:ext cx="381240" cy="38088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374320" y="203544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961760" y="201960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543800" y="2003400"/>
              <a:ext cx="393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162920" y="1974960"/>
              <a:ext cx="393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78672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40584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02496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64372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26284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76920" y="2006640"/>
              <a:ext cx="393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495680" y="1974960"/>
              <a:ext cx="476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426720" y="129420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5" name=""/>
          <p:cNvSpPr txBox="1"/>
          <p:nvPr/>
        </p:nvSpPr>
        <p:spPr>
          <a:xfrm>
            <a:off x="2590920" y="152280"/>
            <a:ext cx="43434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registres intern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536" name=""/>
          <p:cNvSpPr/>
          <p:nvPr/>
        </p:nvSpPr>
        <p:spPr>
          <a:xfrm>
            <a:off x="3581280" y="53244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mpteur programm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80880" y="1506600"/>
            <a:ext cx="3581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i="1" lang="fr-FR" sz="2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ème</a:t>
            </a:r>
            <a:r>
              <a:rPr b="0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 cycle machin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 façon simultané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 registre PC s 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’incrément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a donnée précédemment pointée par le registre PC est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exécuté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H="1">
            <a:off x="7085880" y="3432960"/>
            <a:ext cx="1981080" cy="186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é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 l ’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9" name=""/>
          <p:cNvGrpSpPr/>
          <p:nvPr/>
        </p:nvGrpSpPr>
        <p:grpSpPr>
          <a:xfrm>
            <a:off x="5335200" y="1675440"/>
            <a:ext cx="3356640" cy="398880"/>
            <a:chOff x="5335200" y="1675440"/>
            <a:chExt cx="3356640" cy="398880"/>
          </a:xfrm>
        </p:grpSpPr>
        <p:sp>
          <p:nvSpPr>
            <p:cNvPr id="1540" name=""/>
            <p:cNvSpPr/>
            <p:nvPr/>
          </p:nvSpPr>
          <p:spPr>
            <a:xfrm>
              <a:off x="838296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800208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33520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723996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47820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71608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09696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85908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62120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9" name=""/>
          <p:cNvSpPr/>
          <p:nvPr/>
        </p:nvSpPr>
        <p:spPr>
          <a:xfrm>
            <a:off x="6095880" y="42228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7772400" y="434232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E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1" name=""/>
          <p:cNvGrpSpPr/>
          <p:nvPr/>
        </p:nvGrpSpPr>
        <p:grpSpPr>
          <a:xfrm>
            <a:off x="5335200" y="1675440"/>
            <a:ext cx="3356640" cy="398880"/>
            <a:chOff x="5335200" y="1675440"/>
            <a:chExt cx="3356640" cy="398880"/>
          </a:xfrm>
        </p:grpSpPr>
        <p:sp>
          <p:nvSpPr>
            <p:cNvPr id="1552" name=""/>
            <p:cNvSpPr/>
            <p:nvPr/>
          </p:nvSpPr>
          <p:spPr>
            <a:xfrm>
              <a:off x="838296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00208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33520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23996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47820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71608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09696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85908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62120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1" name=""/>
          <p:cNvGrpSpPr/>
          <p:nvPr/>
        </p:nvGrpSpPr>
        <p:grpSpPr>
          <a:xfrm>
            <a:off x="5257800" y="3429000"/>
            <a:ext cx="838080" cy="2590200"/>
            <a:chOff x="5257800" y="3429000"/>
            <a:chExt cx="838080" cy="2590200"/>
          </a:xfrm>
        </p:grpSpPr>
        <p:sp>
          <p:nvSpPr>
            <p:cNvPr id="1562" name=""/>
            <p:cNvSpPr/>
            <p:nvPr/>
          </p:nvSpPr>
          <p:spPr>
            <a:xfrm>
              <a:off x="5257800" y="3429000"/>
              <a:ext cx="838080" cy="22860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257800" y="3809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257800" y="41907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257800" y="4572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25780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257800" y="53337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V="1">
              <a:off x="5257800" y="5486040"/>
              <a:ext cx="0" cy="53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V="1">
              <a:off x="6095880" y="5486040"/>
              <a:ext cx="0" cy="53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5333760" y="3062520"/>
            <a:ext cx="720720" cy="2669400"/>
            <a:chOff x="5333760" y="3062520"/>
            <a:chExt cx="720720" cy="2669400"/>
          </a:xfrm>
        </p:grpSpPr>
        <p:sp>
          <p:nvSpPr>
            <p:cNvPr id="1571" name=""/>
            <p:cNvSpPr/>
            <p:nvPr/>
          </p:nvSpPr>
          <p:spPr>
            <a:xfrm>
              <a:off x="5333760" y="34279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334120" y="380916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334120" y="419004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E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333760" y="45709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08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487480" y="495216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487480" y="533304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344920" y="3062520"/>
              <a:ext cx="66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Prog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8" name=""/>
          <p:cNvGrpSpPr/>
          <p:nvPr/>
        </p:nvGrpSpPr>
        <p:grpSpPr>
          <a:xfrm>
            <a:off x="3873600" y="3047400"/>
            <a:ext cx="1536480" cy="2684520"/>
            <a:chOff x="3873600" y="3047400"/>
            <a:chExt cx="1536480" cy="2684520"/>
          </a:xfrm>
        </p:grpSpPr>
        <p:sp>
          <p:nvSpPr>
            <p:cNvPr id="1579" name=""/>
            <p:cNvSpPr/>
            <p:nvPr/>
          </p:nvSpPr>
          <p:spPr>
            <a:xfrm>
              <a:off x="3873600" y="3047400"/>
              <a:ext cx="15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99"/>
                  </a:solidFill>
                  <a:latin typeface="Times New Roman"/>
                </a:rPr>
                <a:t>Adr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495680" y="342792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495680" y="3809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95680" y="41900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495680" y="45550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495680" y="493632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495680" y="53330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7" name=""/>
          <p:cNvGrpSpPr/>
          <p:nvPr/>
        </p:nvGrpSpPr>
        <p:grpSpPr>
          <a:xfrm>
            <a:off x="4495680" y="1294200"/>
            <a:ext cx="4262040" cy="1181880"/>
            <a:chOff x="4495680" y="1294200"/>
            <a:chExt cx="4262040" cy="1181880"/>
          </a:xfrm>
        </p:grpSpPr>
        <p:sp>
          <p:nvSpPr>
            <p:cNvPr id="1588" name=""/>
            <p:cNvSpPr/>
            <p:nvPr/>
          </p:nvSpPr>
          <p:spPr>
            <a:xfrm>
              <a:off x="5257800" y="1692000"/>
              <a:ext cx="34290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830592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92468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54380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6292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78168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40080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01992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63868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876920" y="1692000"/>
              <a:ext cx="380880" cy="38088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495680" y="1692000"/>
              <a:ext cx="381240" cy="38088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8374320" y="203544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961760" y="201960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543800" y="2003400"/>
              <a:ext cx="393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62920" y="1974960"/>
              <a:ext cx="393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78672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40584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02496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64372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26284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876920" y="2006640"/>
              <a:ext cx="393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495680" y="1974960"/>
              <a:ext cx="476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426720" y="129420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1" name=""/>
          <p:cNvSpPr txBox="1"/>
          <p:nvPr/>
        </p:nvSpPr>
        <p:spPr>
          <a:xfrm>
            <a:off x="2590920" y="152280"/>
            <a:ext cx="43434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registres intern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612" name=""/>
          <p:cNvSpPr/>
          <p:nvPr/>
        </p:nvSpPr>
        <p:spPr>
          <a:xfrm>
            <a:off x="3581280" y="53244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mpteur programm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80880" y="1506600"/>
            <a:ext cx="3581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r>
              <a:rPr b="0" i="1" lang="fr-FR" sz="2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ème</a:t>
            </a:r>
            <a:r>
              <a:rPr b="0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 cycle machin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 façon simultané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 registre PC s 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’incrément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a donnée précédemment pointée par le registre PC est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exécuté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>
            <a:off x="7085880" y="3432960"/>
            <a:ext cx="1981080" cy="186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é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 l ’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5" name=""/>
          <p:cNvGrpSpPr/>
          <p:nvPr/>
        </p:nvGrpSpPr>
        <p:grpSpPr>
          <a:xfrm>
            <a:off x="5335200" y="1675440"/>
            <a:ext cx="3356640" cy="398880"/>
            <a:chOff x="5335200" y="1675440"/>
            <a:chExt cx="3356640" cy="398880"/>
          </a:xfrm>
        </p:grpSpPr>
        <p:sp>
          <p:nvSpPr>
            <p:cNvPr id="1616" name=""/>
            <p:cNvSpPr/>
            <p:nvPr/>
          </p:nvSpPr>
          <p:spPr>
            <a:xfrm>
              <a:off x="838296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800208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33520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23996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47820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71608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09696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85908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62120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5" name=""/>
          <p:cNvSpPr/>
          <p:nvPr/>
        </p:nvSpPr>
        <p:spPr>
          <a:xfrm>
            <a:off x="6095880" y="461952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772400" y="441864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7" name=""/>
          <p:cNvGrpSpPr/>
          <p:nvPr/>
        </p:nvGrpSpPr>
        <p:grpSpPr>
          <a:xfrm>
            <a:off x="5335200" y="1675440"/>
            <a:ext cx="3356640" cy="398880"/>
            <a:chOff x="5335200" y="1675440"/>
            <a:chExt cx="3356640" cy="398880"/>
          </a:xfrm>
        </p:grpSpPr>
        <p:sp>
          <p:nvSpPr>
            <p:cNvPr id="1628" name=""/>
            <p:cNvSpPr/>
            <p:nvPr/>
          </p:nvSpPr>
          <p:spPr>
            <a:xfrm>
              <a:off x="838296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800208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33520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23996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47820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71608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09696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85908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621200" y="16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7" name=""/>
          <p:cNvGrpSpPr/>
          <p:nvPr/>
        </p:nvGrpSpPr>
        <p:grpSpPr>
          <a:xfrm>
            <a:off x="5257800" y="3429000"/>
            <a:ext cx="838080" cy="2590200"/>
            <a:chOff x="5257800" y="3429000"/>
            <a:chExt cx="838080" cy="2590200"/>
          </a:xfrm>
        </p:grpSpPr>
        <p:sp>
          <p:nvSpPr>
            <p:cNvPr id="1638" name=""/>
            <p:cNvSpPr/>
            <p:nvPr/>
          </p:nvSpPr>
          <p:spPr>
            <a:xfrm>
              <a:off x="5257800" y="3429000"/>
              <a:ext cx="838080" cy="22860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257800" y="3809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257800" y="41907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257800" y="4572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25780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257800" y="53337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5257800" y="5486040"/>
              <a:ext cx="0" cy="53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6095880" y="5486040"/>
              <a:ext cx="0" cy="53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5333760" y="3062520"/>
            <a:ext cx="720720" cy="2669400"/>
            <a:chOff x="5333760" y="3062520"/>
            <a:chExt cx="720720" cy="2669400"/>
          </a:xfrm>
        </p:grpSpPr>
        <p:sp>
          <p:nvSpPr>
            <p:cNvPr id="1647" name=""/>
            <p:cNvSpPr/>
            <p:nvPr/>
          </p:nvSpPr>
          <p:spPr>
            <a:xfrm>
              <a:off x="5333760" y="34279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334120" y="380916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334120" y="419004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E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333760" y="45709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08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487480" y="495216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487480" y="533304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344920" y="3062520"/>
              <a:ext cx="66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Prog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3873600" y="3047400"/>
            <a:ext cx="1536480" cy="2684520"/>
            <a:chOff x="3873600" y="3047400"/>
            <a:chExt cx="1536480" cy="2684520"/>
          </a:xfrm>
        </p:grpSpPr>
        <p:sp>
          <p:nvSpPr>
            <p:cNvPr id="1655" name=""/>
            <p:cNvSpPr/>
            <p:nvPr/>
          </p:nvSpPr>
          <p:spPr>
            <a:xfrm>
              <a:off x="3873600" y="3047400"/>
              <a:ext cx="15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99"/>
                  </a:solidFill>
                  <a:latin typeface="Times New Roman"/>
                </a:rPr>
                <a:t>Adr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495680" y="342792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495680" y="3809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495680" y="41900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495680" y="45550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495680" y="493632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495680" y="53330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4495680" y="1294200"/>
            <a:ext cx="4262040" cy="1181880"/>
            <a:chOff x="4495680" y="1294200"/>
            <a:chExt cx="4262040" cy="1181880"/>
          </a:xfrm>
        </p:grpSpPr>
        <p:sp>
          <p:nvSpPr>
            <p:cNvPr id="1664" name=""/>
            <p:cNvSpPr/>
            <p:nvPr/>
          </p:nvSpPr>
          <p:spPr>
            <a:xfrm>
              <a:off x="5257800" y="1692000"/>
              <a:ext cx="34290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830592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92468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54380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16292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78168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40080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01992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638680" y="169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876920" y="1692000"/>
              <a:ext cx="380880" cy="38088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495680" y="1692000"/>
              <a:ext cx="381240" cy="38088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374320" y="203544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961760" y="201960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543800" y="2003400"/>
              <a:ext cx="393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162920" y="1974960"/>
              <a:ext cx="393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78672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0584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02496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64372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262840" y="19749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876920" y="2006640"/>
              <a:ext cx="393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495680" y="1974960"/>
              <a:ext cx="476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426720" y="129420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7" name=""/>
          <p:cNvSpPr txBox="1"/>
          <p:nvPr/>
        </p:nvSpPr>
        <p:spPr>
          <a:xfrm>
            <a:off x="2590920" y="152280"/>
            <a:ext cx="43434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registres intern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688" name=""/>
          <p:cNvSpPr/>
          <p:nvPr/>
        </p:nvSpPr>
        <p:spPr>
          <a:xfrm>
            <a:off x="3581280" y="53244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mpteur programm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80880" y="1582560"/>
            <a:ext cx="3581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 registre PC contient donc à l ’instant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l 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’adress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de la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prochaine instructio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à exécu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insi, lorsqu ’une instruction est exécutée, la suivante est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déjà pointé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par le registre P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H="1">
            <a:off x="7085880" y="3432960"/>
            <a:ext cx="1981080" cy="186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é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 l ’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1" name=""/>
          <p:cNvGrpSpPr/>
          <p:nvPr/>
        </p:nvGrpSpPr>
        <p:grpSpPr>
          <a:xfrm>
            <a:off x="5257800" y="3429000"/>
            <a:ext cx="838080" cy="2590200"/>
            <a:chOff x="5257800" y="3429000"/>
            <a:chExt cx="838080" cy="2590200"/>
          </a:xfrm>
        </p:grpSpPr>
        <p:sp>
          <p:nvSpPr>
            <p:cNvPr id="1692" name=""/>
            <p:cNvSpPr/>
            <p:nvPr/>
          </p:nvSpPr>
          <p:spPr>
            <a:xfrm>
              <a:off x="5257800" y="3429000"/>
              <a:ext cx="838080" cy="22860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257800" y="3809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257800" y="41907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257800" y="4572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25780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257800" y="53337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5257800" y="5486040"/>
              <a:ext cx="0" cy="53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V="1">
              <a:off x="6095880" y="5486040"/>
              <a:ext cx="0" cy="53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0" name=""/>
          <p:cNvGrpSpPr/>
          <p:nvPr/>
        </p:nvGrpSpPr>
        <p:grpSpPr>
          <a:xfrm>
            <a:off x="5333760" y="3062520"/>
            <a:ext cx="720720" cy="2669400"/>
            <a:chOff x="5333760" y="3062520"/>
            <a:chExt cx="720720" cy="2669400"/>
          </a:xfrm>
        </p:grpSpPr>
        <p:sp>
          <p:nvSpPr>
            <p:cNvPr id="1701" name=""/>
            <p:cNvSpPr/>
            <p:nvPr/>
          </p:nvSpPr>
          <p:spPr>
            <a:xfrm>
              <a:off x="5333760" y="34279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334120" y="380916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334120" y="419004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E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333760" y="45709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08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487480" y="495216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487480" y="533304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344920" y="3062520"/>
              <a:ext cx="66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Prog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8" name=""/>
          <p:cNvGrpSpPr/>
          <p:nvPr/>
        </p:nvGrpSpPr>
        <p:grpSpPr>
          <a:xfrm>
            <a:off x="3873600" y="3047400"/>
            <a:ext cx="1536480" cy="2684520"/>
            <a:chOff x="3873600" y="3047400"/>
            <a:chExt cx="1536480" cy="2684520"/>
          </a:xfrm>
        </p:grpSpPr>
        <p:sp>
          <p:nvSpPr>
            <p:cNvPr id="1709" name=""/>
            <p:cNvSpPr/>
            <p:nvPr/>
          </p:nvSpPr>
          <p:spPr>
            <a:xfrm>
              <a:off x="3873600" y="3047400"/>
              <a:ext cx="15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99"/>
                  </a:solidFill>
                  <a:latin typeface="Times New Roman"/>
                </a:rPr>
                <a:t>Adr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495680" y="342792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495680" y="3809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495680" y="41900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495680" y="45550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495680" y="493632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495680" y="53330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6" name=""/>
          <p:cNvSpPr/>
          <p:nvPr/>
        </p:nvSpPr>
        <p:spPr>
          <a:xfrm>
            <a:off x="8271000" y="611028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7925040" y="649044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93432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7301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5456" y="3804"/>
                </a:lnTo>
                <a:lnTo>
                  <a:pt x="5456" y="17817"/>
                </a:lnTo>
                <a:lnTo>
                  <a:pt x="3794" y="17817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9999"/>
              </a:gs>
              <a:gs pos="100000">
                <a:srgbClr val="ffff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415920" y="6490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Retour me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12193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360" y="15541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00400" y="152280"/>
            <a:ext cx="30481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Mise en situ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354680"/>
            <a:ext cx="3505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n comprendra aisément qu ’un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système microprogrammé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tel que le téléphone portable ne peut être géré par un système minimum à microprocesseur 6809: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trop encombran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4174200"/>
            <a:ext cx="350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solution est alors de remplacer le système minimum pa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 seul circu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crocontrôl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141560"/>
            <a:ext cx="2905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stème minimum à 6809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process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P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cod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83960" y="236124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5 circuits différent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01160" y="4174200"/>
            <a:ext cx="193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contrôl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5320" y="4936320"/>
            <a:ext cx="18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 seul circuit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95720" y="608400"/>
            <a:ext cx="31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volution technol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 txBox="1"/>
          <p:nvPr/>
        </p:nvSpPr>
        <p:spPr>
          <a:xfrm>
            <a:off x="2971800" y="135000"/>
            <a:ext cx="34290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a base de temp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722" name=""/>
          <p:cNvSpPr/>
          <p:nvPr/>
        </p:nvSpPr>
        <p:spPr>
          <a:xfrm>
            <a:off x="380880" y="1506600"/>
            <a:ext cx="3581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 tous les circuits microprogrammés, les microcontrôleur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IC 16Cx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nctionnent à partir d ’ une base de temps (horloge)  appliquée par des composants exter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nsi, les PIC peuvent adopter 4 modèles d ’horloge qui so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380880" y="434232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i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380880" y="472356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i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380880" y="510444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i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80880" y="548532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i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419720" y="1522800"/>
            <a:ext cx="4267080" cy="703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Version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X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scillateur à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quartz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jusqu ’à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4 MHz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419720" y="2568960"/>
            <a:ext cx="4267080" cy="703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Version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H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(High Speed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scillateur à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quartz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jusqu ’à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20 MHz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419720" y="3635640"/>
            <a:ext cx="4267080" cy="703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Version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RC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Résistance-Condensateu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scillateur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jusqu ’à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4 MHz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419720" y="4702680"/>
            <a:ext cx="4267080" cy="1313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Version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LP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(Low Powe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scillateur à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quartz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jusqu ’à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200 kHz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  Prévu pour des applications à faible consomm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"/>
          <p:cNvSpPr txBox="1"/>
          <p:nvPr/>
        </p:nvSpPr>
        <p:spPr>
          <a:xfrm>
            <a:off x="2971800" y="135000"/>
            <a:ext cx="34290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a base de temp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732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80880" y="1506960"/>
            <a:ext cx="3581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rôle de l ’horloge est d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adenc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es différentes opérations effectuées par le microcontrôleur et notamment l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’exécution des instru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u program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80880" y="356436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nsi, le signal d ’horloge possède les caractéristiques suiva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80880" y="457092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a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arr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80880" y="495216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fréquenc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t de périod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7" name=""/>
          <p:cNvGrpSpPr/>
          <p:nvPr/>
        </p:nvGrpSpPr>
        <p:grpSpPr>
          <a:xfrm>
            <a:off x="4267080" y="1142640"/>
            <a:ext cx="4873320" cy="1556640"/>
            <a:chOff x="4267080" y="1142640"/>
            <a:chExt cx="4873320" cy="1556640"/>
          </a:xfrm>
        </p:grpSpPr>
        <p:sp>
          <p:nvSpPr>
            <p:cNvPr id="1738" name=""/>
            <p:cNvSpPr/>
            <p:nvPr/>
          </p:nvSpPr>
          <p:spPr>
            <a:xfrm flipV="1">
              <a:off x="4267080" y="13716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267080" y="236232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270320" y="1142640"/>
              <a:ext cx="203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99"/>
                  </a:solidFill>
                  <a:latin typeface="Times New Roman"/>
                </a:rPr>
                <a:t>Signal d ’horloge </a:t>
              </a:r>
              <a:r>
                <a:rPr b="1" i="1" lang="en-US" sz="1600" spc="-1" strike="noStrike">
                  <a:solidFill>
                    <a:srgbClr val="ffff99"/>
                  </a:solidFill>
                  <a:latin typeface="Times New Roman"/>
                </a:rPr>
                <a:t>OS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8301240" y="2361960"/>
              <a:ext cx="83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99"/>
                  </a:solidFill>
                  <a:latin typeface="Times New Roman"/>
                </a:rPr>
                <a:t>Temps </a:t>
              </a:r>
              <a:r>
                <a:rPr b="1" i="1" lang="en-US" sz="1600" spc="-1" strike="noStrike">
                  <a:solidFill>
                    <a:srgbClr val="ffff99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2" name=""/>
          <p:cNvGrpSpPr/>
          <p:nvPr/>
        </p:nvGrpSpPr>
        <p:grpSpPr>
          <a:xfrm>
            <a:off x="4267080" y="1949400"/>
            <a:ext cx="4419720" cy="380880"/>
            <a:chOff x="4267080" y="1949400"/>
            <a:chExt cx="4419720" cy="380880"/>
          </a:xfrm>
        </p:grpSpPr>
        <p:sp>
          <p:nvSpPr>
            <p:cNvPr id="1743" name=""/>
            <p:cNvSpPr/>
            <p:nvPr/>
          </p:nvSpPr>
          <p:spPr>
            <a:xfrm>
              <a:off x="4267080" y="23302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V="1">
              <a:off x="44197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41972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5720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57200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V="1">
              <a:off x="47242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724280" y="19494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8769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87692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V="1">
              <a:off x="50292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02920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1814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181480" y="23302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V="1">
              <a:off x="53341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33412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4864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48640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V="1">
              <a:off x="56386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638680" y="19494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7913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79132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59436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94360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0958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095880" y="23302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V="1">
              <a:off x="62485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24852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4008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40080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V="1">
              <a:off x="65530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553080" y="19494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7057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670572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V="1">
              <a:off x="68580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85800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0102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010280" y="23302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V="1">
              <a:off x="71629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16292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3152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31520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74674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467480" y="19494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76201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62012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77724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77240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9246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924680" y="23302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V="1">
              <a:off x="80773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07732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82296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822960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V="1">
              <a:off x="83818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8381880" y="19494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85345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853452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0" name=""/>
          <p:cNvGrpSpPr/>
          <p:nvPr/>
        </p:nvGrpSpPr>
        <p:grpSpPr>
          <a:xfrm>
            <a:off x="4693680" y="1905120"/>
            <a:ext cx="790200" cy="970200"/>
            <a:chOff x="4693680" y="1905120"/>
            <a:chExt cx="790200" cy="970200"/>
          </a:xfrm>
        </p:grpSpPr>
        <p:sp>
          <p:nvSpPr>
            <p:cNvPr id="1801" name=""/>
            <p:cNvSpPr/>
            <p:nvPr/>
          </p:nvSpPr>
          <p:spPr>
            <a:xfrm>
              <a:off x="4724640" y="1905120"/>
              <a:ext cx="0" cy="68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724640" y="25146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029200" y="1905120"/>
              <a:ext cx="0" cy="68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693680" y="253800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= 1/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"/>
          <p:cNvSpPr txBox="1"/>
          <p:nvPr/>
        </p:nvSpPr>
        <p:spPr>
          <a:xfrm>
            <a:off x="2971800" y="135000"/>
            <a:ext cx="34290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a base de temp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806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80880" y="1583280"/>
            <a:ext cx="358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signal d ’horlog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S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st en fait délivré par un oscillateu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xter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i peut être u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uart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u une cellul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8" name=""/>
          <p:cNvGrpSpPr/>
          <p:nvPr/>
        </p:nvGrpSpPr>
        <p:grpSpPr>
          <a:xfrm>
            <a:off x="4267080" y="1142640"/>
            <a:ext cx="4873320" cy="1556640"/>
            <a:chOff x="4267080" y="1142640"/>
            <a:chExt cx="4873320" cy="1556640"/>
          </a:xfrm>
        </p:grpSpPr>
        <p:sp>
          <p:nvSpPr>
            <p:cNvPr id="1809" name=""/>
            <p:cNvSpPr/>
            <p:nvPr/>
          </p:nvSpPr>
          <p:spPr>
            <a:xfrm flipV="1">
              <a:off x="4267080" y="13716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267080" y="236232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270320" y="1142640"/>
              <a:ext cx="203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99"/>
                  </a:solidFill>
                  <a:latin typeface="Times New Roman"/>
                </a:rPr>
                <a:t>Signal d ’horloge </a:t>
              </a:r>
              <a:r>
                <a:rPr b="1" i="1" lang="en-US" sz="1600" spc="-1" strike="noStrike">
                  <a:solidFill>
                    <a:srgbClr val="ffff99"/>
                  </a:solidFill>
                  <a:latin typeface="Times New Roman"/>
                </a:rPr>
                <a:t>OS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8301240" y="2361960"/>
              <a:ext cx="83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99"/>
                  </a:solidFill>
                  <a:latin typeface="Times New Roman"/>
                </a:rPr>
                <a:t>Temps </a:t>
              </a:r>
              <a:r>
                <a:rPr b="1" i="1" lang="en-US" sz="1600" spc="-1" strike="noStrike">
                  <a:solidFill>
                    <a:srgbClr val="ffff99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3" name=""/>
          <p:cNvGrpSpPr/>
          <p:nvPr/>
        </p:nvGrpSpPr>
        <p:grpSpPr>
          <a:xfrm>
            <a:off x="4267080" y="1949400"/>
            <a:ext cx="4419720" cy="380880"/>
            <a:chOff x="4267080" y="1949400"/>
            <a:chExt cx="4419720" cy="380880"/>
          </a:xfrm>
        </p:grpSpPr>
        <p:sp>
          <p:nvSpPr>
            <p:cNvPr id="1814" name=""/>
            <p:cNvSpPr/>
            <p:nvPr/>
          </p:nvSpPr>
          <p:spPr>
            <a:xfrm>
              <a:off x="4267080" y="23302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V="1">
              <a:off x="44197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41972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5720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57200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V="1">
              <a:off x="47242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724280" y="19494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8769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87692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V="1">
              <a:off x="50292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02920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1814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181480" y="23302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V="1">
              <a:off x="53341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33412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4864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48640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V="1">
              <a:off x="56386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638680" y="19494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7913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79132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V="1">
              <a:off x="59436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94360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0958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095880" y="23302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 flipV="1">
              <a:off x="62485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24852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4008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40080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V="1">
              <a:off x="65530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553080" y="19494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7057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70572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V="1">
              <a:off x="68580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85800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70102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7010280" y="23302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71629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16292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3152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31520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V="1">
              <a:off x="74674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7467480" y="19494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6201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762012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V="1">
              <a:off x="77724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77240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79246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7924680" y="23302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V="1">
              <a:off x="80773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807732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82296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822960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V="1">
              <a:off x="83818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8381880" y="19494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85345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853452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1" name=""/>
          <p:cNvSpPr/>
          <p:nvPr/>
        </p:nvSpPr>
        <p:spPr>
          <a:xfrm>
            <a:off x="380880" y="304704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 signal appliqué au PIC est ensuite, de façon interne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ivisé par 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80880" y="417420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appelle alor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ycle mach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 durée caractérisant 4 périodes d ’horlo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4419720" y="1752480"/>
            <a:ext cx="3657600" cy="4267440"/>
            <a:chOff x="4419720" y="1752480"/>
            <a:chExt cx="3657600" cy="4267440"/>
          </a:xfrm>
        </p:grpSpPr>
        <p:sp>
          <p:nvSpPr>
            <p:cNvPr id="1874" name=""/>
            <p:cNvSpPr/>
            <p:nvPr/>
          </p:nvSpPr>
          <p:spPr>
            <a:xfrm>
              <a:off x="4419720" y="1752480"/>
              <a:ext cx="0" cy="4267440"/>
            </a:xfrm>
            <a:prstGeom prst="line">
              <a:avLst/>
            </a:prstGeom>
            <a:ln w="936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638680" y="1752480"/>
              <a:ext cx="0" cy="4267440"/>
            </a:xfrm>
            <a:prstGeom prst="line">
              <a:avLst/>
            </a:prstGeom>
            <a:ln w="936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858000" y="1752480"/>
              <a:ext cx="0" cy="4267440"/>
            </a:xfrm>
            <a:prstGeom prst="line">
              <a:avLst/>
            </a:prstGeom>
            <a:ln w="936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8077320" y="1752480"/>
              <a:ext cx="0" cy="4267440"/>
            </a:xfrm>
            <a:prstGeom prst="line">
              <a:avLst/>
            </a:prstGeom>
            <a:ln w="936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4347000" y="3276720"/>
            <a:ext cx="1392480" cy="381240"/>
            <a:chOff x="4347000" y="3276720"/>
            <a:chExt cx="1392480" cy="381240"/>
          </a:xfrm>
        </p:grpSpPr>
        <p:sp>
          <p:nvSpPr>
            <p:cNvPr id="1879" name=""/>
            <p:cNvSpPr/>
            <p:nvPr/>
          </p:nvSpPr>
          <p:spPr>
            <a:xfrm>
              <a:off x="4419720" y="32767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347000" y="3320640"/>
              <a:ext cx="139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ycle mach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5582160" y="3581280"/>
            <a:ext cx="1392480" cy="381240"/>
            <a:chOff x="5582160" y="3581280"/>
            <a:chExt cx="1392480" cy="381240"/>
          </a:xfrm>
        </p:grpSpPr>
        <p:sp>
          <p:nvSpPr>
            <p:cNvPr id="1882" name=""/>
            <p:cNvSpPr/>
            <p:nvPr/>
          </p:nvSpPr>
          <p:spPr>
            <a:xfrm>
              <a:off x="5654880" y="3581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582160" y="3625200"/>
              <a:ext cx="139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ycle mach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4" name=""/>
          <p:cNvGrpSpPr/>
          <p:nvPr/>
        </p:nvGrpSpPr>
        <p:grpSpPr>
          <a:xfrm>
            <a:off x="6801120" y="3886200"/>
            <a:ext cx="1392480" cy="381240"/>
            <a:chOff x="6801120" y="3886200"/>
            <a:chExt cx="1392480" cy="381240"/>
          </a:xfrm>
        </p:grpSpPr>
        <p:sp>
          <p:nvSpPr>
            <p:cNvPr id="1885" name=""/>
            <p:cNvSpPr/>
            <p:nvPr/>
          </p:nvSpPr>
          <p:spPr>
            <a:xfrm>
              <a:off x="6873840" y="3886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801120" y="3930120"/>
              <a:ext cx="139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ycle mach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"/>
          <p:cNvSpPr txBox="1"/>
          <p:nvPr/>
        </p:nvSpPr>
        <p:spPr>
          <a:xfrm>
            <a:off x="2971800" y="135000"/>
            <a:ext cx="34290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a base de temp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888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380880" y="159912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tte base de temps permet alors de rythmer l ’exécution des instructions du program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0" name=""/>
          <p:cNvGrpSpPr/>
          <p:nvPr/>
        </p:nvGrpSpPr>
        <p:grpSpPr>
          <a:xfrm>
            <a:off x="4267080" y="1142640"/>
            <a:ext cx="4873320" cy="1556640"/>
            <a:chOff x="4267080" y="1142640"/>
            <a:chExt cx="4873320" cy="1556640"/>
          </a:xfrm>
        </p:grpSpPr>
        <p:sp>
          <p:nvSpPr>
            <p:cNvPr id="1891" name=""/>
            <p:cNvSpPr/>
            <p:nvPr/>
          </p:nvSpPr>
          <p:spPr>
            <a:xfrm flipV="1">
              <a:off x="4267080" y="13716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267080" y="236232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4270320" y="1142640"/>
              <a:ext cx="203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99"/>
                  </a:solidFill>
                  <a:latin typeface="Times New Roman"/>
                </a:rPr>
                <a:t>Signal d ’horloge </a:t>
              </a:r>
              <a:r>
                <a:rPr b="1" i="1" lang="en-US" sz="1600" spc="-1" strike="noStrike">
                  <a:solidFill>
                    <a:srgbClr val="ffff99"/>
                  </a:solidFill>
                  <a:latin typeface="Times New Roman"/>
                </a:rPr>
                <a:t>OS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8301240" y="2361960"/>
              <a:ext cx="83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99"/>
                  </a:solidFill>
                  <a:latin typeface="Times New Roman"/>
                </a:rPr>
                <a:t>Temps </a:t>
              </a:r>
              <a:r>
                <a:rPr b="1" i="1" lang="en-US" sz="1600" spc="-1" strike="noStrike">
                  <a:solidFill>
                    <a:srgbClr val="ffff99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5" name=""/>
          <p:cNvGrpSpPr/>
          <p:nvPr/>
        </p:nvGrpSpPr>
        <p:grpSpPr>
          <a:xfrm>
            <a:off x="4267080" y="1949400"/>
            <a:ext cx="4419720" cy="380880"/>
            <a:chOff x="4267080" y="1949400"/>
            <a:chExt cx="4419720" cy="380880"/>
          </a:xfrm>
        </p:grpSpPr>
        <p:sp>
          <p:nvSpPr>
            <p:cNvPr id="1896" name=""/>
            <p:cNvSpPr/>
            <p:nvPr/>
          </p:nvSpPr>
          <p:spPr>
            <a:xfrm>
              <a:off x="4267080" y="23302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44197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41972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5720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7200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47242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724280" y="19494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8769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87692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V="1">
              <a:off x="50292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02920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1814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181480" y="23302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V="1">
              <a:off x="53341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33412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4864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48640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>
              <a:off x="56386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638680" y="19494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7913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79132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V="1">
              <a:off x="59436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94360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0958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095880" y="23302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V="1">
              <a:off x="62485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24852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4008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40080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V="1">
              <a:off x="65530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553080" y="19494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7057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70572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V="1">
              <a:off x="68580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85800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70102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7010280" y="23302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V="1">
              <a:off x="71629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16292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3152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31520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V="1">
              <a:off x="74674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467480" y="19494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76201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62012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V="1">
              <a:off x="77724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77240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9246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924680" y="23302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V="1">
              <a:off x="80773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807732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82296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822960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V="1">
              <a:off x="83818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8381880" y="19494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85345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853452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3" name=""/>
          <p:cNvGrpSpPr/>
          <p:nvPr/>
        </p:nvGrpSpPr>
        <p:grpSpPr>
          <a:xfrm>
            <a:off x="4419720" y="1752480"/>
            <a:ext cx="3657600" cy="4267440"/>
            <a:chOff x="4419720" y="1752480"/>
            <a:chExt cx="3657600" cy="4267440"/>
          </a:xfrm>
        </p:grpSpPr>
        <p:sp>
          <p:nvSpPr>
            <p:cNvPr id="1954" name=""/>
            <p:cNvSpPr/>
            <p:nvPr/>
          </p:nvSpPr>
          <p:spPr>
            <a:xfrm>
              <a:off x="4419720" y="1752480"/>
              <a:ext cx="0" cy="4267440"/>
            </a:xfrm>
            <a:prstGeom prst="line">
              <a:avLst/>
            </a:prstGeom>
            <a:ln w="936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638680" y="1752480"/>
              <a:ext cx="0" cy="4267440"/>
            </a:xfrm>
            <a:prstGeom prst="line">
              <a:avLst/>
            </a:prstGeom>
            <a:ln w="936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858000" y="1752480"/>
              <a:ext cx="0" cy="4267440"/>
            </a:xfrm>
            <a:prstGeom prst="line">
              <a:avLst/>
            </a:prstGeom>
            <a:ln w="936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8077320" y="1752480"/>
              <a:ext cx="0" cy="4267440"/>
            </a:xfrm>
            <a:prstGeom prst="line">
              <a:avLst/>
            </a:prstGeom>
            <a:ln w="936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>
            <a:off x="380880" y="258984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nsi, au cours de chaque cycle mach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380880" y="394560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cherc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 l ’instruction dont l ’adresse est contenue dans le registre P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380880" y="501228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xécu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 l ’instruction qui était pointée par le registre PC au cours du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ycle précéd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80880" y="342792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Incrémentatio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du registre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859440" y="2671200"/>
            <a:ext cx="1216080" cy="337680"/>
          </a:xfrm>
          <a:prstGeom prst="flowChartPreparation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C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5641920" y="2671200"/>
            <a:ext cx="1216080" cy="337680"/>
          </a:xfrm>
          <a:prstGeom prst="flowChartPreparation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C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4419720" y="2671200"/>
            <a:ext cx="1216080" cy="3376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419720" y="3510000"/>
            <a:ext cx="12189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echer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Instr(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419720" y="4087800"/>
            <a:ext cx="12189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xé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Instr(PC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5638680" y="4091040"/>
            <a:ext cx="121932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echer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Instr(PC+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5638680" y="4668840"/>
            <a:ext cx="121932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xé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Instr(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6858000" y="4672080"/>
            <a:ext cx="1219320" cy="5806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echer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Instr(PC+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6858000" y="5249880"/>
            <a:ext cx="1219320" cy="5806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xé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Instr(PC+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1" name=""/>
          <p:cNvGrpSpPr/>
          <p:nvPr/>
        </p:nvGrpSpPr>
        <p:grpSpPr>
          <a:xfrm>
            <a:off x="4614120" y="2329920"/>
            <a:ext cx="3233520" cy="337320"/>
            <a:chOff x="4614120" y="2329920"/>
            <a:chExt cx="3233520" cy="337320"/>
          </a:xfrm>
        </p:grpSpPr>
        <p:sp>
          <p:nvSpPr>
            <p:cNvPr id="1972" name=""/>
            <p:cNvSpPr/>
            <p:nvPr/>
          </p:nvSpPr>
          <p:spPr>
            <a:xfrm>
              <a:off x="4614120" y="2329920"/>
              <a:ext cx="79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ycle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833440" y="2329920"/>
              <a:ext cx="79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ycl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7052760" y="2329920"/>
              <a:ext cx="79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ycl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"/>
          <p:cNvSpPr txBox="1"/>
          <p:nvPr/>
        </p:nvSpPr>
        <p:spPr>
          <a:xfrm>
            <a:off x="2971800" y="135000"/>
            <a:ext cx="34290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a base de temp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976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80880" y="1583280"/>
            <a:ext cx="35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faut donc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 cycle mach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ur exécuter une instruction, soi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4 périodes d ’horlo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8" name=""/>
          <p:cNvGrpSpPr/>
          <p:nvPr/>
        </p:nvGrpSpPr>
        <p:grpSpPr>
          <a:xfrm>
            <a:off x="4267080" y="1142640"/>
            <a:ext cx="4873320" cy="1556640"/>
            <a:chOff x="4267080" y="1142640"/>
            <a:chExt cx="4873320" cy="1556640"/>
          </a:xfrm>
        </p:grpSpPr>
        <p:sp>
          <p:nvSpPr>
            <p:cNvPr id="1979" name=""/>
            <p:cNvSpPr/>
            <p:nvPr/>
          </p:nvSpPr>
          <p:spPr>
            <a:xfrm flipV="1">
              <a:off x="4267080" y="13716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267080" y="236232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270320" y="1142640"/>
              <a:ext cx="203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99"/>
                  </a:solidFill>
                  <a:latin typeface="Times New Roman"/>
                </a:rPr>
                <a:t>Signal d ’horloge </a:t>
              </a:r>
              <a:r>
                <a:rPr b="1" i="1" lang="en-US" sz="1600" spc="-1" strike="noStrike">
                  <a:solidFill>
                    <a:srgbClr val="ffff99"/>
                  </a:solidFill>
                  <a:latin typeface="Times New Roman"/>
                </a:rPr>
                <a:t>OS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301240" y="2361960"/>
              <a:ext cx="83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99"/>
                  </a:solidFill>
                  <a:latin typeface="Times New Roman"/>
                </a:rPr>
                <a:t>Temps </a:t>
              </a:r>
              <a:r>
                <a:rPr b="1" i="1" lang="en-US" sz="1600" spc="-1" strike="noStrike">
                  <a:solidFill>
                    <a:srgbClr val="ffff99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3" name=""/>
          <p:cNvGrpSpPr/>
          <p:nvPr/>
        </p:nvGrpSpPr>
        <p:grpSpPr>
          <a:xfrm>
            <a:off x="4267080" y="1949400"/>
            <a:ext cx="4419720" cy="380880"/>
            <a:chOff x="4267080" y="1949400"/>
            <a:chExt cx="4419720" cy="380880"/>
          </a:xfrm>
        </p:grpSpPr>
        <p:sp>
          <p:nvSpPr>
            <p:cNvPr id="1984" name=""/>
            <p:cNvSpPr/>
            <p:nvPr/>
          </p:nvSpPr>
          <p:spPr>
            <a:xfrm>
              <a:off x="4267080" y="23302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V="1">
              <a:off x="44197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441972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45720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457200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47242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724280" y="19494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48769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487692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V="1">
              <a:off x="50292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02920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1814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181480" y="23302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V="1">
              <a:off x="53341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33412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4864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48640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56386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638680" y="19494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7913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79132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V="1">
              <a:off x="59436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94360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60958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095880" y="23302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V="1">
              <a:off x="62485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24852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4008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40080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V="1">
              <a:off x="65530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553080" y="19494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7057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70572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 flipV="1">
              <a:off x="68580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85800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0102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7010280" y="23302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V="1">
              <a:off x="71629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716292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73152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731520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V="1">
              <a:off x="74674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467480" y="19494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76201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762012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77724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77240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9246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924680" y="23302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V="1">
              <a:off x="80773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8077320" y="1949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822960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822960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flipV="1">
              <a:off x="838188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8381880" y="19494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8534520" y="19494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8534520" y="2330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1" name=""/>
          <p:cNvSpPr/>
          <p:nvPr/>
        </p:nvSpPr>
        <p:spPr>
          <a:xfrm>
            <a:off x="4419720" y="1752480"/>
            <a:ext cx="0" cy="106704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5638680" y="1752480"/>
            <a:ext cx="0" cy="106704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858000" y="1752480"/>
            <a:ext cx="0" cy="106704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8077320" y="1752480"/>
            <a:ext cx="0" cy="106704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80880" y="3351600"/>
            <a:ext cx="35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ns le cas d ’un oscillateur à quartz à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0MH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le temps d ’exécution d ’une instruction est don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4189320" y="3467520"/>
            <a:ext cx="480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1 instruction = 1 cycle machin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= 4 x T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o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6553080" y="4169160"/>
            <a:ext cx="177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0" lang="fr-FR" sz="2000" spc="-1" strike="noStrike" baseline="-25000">
                <a:solidFill>
                  <a:srgbClr val="ffff99"/>
                </a:solidFill>
                <a:latin typeface="Times New Roman"/>
              </a:rPr>
              <a:t>osc</a:t>
            </a:r>
            <a:r>
              <a:rPr b="0" lang="fr-FR" sz="2000" spc="-1" strike="noStrike">
                <a:solidFill>
                  <a:srgbClr val="ffff99"/>
                </a:solidFill>
                <a:latin typeface="Times New Roman"/>
              </a:rPr>
              <a:t> = 1/F</a:t>
            </a:r>
            <a:r>
              <a:rPr b="0" lang="fr-FR" sz="2000" spc="-1" strike="noStrike" baseline="-25000">
                <a:solidFill>
                  <a:srgbClr val="ffff99"/>
                </a:solidFill>
                <a:latin typeface="Times New Roman"/>
              </a:rPr>
              <a:t>o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4343400" y="4169160"/>
            <a:ext cx="212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i F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osc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= 2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5257800" y="4702680"/>
            <a:ext cx="156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osc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= 50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5338800" y="5235840"/>
            <a:ext cx="2582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 ’où 4 x T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osc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200 n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80880" y="479952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200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8271000" y="611028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7925040" y="649044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 txBox="1"/>
          <p:nvPr/>
        </p:nvSpPr>
        <p:spPr>
          <a:xfrm>
            <a:off x="914400" y="152280"/>
            <a:ext cx="7543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 jeu d’ instructions et les modes d’ adressa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056" name=""/>
          <p:cNvSpPr/>
          <p:nvPr/>
        </p:nvSpPr>
        <p:spPr>
          <a:xfrm>
            <a:off x="333360" y="1598760"/>
            <a:ext cx="3657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re la facilité de mise en œuvre matérielle, l ’intérêt des microcontrôleurs PIC réside dans l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eu d ’instr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t le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odes d ’adress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sidérablement réduits par rapport à d ’autres structures programm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"/>
          <p:cNvSpPr txBox="1"/>
          <p:nvPr/>
        </p:nvSpPr>
        <p:spPr>
          <a:xfrm>
            <a:off x="914400" y="152280"/>
            <a:ext cx="7543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 jeu d’ instructions et les modes d’ adressa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058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062760" y="56232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Jeu d’ 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457200" y="1583280"/>
            <a:ext cx="3505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n plus de bénéficier d ’une architecture dite Harvard, les microcontrôleurs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PIC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sont constitués autour d ’une architecture appellée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RISC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412880" y="1980360"/>
            <a:ext cx="369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educed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nstruction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et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4198680" y="2361240"/>
            <a:ext cx="38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Times New Roman"/>
              </a:rPr>
              <a:t>= Circuit à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eu d’instructions réd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457200" y="3580200"/>
            <a:ext cx="3505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nsi, contrairement à de nombreux circuits mettant en jeu une centaine d ’instructions différentes, le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oient leur nombre d ’instructions limités à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33 ou 3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4334400" y="4190040"/>
            <a:ext cx="351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u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structions seulemen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"/>
          <p:cNvSpPr txBox="1"/>
          <p:nvPr/>
        </p:nvSpPr>
        <p:spPr>
          <a:xfrm>
            <a:off x="914400" y="152280"/>
            <a:ext cx="7543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 jeu d’ instructions et les modes d’ adressa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066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6062760" y="56232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Jeu d’ 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80880" y="1506960"/>
            <a:ext cx="358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 différent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némoniq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u jeu d ’instructions adoptent certaines appellations dont il est nécessaire d ’être inform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80880" y="284868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st un littéral, c ’est-à-dire une valeur codée sur un octet (8 bit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0" name=""/>
          <p:cNvGrpSpPr/>
          <p:nvPr/>
        </p:nvGrpSpPr>
        <p:grpSpPr>
          <a:xfrm>
            <a:off x="4228560" y="2162880"/>
            <a:ext cx="2476800" cy="398880"/>
            <a:chOff x="4228560" y="2162880"/>
            <a:chExt cx="2476800" cy="398880"/>
          </a:xfrm>
        </p:grpSpPr>
        <p:sp>
          <p:nvSpPr>
            <p:cNvPr id="2071" name=""/>
            <p:cNvSpPr/>
            <p:nvPr/>
          </p:nvSpPr>
          <p:spPr>
            <a:xfrm>
              <a:off x="4228560" y="21628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x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229360" y="21628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OVLW  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3" name=""/>
          <p:cNvGrpSpPr/>
          <p:nvPr/>
        </p:nvGrpSpPr>
        <p:grpSpPr>
          <a:xfrm>
            <a:off x="4267080" y="2818440"/>
            <a:ext cx="4038840" cy="1221120"/>
            <a:chOff x="4267080" y="2818440"/>
            <a:chExt cx="4038840" cy="1221120"/>
          </a:xfrm>
        </p:grpSpPr>
        <p:sp>
          <p:nvSpPr>
            <p:cNvPr id="2074" name=""/>
            <p:cNvSpPr/>
            <p:nvPr/>
          </p:nvSpPr>
          <p:spPr>
            <a:xfrm>
              <a:off x="4267080" y="2818440"/>
              <a:ext cx="4038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 littéral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k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1 octet) est placé dans le registre de travail W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356440" y="3640680"/>
              <a:ext cx="8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99"/>
                  </a:solidFill>
                  <a:latin typeface="Times New Roman"/>
                </a:rPr>
                <a:t>k</a:t>
              </a: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 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"/>
          <p:cNvSpPr txBox="1"/>
          <p:nvPr/>
        </p:nvSpPr>
        <p:spPr>
          <a:xfrm>
            <a:off x="914400" y="152280"/>
            <a:ext cx="7543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 jeu d’ instructions et les modes d’ adressa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077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062760" y="56232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Jeu d’ 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80880" y="1506960"/>
            <a:ext cx="358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 différent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némoniq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u jeu d ’instructions adoptent certaines appellations dont il est nécessaire d ’être inform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80880" y="284868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st un littéral, c ’est-à-dire une valeur codée sur un octet (8 bit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80880" y="373284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st le symbole correspondant à un regist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2" name=""/>
          <p:cNvGrpSpPr/>
          <p:nvPr/>
        </p:nvGrpSpPr>
        <p:grpSpPr>
          <a:xfrm>
            <a:off x="4228560" y="2162880"/>
            <a:ext cx="2705760" cy="398880"/>
            <a:chOff x="4228560" y="2162880"/>
            <a:chExt cx="2705760" cy="398880"/>
          </a:xfrm>
        </p:grpSpPr>
        <p:sp>
          <p:nvSpPr>
            <p:cNvPr id="2083" name=""/>
            <p:cNvSpPr/>
            <p:nvPr/>
          </p:nvSpPr>
          <p:spPr>
            <a:xfrm>
              <a:off x="4228560" y="21628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x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181480" y="21628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OVWF  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5" name=""/>
          <p:cNvGrpSpPr/>
          <p:nvPr/>
        </p:nvGrpSpPr>
        <p:grpSpPr>
          <a:xfrm>
            <a:off x="4267080" y="2665800"/>
            <a:ext cx="4038840" cy="1450080"/>
            <a:chOff x="4267080" y="2665800"/>
            <a:chExt cx="4038840" cy="1450080"/>
          </a:xfrm>
        </p:grpSpPr>
        <p:sp>
          <p:nvSpPr>
            <p:cNvPr id="2086" name=""/>
            <p:cNvSpPr/>
            <p:nvPr/>
          </p:nvSpPr>
          <p:spPr>
            <a:xfrm>
              <a:off x="4267080" y="2665800"/>
              <a:ext cx="4038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 contenu du registre de travail W est transféré dans le registre représenté pa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354640" y="3717000"/>
              <a:ext cx="96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W </a:t>
              </a:r>
              <a:r>
                <a:rPr b="0" lang="en-US" sz="2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ffff99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"/>
          <p:cNvSpPr txBox="1"/>
          <p:nvPr/>
        </p:nvSpPr>
        <p:spPr>
          <a:xfrm>
            <a:off x="914400" y="152280"/>
            <a:ext cx="7543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 jeu d’ instructions et les modes d’ adressa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089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6062760" y="56232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Jeu d’ 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80880" y="1506960"/>
            <a:ext cx="358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 différent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némoniq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u jeu d ’instructions adoptent certaines appellations dont il est nécessaire d ’être inform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80880" y="284868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st un littéral, c ’est-à-dire une valeur codée sur un octet (8 bit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80880" y="373284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st le symbole correspondant à un regist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80880" y="441864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st le numéro du bit concerné par l ’instr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5" name=""/>
          <p:cNvGrpSpPr/>
          <p:nvPr/>
        </p:nvGrpSpPr>
        <p:grpSpPr>
          <a:xfrm>
            <a:off x="4228560" y="2162880"/>
            <a:ext cx="2705760" cy="398880"/>
            <a:chOff x="4228560" y="2162880"/>
            <a:chExt cx="2705760" cy="398880"/>
          </a:xfrm>
        </p:grpSpPr>
        <p:sp>
          <p:nvSpPr>
            <p:cNvPr id="2096" name=""/>
            <p:cNvSpPr/>
            <p:nvPr/>
          </p:nvSpPr>
          <p:spPr>
            <a:xfrm>
              <a:off x="4228560" y="21628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x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181480" y="21628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CF  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8" name=""/>
          <p:cNvGrpSpPr/>
          <p:nvPr/>
        </p:nvGrpSpPr>
        <p:grpSpPr>
          <a:xfrm>
            <a:off x="4267080" y="2818440"/>
            <a:ext cx="4038840" cy="1297440"/>
            <a:chOff x="4267080" y="2818440"/>
            <a:chExt cx="4038840" cy="1297440"/>
          </a:xfrm>
        </p:grpSpPr>
        <p:sp>
          <p:nvSpPr>
            <p:cNvPr id="2099" name=""/>
            <p:cNvSpPr/>
            <p:nvPr/>
          </p:nvSpPr>
          <p:spPr>
            <a:xfrm>
              <a:off x="4267080" y="2818440"/>
              <a:ext cx="4038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Le bit </a:t>
              </a: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 du registre </a:t>
              </a: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 est mis à zéro (Bit Clear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354640" y="3717000"/>
              <a:ext cx="188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0 </a:t>
              </a:r>
              <a:r>
                <a:rPr b="0" lang="en-US" sz="2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 bit</a:t>
              </a:r>
              <a:r>
                <a:rPr b="0" i="1" lang="en-US" sz="2000" spc="-1" strike="noStrike">
                  <a:solidFill>
                    <a:srgbClr val="ffff99"/>
                  </a:solidFill>
                  <a:latin typeface="Times New Roman"/>
                </a:rPr>
                <a:t> b </a:t>
              </a: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de</a:t>
              </a:r>
              <a:r>
                <a:rPr b="0" i="1" lang="en-US" sz="2000" spc="-1" strike="noStrike">
                  <a:solidFill>
                    <a:srgbClr val="ffff99"/>
                  </a:solidFill>
                  <a:latin typeface="Times New Roman"/>
                </a:rPr>
                <a:t> 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12193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360" y="15541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00400" y="152280"/>
            <a:ext cx="30481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Mise en situ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293840"/>
            <a:ext cx="3505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n retrouve ainsi les microcontrôleurs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PIC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dans de nombreuses applications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industriell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ou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domestiqu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enons l ’exemple d ’une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télécommande infra-roug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7400" y="608400"/>
            <a:ext cx="28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nalyse fonctionn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10480" y="4718520"/>
            <a:ext cx="18856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issio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comm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1200" y="1959480"/>
            <a:ext cx="15462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isi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u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62360" y="3194640"/>
            <a:ext cx="2637360" cy="10087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onnaiss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u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éné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m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1676520"/>
            <a:ext cx="2971800" cy="4190760"/>
          </a:xfrm>
          <a:prstGeom prst="rect">
            <a:avLst/>
          </a:prstGeom>
          <a:noFill/>
          <a:ln cap="rnd" w="9360">
            <a:solidFill>
              <a:srgbClr val="ff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"/>
          <p:cNvSpPr txBox="1"/>
          <p:nvPr/>
        </p:nvSpPr>
        <p:spPr>
          <a:xfrm>
            <a:off x="914400" y="152280"/>
            <a:ext cx="7543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 jeu d’ instructions et les modes d’ adressa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102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062760" y="56232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Jeu d’ 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80880" y="1506960"/>
            <a:ext cx="358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 différents mnémoniques du jeu d ’instructions adoptent certaines appellations dont il est nécessaire d ’être inform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80880" y="284868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st un littéral, c ’est-à-dire une valeur codée sur un octet (8 bit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80880" y="373284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st le symbole correspondant à un regist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80880" y="441864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st le numéro du bit concerné par l ’instr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80880" y="508860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ractérise le registre où doit être placé le résultat de l’opé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9" name=""/>
          <p:cNvGrpSpPr/>
          <p:nvPr/>
        </p:nvGrpSpPr>
        <p:grpSpPr>
          <a:xfrm>
            <a:off x="4228560" y="2162880"/>
            <a:ext cx="2705760" cy="398880"/>
            <a:chOff x="4228560" y="2162880"/>
            <a:chExt cx="2705760" cy="398880"/>
          </a:xfrm>
        </p:grpSpPr>
        <p:sp>
          <p:nvSpPr>
            <p:cNvPr id="2110" name=""/>
            <p:cNvSpPr/>
            <p:nvPr/>
          </p:nvSpPr>
          <p:spPr>
            <a:xfrm>
              <a:off x="4228560" y="21628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x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181480" y="21628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DDWF  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2" name=""/>
          <p:cNvGrpSpPr/>
          <p:nvPr/>
        </p:nvGrpSpPr>
        <p:grpSpPr>
          <a:xfrm>
            <a:off x="4267080" y="2726280"/>
            <a:ext cx="4038840" cy="2227680"/>
            <a:chOff x="4267080" y="2726280"/>
            <a:chExt cx="4038840" cy="2227680"/>
          </a:xfrm>
        </p:grpSpPr>
        <p:sp>
          <p:nvSpPr>
            <p:cNvPr id="2113" name=""/>
            <p:cNvSpPr/>
            <p:nvPr/>
          </p:nvSpPr>
          <p:spPr>
            <a:xfrm>
              <a:off x="4267080" y="2726280"/>
              <a:ext cx="40388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 contenu du registre W est ajouté au contenu du registr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i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0 le résultat est placé dans W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i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1 le résultat est placé dan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257800" y="4250160"/>
              <a:ext cx="243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Si </a:t>
              </a:r>
              <a:r>
                <a:rPr b="0" i="1" lang="en-US" sz="2000" spc="-1" strike="noStrike">
                  <a:solidFill>
                    <a:srgbClr val="ffff99"/>
                  </a:solidFill>
                  <a:latin typeface="Times New Roman"/>
                </a:rPr>
                <a:t>d</a:t>
              </a: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=0    W+</a:t>
              </a:r>
              <a:r>
                <a:rPr b="0" i="1" lang="en-US" sz="2000" spc="-1" strike="noStrike">
                  <a:solidFill>
                    <a:srgbClr val="ffff99"/>
                  </a:solidFill>
                  <a:latin typeface="Times New Roman"/>
                </a:rPr>
                <a:t>f </a:t>
              </a:r>
              <a:r>
                <a:rPr b="0" lang="en-US" sz="2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Si </a:t>
              </a:r>
              <a:r>
                <a:rPr b="0" i="1" lang="en-US" sz="2000" spc="-1" strike="noStrike">
                  <a:solidFill>
                    <a:srgbClr val="ffff99"/>
                  </a:solidFill>
                  <a:latin typeface="Times New Roman"/>
                </a:rPr>
                <a:t>d</a:t>
              </a: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=1    W+</a:t>
              </a:r>
              <a:r>
                <a:rPr b="0" i="1" lang="en-US" sz="2000" spc="-1" strike="noStrike">
                  <a:solidFill>
                    <a:srgbClr val="ffff99"/>
                  </a:solidFill>
                  <a:latin typeface="Times New Roman"/>
                </a:rPr>
                <a:t>f </a:t>
              </a:r>
              <a:r>
                <a:rPr b="0" lang="en-US" sz="2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</a:t>
              </a:r>
              <a:r>
                <a:rPr b="0" i="1" lang="en-US" sz="2000" spc="-1" strike="noStrike">
                  <a:solidFill>
                    <a:srgbClr val="ffff99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"/>
          <p:cNvSpPr txBox="1"/>
          <p:nvPr/>
        </p:nvSpPr>
        <p:spPr>
          <a:xfrm>
            <a:off x="914400" y="152280"/>
            <a:ext cx="7543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 jeu d’ instructions et les modes d’ adressa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116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5943960" y="56232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des d ’adr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80880" y="158328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a encore, les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modes d ’adressag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sont réduits puisqu ’on en compte que 4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380880" y="297072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ressage immédi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267080" y="33976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donnée manipulée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est codé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immédiat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vec l ’instr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1" name=""/>
          <p:cNvGrpSpPr/>
          <p:nvPr/>
        </p:nvGrpSpPr>
        <p:grpSpPr>
          <a:xfrm>
            <a:off x="4265280" y="2894760"/>
            <a:ext cx="2468520" cy="429120"/>
            <a:chOff x="4265280" y="2894760"/>
            <a:chExt cx="2468520" cy="429120"/>
          </a:xfrm>
        </p:grpSpPr>
        <p:sp>
          <p:nvSpPr>
            <p:cNvPr id="2122" name=""/>
            <p:cNvSpPr/>
            <p:nvPr/>
          </p:nvSpPr>
          <p:spPr>
            <a:xfrm>
              <a:off x="4265280" y="289476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x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257800" y="292500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imes New Roman"/>
                </a:rPr>
                <a:t>MOVLW   </a:t>
              </a:r>
              <a:r>
                <a:rPr b="0" i="1" lang="fr-FR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"/>
          <p:cNvSpPr txBox="1"/>
          <p:nvPr/>
        </p:nvSpPr>
        <p:spPr>
          <a:xfrm>
            <a:off x="914400" y="152280"/>
            <a:ext cx="7543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 jeu d’ instructions et les modes d’ adressa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125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5943960" y="56232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des d ’adr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380880" y="167544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a encore, les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modes d ’adressag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sont réduits puisqu ’on en compte que 4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380880" y="297072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ressage immédi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380880" y="342792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ressage dir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4267080" y="350424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registre concerné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est codé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irect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ns l ’instr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1" name=""/>
          <p:cNvGrpSpPr/>
          <p:nvPr/>
        </p:nvGrpSpPr>
        <p:grpSpPr>
          <a:xfrm>
            <a:off x="4264200" y="2894760"/>
            <a:ext cx="2593800" cy="429120"/>
            <a:chOff x="4264200" y="2894760"/>
            <a:chExt cx="2593800" cy="429120"/>
          </a:xfrm>
        </p:grpSpPr>
        <p:sp>
          <p:nvSpPr>
            <p:cNvPr id="2132" name=""/>
            <p:cNvSpPr/>
            <p:nvPr/>
          </p:nvSpPr>
          <p:spPr>
            <a:xfrm>
              <a:off x="4264200" y="2894760"/>
              <a:ext cx="59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x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286240" y="2925000"/>
              <a:ext cx="157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OVWF  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"/>
          <p:cNvSpPr txBox="1"/>
          <p:nvPr/>
        </p:nvSpPr>
        <p:spPr>
          <a:xfrm>
            <a:off x="914400" y="152280"/>
            <a:ext cx="7543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 jeu d’ instructions et les modes d’ adressa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135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80880" y="167544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a encore, les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modes d ’adressag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sont réduits puisqu ’on en compte que 4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80880" y="297072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ressage immédi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380880" y="342792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ressage dir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380880" y="388512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ressage bit à b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4267080" y="348840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permet de manipuler n ’importe quel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it individu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 n ’importe quel regist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5943960" y="56232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des d ’adr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2" name=""/>
          <p:cNvGrpSpPr/>
          <p:nvPr/>
        </p:nvGrpSpPr>
        <p:grpSpPr>
          <a:xfrm>
            <a:off x="4264200" y="2894760"/>
            <a:ext cx="2593800" cy="429120"/>
            <a:chOff x="4264200" y="2894760"/>
            <a:chExt cx="2593800" cy="429120"/>
          </a:xfrm>
        </p:grpSpPr>
        <p:sp>
          <p:nvSpPr>
            <p:cNvPr id="2143" name=""/>
            <p:cNvSpPr/>
            <p:nvPr/>
          </p:nvSpPr>
          <p:spPr>
            <a:xfrm>
              <a:off x="4264200" y="2894760"/>
              <a:ext cx="59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x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286240" y="2925000"/>
              <a:ext cx="157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CF  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"/>
          <p:cNvSpPr txBox="1"/>
          <p:nvPr/>
        </p:nvSpPr>
        <p:spPr>
          <a:xfrm>
            <a:off x="914400" y="152280"/>
            <a:ext cx="7543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 jeu d’ instructions et les modes d’ adressa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146" name=""/>
          <p:cNvSpPr/>
          <p:nvPr/>
        </p:nvSpPr>
        <p:spPr>
          <a:xfrm>
            <a:off x="304920" y="14479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380880" y="167544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a encore, les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modes d ’adressag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sont réduits puisqu ’on en compte que 4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380880" y="297072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ressage immédi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380880" y="342792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ressage dir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80880" y="388512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ressage bit à b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80880" y="434232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ressage indir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4419720" y="358020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 registre concerné est atteint via un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registre d ’indirection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Ce mode est en fait très peu utilis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5943960" y="56232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des d ’adr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8271000" y="611028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7925040" y="649044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"/>
          <p:cNvSpPr/>
          <p:nvPr/>
        </p:nvSpPr>
        <p:spPr>
          <a:xfrm>
            <a:off x="457200" y="38016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es PIC n ’ont désormais plus de secrets pour vou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2339280" y="6018840"/>
            <a:ext cx="66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l est donc temps de les mettre en œuvre dans une application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 txBox="1"/>
          <p:nvPr/>
        </p:nvSpPr>
        <p:spPr>
          <a:xfrm>
            <a:off x="3733920" y="2819520"/>
            <a:ext cx="1904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99"/>
                    </a:gs>
                  </a:gsLst>
                  <a:lin ang="5400000"/>
                </a:gradFill>
                <a:latin typeface="Times New Roman"/>
              </a:rPr>
              <a:t>F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12193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1360" y="15541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00400" y="152280"/>
            <a:ext cx="30481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Mise en situ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278360"/>
            <a:ext cx="35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fonction FP1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a pour rôle de prendre en compte l ’appui sur une touche et de transmettre le code correpondant à la fonction FP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7400" y="608400"/>
            <a:ext cx="28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nalyse fonctionn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2954880"/>
            <a:ext cx="358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onction FP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pour rôle d ’identifier la touche à l ’aide du « code touche » et de générer le signal commande associ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402800"/>
            <a:ext cx="358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onction FP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 charge de convertir et émettre le signal de commande sous forme de signal infra-rou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5480" y="274212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de tou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03720" y="4190040"/>
            <a:ext cx="13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mm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21600" y="5942520"/>
            <a:ext cx="113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ignal 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2640" y="1141920"/>
            <a:ext cx="15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ppui tou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67360" y="26510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6736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67360" y="5730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67360" y="1495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410080" y="1676520"/>
            <a:ext cx="2971800" cy="4190760"/>
            <a:chOff x="5410080" y="1676520"/>
            <a:chExt cx="2971800" cy="4190760"/>
          </a:xfrm>
        </p:grpSpPr>
        <p:sp>
          <p:nvSpPr>
            <p:cNvPr id="121" name=""/>
            <p:cNvSpPr/>
            <p:nvPr/>
          </p:nvSpPr>
          <p:spPr>
            <a:xfrm>
              <a:off x="5910480" y="4718520"/>
              <a:ext cx="188568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mission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d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 comma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P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1200" y="1959480"/>
              <a:ext cx="1546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isi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u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P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62360" y="3194640"/>
              <a:ext cx="2637360" cy="100872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connaissanc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u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énéra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comma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P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10080" y="1676520"/>
              <a:ext cx="2971800" cy="4190760"/>
            </a:xfrm>
            <a:prstGeom prst="rect">
              <a:avLst/>
            </a:prstGeom>
            <a:noFill/>
            <a:ln cap="rnd" w="9360">
              <a:solidFill>
                <a:srgbClr val="ff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2193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360" y="15541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00400" y="152280"/>
            <a:ext cx="30481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Mise en situ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278360"/>
            <a:ext cx="35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onction FP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« Reconnaissance touche et génération commande » est réalisée par une structure microprogrammé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7400" y="608400"/>
            <a:ext cx="28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nalyse fonctionn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410080" y="1141920"/>
            <a:ext cx="2971800" cy="5199480"/>
            <a:chOff x="5410080" y="1141920"/>
            <a:chExt cx="2971800" cy="5199480"/>
          </a:xfrm>
        </p:grpSpPr>
        <p:sp>
          <p:nvSpPr>
            <p:cNvPr id="131" name=""/>
            <p:cNvSpPr/>
            <p:nvPr/>
          </p:nvSpPr>
          <p:spPr>
            <a:xfrm>
              <a:off x="5910480" y="4718520"/>
              <a:ext cx="188568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mission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d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 comma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P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55480" y="2742120"/>
              <a:ext cx="14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Code tou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03720" y="4190040"/>
              <a:ext cx="134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Comma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21600" y="5942520"/>
              <a:ext cx="113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ignal 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92640" y="1141920"/>
              <a:ext cx="153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Appui tou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67360" y="26510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91200" y="1959480"/>
              <a:ext cx="1546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isi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u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P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7360" y="41911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62360" y="3194640"/>
              <a:ext cx="2637360" cy="100872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connaissanc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u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énéra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comma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P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67360" y="5730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67360" y="14954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10080" y="1676520"/>
              <a:ext cx="2971800" cy="4190760"/>
            </a:xfrm>
            <a:prstGeom prst="rect">
              <a:avLst/>
            </a:prstGeom>
            <a:noFill/>
            <a:ln cap="rnd" w="9360">
              <a:solidFill>
                <a:srgbClr val="ff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66840" y="2954520"/>
            <a:ext cx="3595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 ’est ici u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crocontrôleur P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i se charge, par l ’exécution de son programme, de faire l ’acquisition du signal « code touche », et de générer de signal de commande correspond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71000" y="611028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25040" y="649044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1219320"/>
            <a:ext cx="3733560" cy="472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7c80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1360" y="15541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1278360"/>
            <a:ext cx="3657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ivant le type d ’application envisagé, il est possible de faire appel à différents types d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tructures microprogrammé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Les plus répandues sont les suiva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4146840"/>
            <a:ext cx="4267440" cy="809280"/>
          </a:xfrm>
          <a:prstGeom prst="leftArrow">
            <a:avLst>
              <a:gd name="adj1" fmla="val 49278"/>
              <a:gd name="adj2" fmla="val 78462"/>
            </a:avLst>
          </a:prstGeom>
          <a:gradFill rotWithShape="0">
            <a:gsLst>
              <a:gs pos="0">
                <a:srgbClr val="ff7c80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68HC11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040" y="3412080"/>
            <a:ext cx="253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croprocesse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3840" y="4326480"/>
            <a:ext cx="25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crocontrôle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71600" y="152280"/>
            <a:ext cx="6629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Microcontrôleur ou Microprocesseur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3265200"/>
            <a:ext cx="4343400" cy="730800"/>
          </a:xfrm>
          <a:prstGeom prst="leftArrow">
            <a:avLst>
              <a:gd name="adj1" fmla="val 54546"/>
              <a:gd name="adj2" fmla="val 86894"/>
            </a:avLst>
          </a:prstGeom>
          <a:gradFill rotWithShape="0">
            <a:gsLst>
              <a:gs pos="0">
                <a:srgbClr val="ff7c80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PC, système minimum à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680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4T14:05:34Z</dcterms:created>
  <dc:creator>HP, Authorized Customer</dc:creator>
  <dc:description/>
  <dc:language>en-US</dc:language>
  <cp:lastModifiedBy>HP, Authorized Customer</cp:lastModifiedBy>
  <dcterms:modified xsi:type="dcterms:W3CDTF">2000-04-10T12:07:44Z</dcterms:modified>
  <cp:revision>82</cp:revision>
  <dc:subject/>
  <dc:title>Aucun titre de diapositive</dc:title>
</cp:coreProperties>
</file>