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7e98b1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447920" y="1066680"/>
            <a:ext cx="65530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7c80"/>
                    </a:gs>
                    <a:gs pos="100000">
                      <a:srgbClr val="ffff99"/>
                    </a:gs>
                  </a:gsLst>
                  <a:lin ang="5400000"/>
                </a:gradFill>
                <a:latin typeface="Times New Roman"/>
              </a:rPr>
              <a:t>Les Microcontrôleu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7c80"/>
                  </a:gs>
                  <a:gs pos="100000">
                    <a:srgbClr val="ff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7c80"/>
                    </a:gs>
                    <a:gs pos="100000">
                      <a:srgbClr val="ffff99"/>
                    </a:gs>
                  </a:gsLst>
                  <a:lin ang="5400000"/>
                </a:gradFill>
                <a:latin typeface="Times New Roman"/>
              </a:rPr>
              <a:t>PIC 16Cx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7c80"/>
                  </a:gs>
                  <a:gs pos="100000">
                    <a:srgbClr val="ff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3505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P Electronique - Systèmes microprogramm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295280" y="49521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Elaboration du travail suivie et validée par M. Patrick Ana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676520" y="304920"/>
            <a:ext cx="575604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microcontrôleurs PIC 16Cx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5848200" y="6847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79080" y="1751400"/>
            <a:ext cx="563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 ’oscillateur fournissant le signal d ’horloge au P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eut être un oscillateur à quart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2819520" y="32004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94920" y="30312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r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29800" y="3047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1880" y="32004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676520" y="304920"/>
            <a:ext cx="575604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microcontrôleurs PIC 16Cx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5848200" y="6847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79080" y="1751400"/>
            <a:ext cx="563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 ’oscillateur fournissant le signal d ’horloge au P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eut être une cellule R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2819520" y="32004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94920" y="30312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r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29800" y="3047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1880" y="32004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676520" y="304920"/>
            <a:ext cx="575604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microcontrôleurs PIC 16Cx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5848200" y="6847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5120" y="1904040"/>
            <a:ext cx="73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 durée d ’un cycle machine est égale à 4 fois la période d ’horlo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2819520" y="32004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94920" y="30312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r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29800" y="3047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1880" y="32004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676520" y="304920"/>
            <a:ext cx="575604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microcontrôleurs PIC 16Cx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5848200" y="6847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52080" y="1904040"/>
            <a:ext cx="58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 PIC est un circuit à jeu d ’instructions réduit (RIS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endshow"/>
          </p:cNvPr>
          <p:cNvSpPr/>
          <p:nvPr/>
        </p:nvSpPr>
        <p:spPr>
          <a:xfrm>
            <a:off x="2819520" y="32004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94920" y="30312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r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29800" y="3047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1880" y="32004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676520" y="304920"/>
            <a:ext cx="575604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microcontrôleurs PIC 16Cx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5848200" y="6847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2819520" y="2590920"/>
            <a:ext cx="3886200" cy="20574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2760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commence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676520" y="304920"/>
            <a:ext cx="575604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microcontrôleurs PIC 16Cx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5848200" y="6847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89520" y="1904040"/>
            <a:ext cx="27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s PIC sont des circui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1" action="ppaction://hlinksldjump"/>
          </p:cNvPr>
          <p:cNvSpPr/>
          <p:nvPr/>
        </p:nvSpPr>
        <p:spPr>
          <a:xfrm>
            <a:off x="5029200" y="20574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5029200" y="2819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2760" y="188820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croprocess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68240" y="266616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crocontrô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676520" y="304920"/>
            <a:ext cx="575604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microcontrôleurs PIC 16Cx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5848200" y="6847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88800" y="1904040"/>
            <a:ext cx="32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s PIC ont une architec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5029200" y="20574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5029200" y="2819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47800" y="1888200"/>
            <a:ext cx="16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on Neuma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07920" y="266616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rv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676520" y="304920"/>
            <a:ext cx="575604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microcontrôleurs PIC 16Cx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5848200" y="6847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79800" y="1751400"/>
            <a:ext cx="669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e case de la mémoire de programme d ’un PIC peut conten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e instruction ET une opéran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312408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2438280" y="3124080"/>
            <a:ext cx="152640" cy="15264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8800" y="29707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r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1800" y="29707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676520" y="304920"/>
            <a:ext cx="575604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microcontrôleurs PIC 16Cx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5848200" y="6847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83760" y="1751400"/>
            <a:ext cx="471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 registre permettant de programm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 direction des lignes d ’E/S  est le regist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2819520" y="32004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040" y="30312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6880" y="35805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40978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2819520" y="4800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040" y="518076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46314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2819520" y="37339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2819520" y="53341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676520" y="304920"/>
            <a:ext cx="575604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microcontrôleurs PIC 16Cx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5848200" y="6847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87360" y="190404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 registre d ’état est le regist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2819520" y="32004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040" y="30312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6880" y="35805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40978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00040" y="518076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46314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2819520" y="53341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2" action="ppaction://hlinksldjump"/>
          </p:cNvPr>
          <p:cNvSpPr/>
          <p:nvPr/>
        </p:nvSpPr>
        <p:spPr>
          <a:xfrm>
            <a:off x="2819520" y="37339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3" action="ppaction://hlinksldjump"/>
          </p:cNvPr>
          <p:cNvSpPr/>
          <p:nvPr/>
        </p:nvSpPr>
        <p:spPr>
          <a:xfrm>
            <a:off x="2819520" y="41911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4" action="ppaction://hlinksldjump"/>
          </p:cNvPr>
          <p:cNvSpPr/>
          <p:nvPr/>
        </p:nvSpPr>
        <p:spPr>
          <a:xfrm>
            <a:off x="2819520" y="472428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676520" y="304920"/>
            <a:ext cx="575604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microcontrôleurs PIC 16Cx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5848200" y="6847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81960" y="1904040"/>
            <a:ext cx="554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 registre de travail à usage général est le regist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2819520" y="32004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040" y="30312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06880" y="35805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40978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040" y="518076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46314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2819520" y="37339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2819520" y="41911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2819520" y="472428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2819520" y="53341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76520" y="304920"/>
            <a:ext cx="575604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microcontrôleurs PIC 16Cx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5848200" y="6847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84480" y="1904040"/>
            <a:ext cx="50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 registre compteur programme est le regist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0040" y="30312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6880" y="35805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40978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2819520" y="4800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040" y="518076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46314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2819520" y="32004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2819520" y="37339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2819520" y="53341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676520" y="304920"/>
            <a:ext cx="575604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66"/>
                    </a:gs>
                  </a:gsLst>
                  <a:lin ang="10800000"/>
                </a:gradFill>
                <a:latin typeface="Arial Black"/>
              </a:rPr>
              <a:t>Les microcontrôleurs PIC 16Cx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66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5848200" y="6847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80880" y="1751400"/>
            <a:ext cx="614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 registre permettant d ’envoyer ou recevoir des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r les ports d  ’E/S est le regist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0040" y="30312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6880" y="35805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40978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040" y="518076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46314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2819520" y="37339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32004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41911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472428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52578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4T14:05:34Z</dcterms:created>
  <dc:creator>HP, Authorized Customer</dc:creator>
  <dc:description/>
  <dc:language>en-US</dc:language>
  <cp:lastModifiedBy>HP, Authorized Customer</cp:lastModifiedBy>
  <dcterms:modified xsi:type="dcterms:W3CDTF">2000-04-10T12:51:38Z</dcterms:modified>
  <cp:revision>84</cp:revision>
  <dc:subject/>
  <dc:title>Aucun titre de diapositive</dc:title>
</cp:coreProperties>
</file>